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chimes.wav" ContentType="audio/x-wav"/>
  <Override PartName="/ppt/media/image29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type.wav" ContentType="audio/x-wav"/>
  <Override PartName="/ppt/media/image17.png" ContentType="image/png"/>
  <Override PartName="/ppt/media/image27.jpeg" ContentType="image/jpeg"/>
  <Override PartName="/ppt/media/image5.wmf" ContentType="image/x-wmf"/>
  <Override PartName="/ppt/media/image1.jpeg" ContentType="image/jpeg"/>
  <Override PartName="/ppt/media/image10.png" ContentType="image/png"/>
  <Override PartName="/ppt/media/image28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3.png" ContentType="image/png"/>
  <Override PartName="/ppt/media/image14.png" ContentType="image/png"/>
  <Override PartName="/ppt/media/image16.png" ContentType="image/png"/>
  <Override PartName="/ppt/media/wind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EFB-3F7A-4094-9E5D-5C200B57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B38D-4038-476D-BD6D-82C2067E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1ED-B3E1-4F65-B573-7B7AF919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8903-985C-4CCD-8033-CB4B0FAD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A01B-E74C-472C-AC25-EE4408AA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5E9A-CB9B-4D04-A6D6-E850AD39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D5BC-3BCA-453E-ABAD-A5A8517B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2DD2-03A8-494B-A053-F4E104A9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93B0-0C58-4A93-8D94-FD49A6E5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07FB-FDBE-4A2C-9C81-31ECA9E3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6175-6A87-48D7-8B88-F59FECE4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5358-1F17-4197-9565-557E399F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7FD3-4665-45AB-BE85-E7902702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BF51-B2C6-40B1-B3FE-24980F62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2299-17DC-4137-A82A-387A51D3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0F63-0427-44DD-AAAC-6E6E1B17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162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94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162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94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F30D-D6B9-4935-BE38-B29C3562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09D7-7704-445F-8FF5-3066790D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98F5-8B7F-4B65-B8E2-F13D2C6D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D89E-ED61-486D-8884-CA90A748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08F-B9B4-4AB4-9F08-DAD158D5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DBC1-6A43-4D8E-AA59-9A0D5D95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4DD8-D571-4794-99CD-BE2C1E95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931-CBB6-4627-A690-34CA82BE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pptwork\0723\서식용\BL01_4_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-소망B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728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16040" y="6227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B1FC-5693-4738-9299-DD013B7786C1}" type="slidenum">
              <a:rPr b="0" lang="zh-CN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椭圆 10"/>
          <p:cNvSpPr/>
          <p:nvPr/>
        </p:nvSpPr>
        <p:spPr>
          <a:xfrm>
            <a:off x="71280" y="142920"/>
            <a:ext cx="928800" cy="10000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图片 8" descr="LOGO.jpg"/>
          <p:cNvPicPr/>
          <p:nvPr/>
        </p:nvPicPr>
        <p:blipFill>
          <a:blip r:embed="rId4"/>
          <a:stretch/>
        </p:blipFill>
        <p:spPr>
          <a:xfrm>
            <a:off x="0" y="14292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pptwork\0723\서식용\BL01_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14240" y="2500200"/>
            <a:ext cx="1071720" cy="1071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-소망B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1169-93A0-4C52-97F2-B50F74C4BD0D}" type="slidenum">
              <a:rPr b="0" lang="zh-CN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wind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2" descr="C:\Documents and Settings\Administrator\Local Settings\Temporary Internet Files\Content.IE5\3QLB9KBU\MC900343351[1].wmf"/>
          <p:cNvPicPr/>
          <p:nvPr/>
        </p:nvPicPr>
        <p:blipFill>
          <a:blip r:embed="rId1"/>
          <a:stretch/>
        </p:blipFill>
        <p:spPr>
          <a:xfrm>
            <a:off x="7000920" y="485784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88" name="矩形 4"/>
          <p:cNvSpPr/>
          <p:nvPr/>
        </p:nvSpPr>
        <p:spPr>
          <a:xfrm>
            <a:off x="2000160" y="2357280"/>
            <a:ext cx="62866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  <a:ea typeface="黑体"/>
              </a:rPr>
              <a:t>Module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  <a:ea typeface="黑体"/>
              </a:rPr>
              <a:t>Unit 1 We’ll pick fru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07416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5"/>
          <p:cNvSpPr/>
          <p:nvPr/>
        </p:nvSpPr>
        <p:spPr>
          <a:xfrm>
            <a:off x="108000" y="404640"/>
            <a:ext cx="4176720" cy="1584360"/>
          </a:xfrm>
          <a:prstGeom prst="wedgeRoundRectCallout">
            <a:avLst>
              <a:gd name="adj1" fmla="val -21462"/>
              <a:gd name="adj2" fmla="val 812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79280" y="26028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at 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ruit will we pic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79280" y="1341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Will w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ick pe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5508720" y="836640"/>
            <a:ext cx="1800000" cy="10080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5580000" y="76500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Y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we wi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2"/>
          <a:stretch/>
        </p:blipFill>
        <p:spPr>
          <a:xfrm>
            <a:off x="539640" y="2709720"/>
            <a:ext cx="1440000" cy="1247760"/>
          </a:xfrm>
          <a:prstGeom prst="rect">
            <a:avLst/>
          </a:prstGeom>
          <a:ln w="0">
            <a:noFill/>
          </a:ln>
        </p:spPr>
      </p:pic>
      <p:sp>
        <p:nvSpPr>
          <p:cNvPr id="155" name="笔 217"/>
          <p:cNvSpPr/>
          <p:nvPr/>
        </p:nvSpPr>
        <p:spPr>
          <a:xfrm>
            <a:off x="36360" y="652608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0"/>
                </a:solidFill>
                <a:latin typeface="-소망B"/>
              </a:rPr>
              <a:t>   </a:t>
            </a:r>
            <a:r>
              <a:rPr b="1" lang="zh-CN" sz="4000" spc="-1" strike="noStrike">
                <a:solidFill>
                  <a:srgbClr val="000080"/>
                </a:solidFill>
                <a:latin typeface="-소망B"/>
              </a:rPr>
              <a:t>What are they doing?</a:t>
            </a:r>
            <a:endParaRPr b="0" lang="en-US" sz="4000" spc="-1" strike="noStrike">
              <a:solidFill>
                <a:srgbClr val="000080"/>
              </a:solidFill>
              <a:latin typeface="-소망B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459640" cy="472104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4"/>
          <p:cNvSpPr/>
          <p:nvPr/>
        </p:nvSpPr>
        <p:spPr>
          <a:xfrm>
            <a:off x="611280" y="1341360"/>
            <a:ext cx="4248000" cy="1295640"/>
          </a:xfrm>
          <a:prstGeom prst="wedgeEllipseCallout">
            <a:avLst>
              <a:gd name="adj1" fmla="val 36245"/>
              <a:gd name="adj2" fmla="val 77175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1403280" y="1917720"/>
            <a:ext cx="1800360" cy="1549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3132000" y="2997360"/>
            <a:ext cx="3097440" cy="280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2303280" cy="2543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684360" y="609300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are arguing.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争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143000" y="2007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08000" y="1380960"/>
            <a:ext cx="8893080" cy="49626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4"/>
          <p:cNvSpPr/>
          <p:nvPr/>
        </p:nvSpPr>
        <p:spPr>
          <a:xfrm>
            <a:off x="396720" y="1380960"/>
            <a:ext cx="4537080" cy="1513080"/>
          </a:xfrm>
          <a:prstGeom prst="wedgeEllipseCallout">
            <a:avLst>
              <a:gd name="adj1" fmla="val 36129"/>
              <a:gd name="adj2" fmla="val 70527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1403280" y="2532240"/>
            <a:ext cx="1508040" cy="12967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/>
          <p:cNvSpPr/>
          <p:nvPr/>
        </p:nvSpPr>
        <p:spPr>
          <a:xfrm>
            <a:off x="-36360" y="1165320"/>
            <a:ext cx="3492360" cy="647640"/>
          </a:xfrm>
          <a:prstGeom prst="wedgeRoundRectCallout">
            <a:avLst>
              <a:gd name="adj1" fmla="val -15171"/>
              <a:gd name="adj2" fmla="val 76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5148360" y="6205680"/>
            <a:ext cx="2879640" cy="576000"/>
          </a:xfrm>
          <a:prstGeom prst="wedgeRoundRectCallout">
            <a:avLst>
              <a:gd name="adj1" fmla="val -40689"/>
              <a:gd name="adj2" fmla="val -790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3132000" y="3108240"/>
            <a:ext cx="2735280" cy="577800"/>
          </a:xfrm>
          <a:prstGeom prst="wedgeRoundRectCallout">
            <a:avLst>
              <a:gd name="adj1" fmla="val -15171"/>
              <a:gd name="adj2" fmla="val 76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3924360" y="1165320"/>
            <a:ext cx="3384360" cy="576000"/>
          </a:xfrm>
          <a:prstGeom prst="wedgeRoundRectCallout">
            <a:avLst>
              <a:gd name="adj1" fmla="val -33069"/>
              <a:gd name="adj2" fmla="val 157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108000" y="2028960"/>
            <a:ext cx="2663640" cy="576000"/>
          </a:xfrm>
          <a:prstGeom prst="wedgeRoundRectCallout">
            <a:avLst>
              <a:gd name="adj1" fmla="val -15180"/>
              <a:gd name="adj2" fmla="val 157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108000" y="6205680"/>
            <a:ext cx="2663640" cy="647640"/>
          </a:xfrm>
          <a:prstGeom prst="wedgeRoundRectCallout">
            <a:avLst>
              <a:gd name="adj1" fmla="val -12893"/>
              <a:gd name="adj2" fmla="val -7277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0" y="123660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welv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p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79280" y="627696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went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3060720" y="3108240"/>
            <a:ext cx="33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four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4067280" y="116532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t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ap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179280" y="20289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ix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5148360" y="6205680"/>
            <a:ext cx="33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eigh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3637080" y="123660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2143080" y="853920"/>
            <a:ext cx="433440" cy="43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0"/>
          <p:cNvSpPr/>
          <p:nvPr/>
        </p:nvSpPr>
        <p:spPr>
          <a:xfrm>
            <a:off x="2700360" y="318132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1"/>
          <p:cNvSpPr/>
          <p:nvPr/>
        </p:nvSpPr>
        <p:spPr>
          <a:xfrm>
            <a:off x="0" y="253224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2"/>
          <p:cNvSpPr/>
          <p:nvPr/>
        </p:nvSpPr>
        <p:spPr>
          <a:xfrm>
            <a:off x="4861080" y="634824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108000" y="598968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笔 217"/>
          <p:cNvSpPr/>
          <p:nvPr/>
        </p:nvSpPr>
        <p:spPr>
          <a:xfrm>
            <a:off x="8820000" y="642924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14284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43000" y="257148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072720" cy="6929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108000" y="863640"/>
            <a:ext cx="2454120" cy="1368360"/>
          </a:xfrm>
          <a:prstGeom prst="rect">
            <a:avLst/>
          </a:prstGeom>
          <a:ln w="0">
            <a:noFill/>
          </a:ln>
        </p:spPr>
      </p:pic>
      <p:sp>
        <p:nvSpPr>
          <p:cNvPr id="190" name="Oval 6"/>
          <p:cNvSpPr/>
          <p:nvPr/>
        </p:nvSpPr>
        <p:spPr>
          <a:xfrm>
            <a:off x="36360" y="819000"/>
            <a:ext cx="2664000" cy="155736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828720" y="2448000"/>
            <a:ext cx="2589120" cy="1584360"/>
          </a:xfrm>
          <a:prstGeom prst="cloudCallout">
            <a:avLst>
              <a:gd name="adj1" fmla="val 9972"/>
              <a:gd name="adj2" fmla="val 9049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et's go no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my and S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6732720" y="3311640"/>
            <a:ext cx="2160360" cy="1368360"/>
          </a:xfrm>
          <a:prstGeom prst="cloudCallout">
            <a:avLst>
              <a:gd name="adj1" fmla="val 9972"/>
              <a:gd name="adj2" fmla="val 9049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or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0" y="1356840"/>
            <a:ext cx="914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           </a:t>
            </a: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三人一组分角色朗读整篇课文。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       </a:t>
            </a: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根据你们的表现，可以获得不同奖励哦！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-소망M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-소망M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86000" y="6429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ro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"/>
          <p:cNvGrpSpPr/>
          <p:nvPr/>
        </p:nvGrpSpPr>
        <p:grpSpPr>
          <a:xfrm>
            <a:off x="1476360" y="2161080"/>
            <a:ext cx="3976200" cy="741600"/>
            <a:chOff x="1476360" y="2161080"/>
            <a:chExt cx="3976200" cy="741600"/>
          </a:xfrm>
        </p:grpSpPr>
        <p:sp>
          <p:nvSpPr>
            <p:cNvPr id="196" name="AutoShape 5"/>
            <p:cNvSpPr/>
            <p:nvPr/>
          </p:nvSpPr>
          <p:spPr>
            <a:xfrm flipV="1" rot="2040000">
              <a:off x="4786200" y="2277720"/>
              <a:ext cx="573120" cy="507960"/>
            </a:xfrm>
            <a:custGeom>
              <a:avLst/>
              <a:gdLst/>
              <a:ahLst/>
              <a:rect l="l" t="t" r="r" b="b"/>
              <a:pathLst>
                <a:path w="903" h="801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8" y="305"/>
                  </a:lnTo>
                  <a:lnTo>
                    <a:pt x="902" y="305"/>
                  </a:lnTo>
                  <a:lnTo>
                    <a:pt x="623" y="495"/>
                  </a:lnTo>
                  <a:lnTo>
                    <a:pt x="730" y="800"/>
                  </a:lnTo>
                  <a:lnTo>
                    <a:pt x="451" y="611"/>
                  </a:lnTo>
                  <a:lnTo>
                    <a:pt x="172" y="800"/>
                  </a:lnTo>
                  <a:lnTo>
                    <a:pt x="279" y="49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6"/>
            <p:cNvSpPr/>
            <p:nvPr/>
          </p:nvSpPr>
          <p:spPr>
            <a:xfrm>
              <a:off x="1476360" y="2205000"/>
              <a:ext cx="309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1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正确朗读课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7"/>
          <p:cNvGrpSpPr/>
          <p:nvPr/>
        </p:nvGrpSpPr>
        <p:grpSpPr>
          <a:xfrm>
            <a:off x="1547640" y="3095640"/>
            <a:ext cx="4843080" cy="741960"/>
            <a:chOff x="1547640" y="3095640"/>
            <a:chExt cx="4843080" cy="741960"/>
          </a:xfrm>
        </p:grpSpPr>
        <p:sp>
          <p:nvSpPr>
            <p:cNvPr id="199" name="AutoShape 8"/>
            <p:cNvSpPr/>
            <p:nvPr/>
          </p:nvSpPr>
          <p:spPr>
            <a:xfrm flipV="1" rot="2040000">
              <a:off x="5724720" y="321192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800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4"/>
                  </a:lnTo>
                  <a:lnTo>
                    <a:pt x="729" y="799"/>
                  </a:lnTo>
                  <a:lnTo>
                    <a:pt x="451" y="611"/>
                  </a:lnTo>
                  <a:lnTo>
                    <a:pt x="172" y="799"/>
                  </a:lnTo>
                  <a:lnTo>
                    <a:pt x="278" y="4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 flipV="1" rot="2040000">
              <a:off x="4861080" y="321192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800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4"/>
                  </a:lnTo>
                  <a:lnTo>
                    <a:pt x="729" y="799"/>
                  </a:lnTo>
                  <a:lnTo>
                    <a:pt x="451" y="611"/>
                  </a:lnTo>
                  <a:lnTo>
                    <a:pt x="172" y="799"/>
                  </a:lnTo>
                  <a:lnTo>
                    <a:pt x="278" y="4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1547640" y="3213000"/>
              <a:ext cx="324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2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有感情的朗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1"/>
          <p:cNvGrpSpPr/>
          <p:nvPr/>
        </p:nvGrpSpPr>
        <p:grpSpPr>
          <a:xfrm>
            <a:off x="1547640" y="4221000"/>
            <a:ext cx="5707800" cy="769680"/>
            <a:chOff x="1547640" y="4221000"/>
            <a:chExt cx="5707800" cy="769680"/>
          </a:xfrm>
        </p:grpSpPr>
        <p:sp>
          <p:nvSpPr>
            <p:cNvPr id="203" name="AutoShape 12"/>
            <p:cNvSpPr/>
            <p:nvPr/>
          </p:nvSpPr>
          <p:spPr>
            <a:xfrm flipV="1" rot="2040000">
              <a:off x="6588000" y="4364640"/>
              <a:ext cx="574560" cy="508320"/>
            </a:xfrm>
            <a:custGeom>
              <a:avLst/>
              <a:gdLst/>
              <a:ahLst/>
              <a:rect l="l" t="t" r="r" b="b"/>
              <a:pathLst>
                <a:path w="905" h="799">
                  <a:moveTo>
                    <a:pt x="0" y="305"/>
                  </a:moveTo>
                  <a:lnTo>
                    <a:pt x="345" y="305"/>
                  </a:lnTo>
                  <a:lnTo>
                    <a:pt x="452" y="0"/>
                  </a:lnTo>
                  <a:lnTo>
                    <a:pt x="559" y="305"/>
                  </a:lnTo>
                  <a:lnTo>
                    <a:pt x="904" y="305"/>
                  </a:lnTo>
                  <a:lnTo>
                    <a:pt x="625" y="493"/>
                  </a:lnTo>
                  <a:lnTo>
                    <a:pt x="732" y="798"/>
                  </a:lnTo>
                  <a:lnTo>
                    <a:pt x="452" y="610"/>
                  </a:lnTo>
                  <a:lnTo>
                    <a:pt x="172" y="798"/>
                  </a:lnTo>
                  <a:lnTo>
                    <a:pt x="279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3"/>
            <p:cNvSpPr/>
            <p:nvPr/>
          </p:nvSpPr>
          <p:spPr>
            <a:xfrm flipV="1" rot="2040000">
              <a:off x="5797440" y="4364640"/>
              <a:ext cx="574560" cy="508320"/>
            </a:xfrm>
            <a:custGeom>
              <a:avLst/>
              <a:gdLst/>
              <a:ahLst/>
              <a:rect l="l" t="t" r="r" b="b"/>
              <a:pathLst>
                <a:path w="905" h="799">
                  <a:moveTo>
                    <a:pt x="0" y="305"/>
                  </a:moveTo>
                  <a:lnTo>
                    <a:pt x="345" y="305"/>
                  </a:lnTo>
                  <a:lnTo>
                    <a:pt x="452" y="0"/>
                  </a:lnTo>
                  <a:lnTo>
                    <a:pt x="559" y="305"/>
                  </a:lnTo>
                  <a:lnTo>
                    <a:pt x="904" y="305"/>
                  </a:lnTo>
                  <a:lnTo>
                    <a:pt x="625" y="493"/>
                  </a:lnTo>
                  <a:lnTo>
                    <a:pt x="732" y="798"/>
                  </a:lnTo>
                  <a:lnTo>
                    <a:pt x="452" y="610"/>
                  </a:lnTo>
                  <a:lnTo>
                    <a:pt x="172" y="798"/>
                  </a:lnTo>
                  <a:lnTo>
                    <a:pt x="279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4"/>
            <p:cNvSpPr/>
            <p:nvPr/>
          </p:nvSpPr>
          <p:spPr>
            <a:xfrm flipV="1" rot="2040000">
              <a:off x="4932360" y="436428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799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3"/>
                  </a:lnTo>
                  <a:lnTo>
                    <a:pt x="729" y="798"/>
                  </a:lnTo>
                  <a:lnTo>
                    <a:pt x="451" y="610"/>
                  </a:lnTo>
                  <a:lnTo>
                    <a:pt x="172" y="798"/>
                  </a:lnTo>
                  <a:lnTo>
                    <a:pt x="278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5"/>
            <p:cNvSpPr/>
            <p:nvPr/>
          </p:nvSpPr>
          <p:spPr>
            <a:xfrm>
              <a:off x="1547640" y="4221000"/>
              <a:ext cx="338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3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有感情的表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36360" y="0"/>
            <a:ext cx="3384720" cy="2370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3754440" cy="201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3"/>
          <a:stretch/>
        </p:blipFill>
        <p:spPr>
          <a:xfrm>
            <a:off x="36360" y="4581360"/>
            <a:ext cx="3619800" cy="223236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5"/>
          <p:cNvGrpSpPr/>
          <p:nvPr/>
        </p:nvGrpSpPr>
        <p:grpSpPr>
          <a:xfrm>
            <a:off x="3852720" y="0"/>
            <a:ext cx="5259600" cy="2305080"/>
            <a:chOff x="3852720" y="0"/>
            <a:chExt cx="5259600" cy="2305080"/>
          </a:xfrm>
        </p:grpSpPr>
        <p:pic>
          <p:nvPicPr>
            <p:cNvPr id="211" name="Picture 6" descr=""/>
            <p:cNvPicPr/>
            <p:nvPr/>
          </p:nvPicPr>
          <p:blipFill>
            <a:blip r:embed="rId4"/>
            <a:stretch/>
          </p:blipFill>
          <p:spPr>
            <a:xfrm>
              <a:off x="5652720" y="0"/>
              <a:ext cx="34596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AutoShape 7"/>
            <p:cNvSpPr/>
            <p:nvPr/>
          </p:nvSpPr>
          <p:spPr>
            <a:xfrm>
              <a:off x="3852720" y="836640"/>
              <a:ext cx="1655640" cy="720000"/>
            </a:xfrm>
            <a:prstGeom prst="rightArrow">
              <a:avLst>
                <a:gd name="adj1" fmla="val 50000"/>
                <a:gd name="adj2" fmla="val 5747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8"/>
          <p:cNvGrpSpPr/>
          <p:nvPr/>
        </p:nvGrpSpPr>
        <p:grpSpPr>
          <a:xfrm>
            <a:off x="6012000" y="2637000"/>
            <a:ext cx="3087720" cy="4176360"/>
            <a:chOff x="6012000" y="2637000"/>
            <a:chExt cx="3087720" cy="4176360"/>
          </a:xfrm>
        </p:grpSpPr>
        <p:pic>
          <p:nvPicPr>
            <p:cNvPr id="214" name="Picture 9" descr=""/>
            <p:cNvPicPr/>
            <p:nvPr/>
          </p:nvPicPr>
          <p:blipFill>
            <a:blip r:embed="rId5"/>
            <a:stretch/>
          </p:blipFill>
          <p:spPr>
            <a:xfrm>
              <a:off x="6012000" y="4455000"/>
              <a:ext cx="3087720" cy="235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AutoShape 10"/>
            <p:cNvSpPr/>
            <p:nvPr/>
          </p:nvSpPr>
          <p:spPr>
            <a:xfrm>
              <a:off x="7811640" y="2637000"/>
              <a:ext cx="719640" cy="1583640"/>
            </a:xfrm>
            <a:prstGeom prst="downArrow">
              <a:avLst>
                <a:gd name="adj1" fmla="val 50000"/>
                <a:gd name="adj2" fmla="val 5500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AutoShape 11"/>
          <p:cNvSpPr/>
          <p:nvPr/>
        </p:nvSpPr>
        <p:spPr>
          <a:xfrm rot="10740000">
            <a:off x="4068720" y="5301360"/>
            <a:ext cx="1720800" cy="738360"/>
          </a:xfrm>
          <a:prstGeom prst="rightArrow">
            <a:avLst>
              <a:gd name="adj1" fmla="val 50000"/>
              <a:gd name="adj2" fmla="val 582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187280" y="3070080"/>
            <a:ext cx="122580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-36360" y="44280"/>
            <a:ext cx="143964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ruit f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0" y="476280"/>
            <a:ext cx="144144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ick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5"/>
          <p:cNvSpPr/>
          <p:nvPr/>
        </p:nvSpPr>
        <p:spPr>
          <a:xfrm>
            <a:off x="6300720" y="1917720"/>
            <a:ext cx="2592360" cy="358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'll pick ap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6"/>
          <p:cNvSpPr/>
          <p:nvPr/>
        </p:nvSpPr>
        <p:spPr>
          <a:xfrm>
            <a:off x="6012000" y="4510080"/>
            <a:ext cx="259236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ill we pick p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7" descr=""/>
          <p:cNvPicPr/>
          <p:nvPr/>
        </p:nvPicPr>
        <p:blipFill>
          <a:blip r:embed="rId6"/>
          <a:stretch/>
        </p:blipFill>
        <p:spPr>
          <a:xfrm>
            <a:off x="2484360" y="-27000"/>
            <a:ext cx="1008000" cy="625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" descr=""/>
          <p:cNvPicPr/>
          <p:nvPr/>
        </p:nvPicPr>
        <p:blipFill>
          <a:blip r:embed="rId7"/>
          <a:stretch/>
        </p:blipFill>
        <p:spPr>
          <a:xfrm>
            <a:off x="2771640" y="2421000"/>
            <a:ext cx="936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785960" y="1000080"/>
            <a:ext cx="6892920" cy="3421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2857680" y="2357280"/>
            <a:ext cx="1882440" cy="2014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3"/>
          <a:stretch/>
        </p:blipFill>
        <p:spPr>
          <a:xfrm>
            <a:off x="6500880" y="2500200"/>
            <a:ext cx="163836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900000" y="4437000"/>
            <a:ext cx="79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A: Will you pick </a:t>
            </a:r>
            <a:r>
              <a:rPr b="0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pears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?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: Yes, I will. /  No, I won't. I'll pick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bananas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A: How many</a:t>
            </a:r>
            <a:r>
              <a:rPr b="0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 bananas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 will you pick?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: I'll pick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twenty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3286080" y="428760"/>
            <a:ext cx="2714760" cy="5713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rk in pai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71680" y="2332080"/>
            <a:ext cx="92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Listen and read the story.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★★</a:t>
            </a: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Act out the story.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★★★★</a:t>
            </a: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30" name="WordArt 3"/>
          <p:cNvSpPr txBox="1"/>
          <p:nvPr/>
        </p:nvSpPr>
        <p:spPr>
          <a:xfrm>
            <a:off x="2786040" y="571680"/>
            <a:ext cx="3591000" cy="14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华文彩云"/>
              </a:rPr>
              <a:t>Homework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华文彩云"/>
              <a:ea typeface="华文彩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4276440" cy="3806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5072040" y="2214720"/>
            <a:ext cx="3855960" cy="3816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908000" y="6095880"/>
            <a:ext cx="57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How old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000080" y="642960"/>
            <a:ext cx="36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fourtee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580000" y="47628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fou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1357200" y="1714320"/>
            <a:ext cx="2157120" cy="1006200"/>
            <a:chOff x="1357200" y="1714320"/>
            <a:chExt cx="2157120" cy="1006200"/>
          </a:xfrm>
        </p:grpSpPr>
        <p:sp>
          <p:nvSpPr>
            <p:cNvPr id="95" name="箭头 319"/>
            <p:cNvSpPr/>
            <p:nvPr/>
          </p:nvSpPr>
          <p:spPr>
            <a:xfrm flipV="1">
              <a:off x="1357200" y="1786680"/>
              <a:ext cx="358560" cy="9338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箭头 319"/>
            <p:cNvSpPr/>
            <p:nvPr/>
          </p:nvSpPr>
          <p:spPr>
            <a:xfrm flipH="1" flipV="1">
              <a:off x="2724120" y="1714320"/>
              <a:ext cx="790200" cy="718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0"/>
          <p:cNvGrpSpPr/>
          <p:nvPr/>
        </p:nvGrpSpPr>
        <p:grpSpPr>
          <a:xfrm>
            <a:off x="5786280" y="1714680"/>
            <a:ext cx="1655640" cy="2233440"/>
            <a:chOff x="5786280" y="1714680"/>
            <a:chExt cx="1655640" cy="2233440"/>
          </a:xfrm>
        </p:grpSpPr>
        <p:sp>
          <p:nvSpPr>
            <p:cNvPr id="98" name="箭头 319"/>
            <p:cNvSpPr/>
            <p:nvPr/>
          </p:nvSpPr>
          <p:spPr>
            <a:xfrm flipV="1">
              <a:off x="5786280" y="1791000"/>
              <a:ext cx="790920" cy="17704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箭头 319"/>
            <p:cNvSpPr/>
            <p:nvPr/>
          </p:nvSpPr>
          <p:spPr>
            <a:xfrm flipH="1" flipV="1">
              <a:off x="6939000" y="1714680"/>
              <a:ext cx="502920" cy="22334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3"/>
          <p:cNvSpPr/>
          <p:nvPr/>
        </p:nvSpPr>
        <p:spPr>
          <a:xfrm>
            <a:off x="1000080" y="1143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b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5616720" y="98100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45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2531880" cy="15127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6"/>
          <p:cNvSpPr/>
          <p:nvPr/>
        </p:nvSpPr>
        <p:spPr>
          <a:xfrm>
            <a:off x="828720" y="6165720"/>
            <a:ext cx="8137440" cy="57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are they talking abo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7"/>
          <p:cNvGrpSpPr/>
          <p:nvPr/>
        </p:nvGrpSpPr>
        <p:grpSpPr>
          <a:xfrm>
            <a:off x="3419640" y="-27000"/>
            <a:ext cx="5400360" cy="1224000"/>
            <a:chOff x="3419640" y="-27000"/>
            <a:chExt cx="5400360" cy="1224000"/>
          </a:xfrm>
        </p:grpSpPr>
        <p:sp>
          <p:nvSpPr>
            <p:cNvPr id="108" name="椭圆形标注1 91"/>
            <p:cNvSpPr/>
            <p:nvPr/>
          </p:nvSpPr>
          <p:spPr>
            <a:xfrm>
              <a:off x="3419640" y="-27000"/>
              <a:ext cx="5400360" cy="1224000"/>
            </a:xfrm>
            <a:prstGeom prst="wedgeEllipseCallout">
              <a:avLst>
                <a:gd name="adj1" fmla="val -22787"/>
                <a:gd name="adj2" fmla="val 6570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>
              <a:off x="4212000" y="720"/>
              <a:ext cx="432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This weekend, we're going to a 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fruit farm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Oval 10"/>
          <p:cNvSpPr/>
          <p:nvPr/>
        </p:nvSpPr>
        <p:spPr>
          <a:xfrm>
            <a:off x="0" y="-142920"/>
            <a:ext cx="3240000" cy="187164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"/>
          <p:cNvPicPr/>
          <p:nvPr/>
        </p:nvPicPr>
        <p:blipFill>
          <a:blip r:embed="rId3"/>
          <a:stretch/>
        </p:blipFill>
        <p:spPr>
          <a:xfrm>
            <a:off x="3132000" y="3645000"/>
            <a:ext cx="4469040" cy="1368360"/>
          </a:xfrm>
          <a:prstGeom prst="rect">
            <a:avLst/>
          </a:prstGeom>
          <a:ln w="0">
            <a:noFill/>
          </a:ln>
        </p:spPr>
      </p:pic>
      <p:sp>
        <p:nvSpPr>
          <p:cNvPr id="112" name="笔 217"/>
          <p:cNvSpPr/>
          <p:nvPr/>
        </p:nvSpPr>
        <p:spPr>
          <a:xfrm>
            <a:off x="36360" y="638172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000080" y="714240"/>
            <a:ext cx="8143920" cy="54468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3"/>
          <p:cNvSpPr/>
          <p:nvPr/>
        </p:nvSpPr>
        <p:spPr>
          <a:xfrm>
            <a:off x="5219640" y="1773360"/>
            <a:ext cx="2737080" cy="647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fruit f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2857680" y="714240"/>
            <a:ext cx="3744720" cy="576360"/>
          </a:xfrm>
          <a:prstGeom prst="flowChartProcess">
            <a:avLst/>
          </a:prstGeom>
          <a:solidFill>
            <a:srgbClr val="ffcc9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atch and Liste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332000" y="5877000"/>
            <a:ext cx="70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at fruit can you h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143080" y="1338120"/>
            <a:ext cx="6029280" cy="4530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3492360" y="3357720"/>
            <a:ext cx="3529080" cy="1081080"/>
          </a:xfrm>
          <a:prstGeom prst="rect">
            <a:avLst/>
          </a:prstGeom>
          <a:ln w="0">
            <a:noFill/>
          </a:ln>
        </p:spPr>
      </p:pic>
      <p:sp>
        <p:nvSpPr>
          <p:cNvPr id="119" name="Oval 6"/>
          <p:cNvSpPr/>
          <p:nvPr/>
        </p:nvSpPr>
        <p:spPr>
          <a:xfrm>
            <a:off x="4071960" y="3357720"/>
            <a:ext cx="863640" cy="93492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5286240" y="3571920"/>
            <a:ext cx="935280" cy="79200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V$OBWGR~R)N8@SOEK60P1TQ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22" name="椭圆形标注1 91"/>
          <p:cNvSpPr/>
          <p:nvPr/>
        </p:nvSpPr>
        <p:spPr>
          <a:xfrm>
            <a:off x="3564000" y="0"/>
            <a:ext cx="5761080" cy="2276640"/>
          </a:xfrm>
          <a:prstGeom prst="wedgeEllipseCallout">
            <a:avLst>
              <a:gd name="adj1" fmla="val -22787"/>
              <a:gd name="adj2" fmla="val 657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067280" y="260280"/>
            <a:ext cx="482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his weekend,we're going to a fruit fa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755640" y="5877000"/>
            <a:ext cx="7993080" cy="577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will they do on the fruit fa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716360" y="141300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e'll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pick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fru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笔 217"/>
          <p:cNvSpPr/>
          <p:nvPr/>
        </p:nvSpPr>
        <p:spPr>
          <a:xfrm>
            <a:off x="36360" y="652608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2629080" y="515772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pick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fru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341360" y="1428840"/>
            <a:ext cx="7832880" cy="3297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6215040" y="2786040"/>
            <a:ext cx="1800360" cy="1523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1571760" y="2928960"/>
            <a:ext cx="23382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6022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2340000" y="609300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ill they pick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36360" y="620640"/>
            <a:ext cx="2583000" cy="19447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/>
          <p:cNvSpPr/>
          <p:nvPr/>
        </p:nvSpPr>
        <p:spPr>
          <a:xfrm>
            <a:off x="2987640" y="333360"/>
            <a:ext cx="3889440" cy="1800360"/>
          </a:xfrm>
          <a:prstGeom prst="wedgeEllipseCallout">
            <a:avLst>
              <a:gd name="adj1" fmla="val -44856"/>
              <a:gd name="adj2" fmla="val 79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419640" y="476280"/>
            <a:ext cx="28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We'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ick app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2700360" y="404640"/>
            <a:ext cx="6084720" cy="649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at fruit will they p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152360" y="571680"/>
            <a:ext cx="7488360" cy="62863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/>
          <p:cNvSpPr/>
          <p:nvPr/>
        </p:nvSpPr>
        <p:spPr>
          <a:xfrm>
            <a:off x="1327320" y="714240"/>
            <a:ext cx="3887640" cy="1800360"/>
          </a:xfrm>
          <a:prstGeom prst="wedgeEllipseCallout">
            <a:avLst>
              <a:gd name="adj1" fmla="val 2263"/>
              <a:gd name="adj2" fmla="val 79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201080" y="2419200"/>
            <a:ext cx="1871640" cy="1009800"/>
          </a:xfrm>
          <a:prstGeom prst="wedgeEllipseCallout">
            <a:avLst>
              <a:gd name="adj1" fmla="val -30833"/>
              <a:gd name="adj2" fmla="val 111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632720" y="26352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 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4608360" y="839880"/>
            <a:ext cx="3672000" cy="2232000"/>
          </a:xfrm>
          <a:prstGeom prst="cloudCallout">
            <a:avLst>
              <a:gd name="adj1" fmla="val -19115"/>
              <a:gd name="adj2" fmla="val 964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897440" y="14158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ut I don't lik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p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4897440" y="3933720"/>
            <a:ext cx="1511280" cy="1300320"/>
          </a:xfrm>
          <a:prstGeom prst="rect">
            <a:avLst/>
          </a:prstGeom>
          <a:ln w="0">
            <a:noFill/>
          </a:ln>
        </p:spPr>
      </p:pic>
      <p:sp>
        <p:nvSpPr>
          <p:cNvPr id="144" name="Oval 9"/>
          <p:cNvSpPr/>
          <p:nvPr/>
        </p:nvSpPr>
        <p:spPr>
          <a:xfrm>
            <a:off x="6265800" y="3429000"/>
            <a:ext cx="2158920" cy="201600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830240" y="85716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We'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ick app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11:05:24Z</dcterms:created>
  <dc:creator>viaton</dc:creator>
  <dc:description/>
  <dc:language>en-US</dc:language>
  <cp:lastModifiedBy>Admin</cp:lastModifiedBy>
  <dcterms:modified xsi:type="dcterms:W3CDTF">2017-06-09T04:46:04Z</dcterms:modified>
  <cp:revision>33</cp:revision>
  <dc:subject/>
  <dc:title>外研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