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chimes.wav" ContentType="audio/x-wav"/>
  <Override PartName="/ppt/media/image29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27.jpeg" ContentType="image/jpeg"/>
  <Override PartName="/ppt/media/image5.wmf" ContentType="image/x-wmf"/>
  <Override PartName="/ppt/media/image1.jpeg" ContentType="image/jpeg"/>
  <Override PartName="/ppt/media/image10.png" ContentType="image/png"/>
  <Override PartName="/ppt/media/image28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79C-0420-4C75-B842-2E595F6D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388-0A78-482D-808C-3323A354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F94-87D9-42F3-80CF-0FF13205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139-332F-41F8-84AA-897868C0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0304-65EB-4683-AEA1-BEAC3637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9BDF-4EEF-4C67-AA75-9E1FFBCA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729A-D7B1-4B64-ABB4-98682FE2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48F2-BA0B-4D95-9457-11FA3FF4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4036-4FA9-4DB4-9AE2-01EA2B8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D7FD-66AA-4388-BADE-7B54199C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29EE-DE89-4E7B-9280-3AFDC54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166-96B3-489E-B055-408CF7D3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A4B3-75FD-48F9-8801-A382FA79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7279-EE72-4181-8580-81692066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87D4-B855-4E39-AC3E-43AAE2C6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3BAD-85C9-442E-9941-DC1FD128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8E71-D4F9-42B7-A97A-6F711E5D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7C0-4039-473A-99C6-90F50F06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50F-F11C-416D-A379-F3C03EC8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1C2-E948-475C-9DB5-16EA2FE6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DD1-2E63-4DC9-AEEF-28CE94EB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E96-B6B3-4EB2-A8EC-AB7BEFF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D95-7BFB-4CAC-8699-1F8E468A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880-4F06-4B29-89F0-D1B5B99B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pptwork\0723\서식용\BL01_4_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72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6040" y="6227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B0EE-52C8-412C-9377-0D0C84658B62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椭圆 10"/>
          <p:cNvSpPr/>
          <p:nvPr/>
        </p:nvSpPr>
        <p:spPr>
          <a:xfrm>
            <a:off x="71280" y="142920"/>
            <a:ext cx="928800" cy="10000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8" descr="LOGO.jpg"/>
          <p:cNvPicPr/>
          <p:nvPr/>
        </p:nvPicPr>
        <p:blipFill>
          <a:blip r:embed="rId4"/>
          <a:stretch/>
        </p:blipFill>
        <p:spPr>
          <a:xfrm>
            <a:off x="0" y="142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pptwork\0723\서식용\BL01_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BEC9-AA14-4128-B730-921B7AF81D08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C:\Documents and Settings\Administrator\Local Settings\Temporary Internet Files\Content.IE5\3QLB9KBU\MC900343351[1].wmf"/>
          <p:cNvPicPr/>
          <p:nvPr/>
        </p:nvPicPr>
        <p:blipFill>
          <a:blip r:embed="rId1"/>
          <a:stretch/>
        </p:blipFill>
        <p:spPr>
          <a:xfrm>
            <a:off x="7000920" y="485784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2000160" y="2357280"/>
            <a:ext cx="628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Module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Unit 1 We’ll pick fru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/>
          <p:cNvSpPr/>
          <p:nvPr/>
        </p:nvSpPr>
        <p:spPr>
          <a:xfrm>
            <a:off x="108000" y="404640"/>
            <a:ext cx="4176720" cy="1584360"/>
          </a:xfrm>
          <a:prstGeom prst="wedgeRoundRectCallout">
            <a:avLst>
              <a:gd name="adj1" fmla="val -21462"/>
              <a:gd name="adj2" fmla="val 8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79280" y="2602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uit will we pi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928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ill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ick p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5508720" y="836640"/>
            <a:ext cx="180000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580000" y="7650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Y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e w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539640" y="2709720"/>
            <a:ext cx="1440000" cy="1247760"/>
          </a:xfrm>
          <a:prstGeom prst="rect">
            <a:avLst/>
          </a:prstGeom>
          <a:ln w="0">
            <a:noFill/>
          </a:ln>
        </p:spPr>
      </p:pic>
      <p:sp>
        <p:nvSpPr>
          <p:cNvPr id="155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   </a:t>
            </a: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What are they doing?</a:t>
            </a:r>
            <a:endParaRPr b="0" lang="en-US" sz="4000" spc="-1" strike="noStrike">
              <a:solidFill>
                <a:srgbClr val="000080"/>
              </a:solidFill>
              <a:latin typeface="-소망B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459640" cy="4721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/>
          <p:cNvSpPr/>
          <p:nvPr/>
        </p:nvSpPr>
        <p:spPr>
          <a:xfrm>
            <a:off x="611280" y="1341360"/>
            <a:ext cx="4248000" cy="1295640"/>
          </a:xfrm>
          <a:prstGeom prst="wedgeEllipseCallout">
            <a:avLst>
              <a:gd name="adj1" fmla="val 36245"/>
              <a:gd name="adj2" fmla="val 77175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403280" y="1917720"/>
            <a:ext cx="180036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3097440" cy="280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2303280" cy="25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684360" y="60930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re arguing.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2007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08000" y="1380960"/>
            <a:ext cx="8893080" cy="49626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396720" y="1380960"/>
            <a:ext cx="4537080" cy="1513080"/>
          </a:xfrm>
          <a:prstGeom prst="wedgeEllipseCallout">
            <a:avLst>
              <a:gd name="adj1" fmla="val 36129"/>
              <a:gd name="adj2" fmla="val 7052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1403280" y="2532240"/>
            <a:ext cx="1508040" cy="1296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-36360" y="1165320"/>
            <a:ext cx="3492360" cy="64764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148360" y="6205680"/>
            <a:ext cx="2879640" cy="576000"/>
          </a:xfrm>
          <a:prstGeom prst="wedgeRoundRectCallout">
            <a:avLst>
              <a:gd name="adj1" fmla="val -40689"/>
              <a:gd name="adj2" fmla="val -790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132000" y="3108240"/>
            <a:ext cx="2735280" cy="57780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924360" y="1165320"/>
            <a:ext cx="3384360" cy="576000"/>
          </a:xfrm>
          <a:prstGeom prst="wedgeRoundRectCallout">
            <a:avLst>
              <a:gd name="adj1" fmla="val -33069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108000" y="2028960"/>
            <a:ext cx="2663640" cy="576000"/>
          </a:xfrm>
          <a:prstGeom prst="wedgeRoundRectCallout">
            <a:avLst>
              <a:gd name="adj1" fmla="val -15180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108000" y="6205680"/>
            <a:ext cx="2663640" cy="647640"/>
          </a:xfrm>
          <a:prstGeom prst="wedgeRoundRectCallout">
            <a:avLst>
              <a:gd name="adj1" fmla="val -12893"/>
              <a:gd name="adj2" fmla="val -72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123660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lv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79280" y="627696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n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060720" y="310824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067280" y="11653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t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ap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79280" y="20289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ix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5148360" y="6205680"/>
            <a:ext cx="33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eigh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3637080" y="12366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2143080" y="853920"/>
            <a:ext cx="433440" cy="43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2700360" y="318132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1"/>
          <p:cNvSpPr/>
          <p:nvPr/>
        </p:nvSpPr>
        <p:spPr>
          <a:xfrm>
            <a:off x="0" y="253224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4861080" y="63482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108000" y="598968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笔 217"/>
          <p:cNvSpPr/>
          <p:nvPr/>
        </p:nvSpPr>
        <p:spPr>
          <a:xfrm>
            <a:off x="8820000" y="642924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428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257148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2720" cy="692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108000" y="863640"/>
            <a:ext cx="2454120" cy="136836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36360" y="819000"/>
            <a:ext cx="2664000" cy="1557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828720" y="2448000"/>
            <a:ext cx="2589120" cy="1584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's go 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my and S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6732720" y="3311640"/>
            <a:ext cx="2160360" cy="1368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or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1356840"/>
            <a:ext cx="914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三人一组分角色朗读整篇课文。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根据你们的表现，可以获得不同奖励哦！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86000" y="6429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o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1476360" y="2161080"/>
            <a:ext cx="3976200" cy="741600"/>
            <a:chOff x="1476360" y="2161080"/>
            <a:chExt cx="3976200" cy="741600"/>
          </a:xfrm>
        </p:grpSpPr>
        <p:sp>
          <p:nvSpPr>
            <p:cNvPr id="196" name="AutoShape 5"/>
            <p:cNvSpPr/>
            <p:nvPr/>
          </p:nvSpPr>
          <p:spPr>
            <a:xfrm flipV="1" rot="2040000">
              <a:off x="4786200" y="2277720"/>
              <a:ext cx="573120" cy="507960"/>
            </a:xfrm>
            <a:custGeom>
              <a:avLst/>
              <a:gdLst/>
              <a:ahLst/>
              <a:rect l="l" t="t" r="r" b="b"/>
              <a:pathLst>
                <a:path w="903" h="801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8" y="305"/>
                  </a:lnTo>
                  <a:lnTo>
                    <a:pt x="902" y="305"/>
                  </a:lnTo>
                  <a:lnTo>
                    <a:pt x="623" y="495"/>
                  </a:lnTo>
                  <a:lnTo>
                    <a:pt x="730" y="800"/>
                  </a:lnTo>
                  <a:lnTo>
                    <a:pt x="451" y="611"/>
                  </a:lnTo>
                  <a:lnTo>
                    <a:pt x="172" y="800"/>
                  </a:lnTo>
                  <a:lnTo>
                    <a:pt x="279" y="49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1476360" y="2205000"/>
              <a:ext cx="309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1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正确朗读课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7"/>
          <p:cNvGrpSpPr/>
          <p:nvPr/>
        </p:nvGrpSpPr>
        <p:grpSpPr>
          <a:xfrm>
            <a:off x="1547640" y="3095640"/>
            <a:ext cx="4843080" cy="741960"/>
            <a:chOff x="1547640" y="3095640"/>
            <a:chExt cx="4843080" cy="741960"/>
          </a:xfrm>
        </p:grpSpPr>
        <p:sp>
          <p:nvSpPr>
            <p:cNvPr id="199" name="AutoShape 8"/>
            <p:cNvSpPr/>
            <p:nvPr/>
          </p:nvSpPr>
          <p:spPr>
            <a:xfrm flipV="1" rot="2040000">
              <a:off x="572472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 flipV="1" rot="2040000">
              <a:off x="486108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1547640" y="3213000"/>
              <a:ext cx="324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2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朗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1547640" y="4221000"/>
            <a:ext cx="5707800" cy="769680"/>
            <a:chOff x="1547640" y="4221000"/>
            <a:chExt cx="5707800" cy="769680"/>
          </a:xfrm>
        </p:grpSpPr>
        <p:sp>
          <p:nvSpPr>
            <p:cNvPr id="203" name="AutoShape 12"/>
            <p:cNvSpPr/>
            <p:nvPr/>
          </p:nvSpPr>
          <p:spPr>
            <a:xfrm flipV="1" rot="2040000">
              <a:off x="658800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3"/>
            <p:cNvSpPr/>
            <p:nvPr/>
          </p:nvSpPr>
          <p:spPr>
            <a:xfrm flipV="1" rot="2040000">
              <a:off x="579744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flipV="1" rot="2040000">
              <a:off x="4932360" y="436428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799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3"/>
                  </a:lnTo>
                  <a:lnTo>
                    <a:pt x="729" y="798"/>
                  </a:lnTo>
                  <a:lnTo>
                    <a:pt x="451" y="610"/>
                  </a:lnTo>
                  <a:lnTo>
                    <a:pt x="172" y="798"/>
                  </a:lnTo>
                  <a:lnTo>
                    <a:pt x="278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5"/>
            <p:cNvSpPr/>
            <p:nvPr/>
          </p:nvSpPr>
          <p:spPr>
            <a:xfrm>
              <a:off x="1547640" y="4221000"/>
              <a:ext cx="33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3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表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6360" y="0"/>
            <a:ext cx="3384720" cy="237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75444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36360" y="4581360"/>
            <a:ext cx="3619800" cy="223236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5"/>
          <p:cNvGrpSpPr/>
          <p:nvPr/>
        </p:nvGrpSpPr>
        <p:grpSpPr>
          <a:xfrm>
            <a:off x="3852720" y="0"/>
            <a:ext cx="5259600" cy="2305080"/>
            <a:chOff x="3852720" y="0"/>
            <a:chExt cx="5259600" cy="2305080"/>
          </a:xfrm>
        </p:grpSpPr>
        <p:pic>
          <p:nvPicPr>
            <p:cNvPr id="211" name="Picture 6" descr=""/>
            <p:cNvPicPr/>
            <p:nvPr/>
          </p:nvPicPr>
          <p:blipFill>
            <a:blip r:embed="rId4"/>
            <a:stretch/>
          </p:blipFill>
          <p:spPr>
            <a:xfrm>
              <a:off x="5652720" y="0"/>
              <a:ext cx="34596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7"/>
            <p:cNvSpPr/>
            <p:nvPr/>
          </p:nvSpPr>
          <p:spPr>
            <a:xfrm>
              <a:off x="3852720" y="836640"/>
              <a:ext cx="1655640" cy="720000"/>
            </a:xfrm>
            <a:prstGeom prst="rightArrow">
              <a:avLst>
                <a:gd name="adj1" fmla="val 50000"/>
                <a:gd name="adj2" fmla="val 5747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"/>
          <p:cNvGrpSpPr/>
          <p:nvPr/>
        </p:nvGrpSpPr>
        <p:grpSpPr>
          <a:xfrm>
            <a:off x="6012000" y="2637000"/>
            <a:ext cx="3087720" cy="4176360"/>
            <a:chOff x="6012000" y="2637000"/>
            <a:chExt cx="3087720" cy="4176360"/>
          </a:xfrm>
        </p:grpSpPr>
        <p:pic>
          <p:nvPicPr>
            <p:cNvPr id="214" name="Picture 9" descr=""/>
            <p:cNvPicPr/>
            <p:nvPr/>
          </p:nvPicPr>
          <p:blipFill>
            <a:blip r:embed="rId5"/>
            <a:stretch/>
          </p:blipFill>
          <p:spPr>
            <a:xfrm>
              <a:off x="6012000" y="4455000"/>
              <a:ext cx="3087720" cy="23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0"/>
            <p:cNvSpPr/>
            <p:nvPr/>
          </p:nvSpPr>
          <p:spPr>
            <a:xfrm>
              <a:off x="7811640" y="2637000"/>
              <a:ext cx="719640" cy="1583640"/>
            </a:xfrm>
            <a:prstGeom prst="downArrow">
              <a:avLst>
                <a:gd name="adj1" fmla="val 50000"/>
                <a:gd name="adj2" fmla="val 5500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11"/>
          <p:cNvSpPr/>
          <p:nvPr/>
        </p:nvSpPr>
        <p:spPr>
          <a:xfrm rot="10740000">
            <a:off x="4068720" y="5301360"/>
            <a:ext cx="1720800" cy="738360"/>
          </a:xfrm>
          <a:prstGeom prst="rightArrow">
            <a:avLst>
              <a:gd name="adj1" fmla="val 50000"/>
              <a:gd name="adj2" fmla="val 58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187280" y="3070080"/>
            <a:ext cx="122580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-36360" y="44280"/>
            <a:ext cx="14396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uit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0" y="476280"/>
            <a:ext cx="14414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ck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6300720" y="1917720"/>
            <a:ext cx="2592360" cy="358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'll pick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6012000" y="4510080"/>
            <a:ext cx="259236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ill we pick p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7" descr=""/>
          <p:cNvPicPr/>
          <p:nvPr/>
        </p:nvPicPr>
        <p:blipFill>
          <a:blip r:embed="rId6"/>
          <a:stretch/>
        </p:blipFill>
        <p:spPr>
          <a:xfrm>
            <a:off x="2484360" y="-27000"/>
            <a:ext cx="1008000" cy="62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"/>
          <p:cNvPicPr/>
          <p:nvPr/>
        </p:nvPicPr>
        <p:blipFill>
          <a:blip r:embed="rId7"/>
          <a:stretch/>
        </p:blipFill>
        <p:spPr>
          <a:xfrm>
            <a:off x="2771640" y="2421000"/>
            <a:ext cx="936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785960" y="1000080"/>
            <a:ext cx="6892920" cy="3421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2857680" y="2357280"/>
            <a:ext cx="1882440" cy="201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6500880" y="250020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900000" y="443700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Will you pick 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pear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?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Yes, I will. /  No, I won't.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bananas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How many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banana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will you pick?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twenty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3286080" y="428760"/>
            <a:ext cx="2714760" cy="571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rk in pa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71680" y="2332080"/>
            <a:ext cx="92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Listen and read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Act out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2786040" y="571680"/>
            <a:ext cx="3591000" cy="14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彩云"/>
              </a:rPr>
              <a:t>Homework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276440" cy="380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072040" y="2214720"/>
            <a:ext cx="3855960" cy="38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908000" y="6095880"/>
            <a:ext cx="57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ow old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00080" y="64296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80000" y="476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fo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1357200" y="1714320"/>
            <a:ext cx="2157120" cy="1006200"/>
            <a:chOff x="1357200" y="1714320"/>
            <a:chExt cx="2157120" cy="1006200"/>
          </a:xfrm>
        </p:grpSpPr>
        <p:sp>
          <p:nvSpPr>
            <p:cNvPr id="95" name="箭头 319"/>
            <p:cNvSpPr/>
            <p:nvPr/>
          </p:nvSpPr>
          <p:spPr>
            <a:xfrm flipV="1">
              <a:off x="1357200" y="1786680"/>
              <a:ext cx="358560" cy="933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箭头 319"/>
            <p:cNvSpPr/>
            <p:nvPr/>
          </p:nvSpPr>
          <p:spPr>
            <a:xfrm flipH="1" flipV="1">
              <a:off x="2724120" y="1714320"/>
              <a:ext cx="790200" cy="718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5786280" y="1714680"/>
            <a:ext cx="1655640" cy="2233440"/>
            <a:chOff x="5786280" y="1714680"/>
            <a:chExt cx="1655640" cy="2233440"/>
          </a:xfrm>
        </p:grpSpPr>
        <p:sp>
          <p:nvSpPr>
            <p:cNvPr id="98" name="箭头 319"/>
            <p:cNvSpPr/>
            <p:nvPr/>
          </p:nvSpPr>
          <p:spPr>
            <a:xfrm flipV="1">
              <a:off x="5786280" y="1791000"/>
              <a:ext cx="790920" cy="1770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箭头 319"/>
            <p:cNvSpPr/>
            <p:nvPr/>
          </p:nvSpPr>
          <p:spPr>
            <a:xfrm flipH="1" flipV="1">
              <a:off x="6939000" y="1714680"/>
              <a:ext cx="502920" cy="2233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3"/>
          <p:cNvSpPr/>
          <p:nvPr/>
        </p:nvSpPr>
        <p:spPr>
          <a:xfrm>
            <a:off x="1000080" y="1143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616720" y="981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45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2531880" cy="1512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828720" y="6165720"/>
            <a:ext cx="8137440" cy="57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are they talking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3419640" y="-27000"/>
            <a:ext cx="5400360" cy="1224000"/>
            <a:chOff x="3419640" y="-27000"/>
            <a:chExt cx="5400360" cy="1224000"/>
          </a:xfrm>
        </p:grpSpPr>
        <p:sp>
          <p:nvSpPr>
            <p:cNvPr id="108" name="椭圆形标注1 91"/>
            <p:cNvSpPr/>
            <p:nvPr/>
          </p:nvSpPr>
          <p:spPr>
            <a:xfrm>
              <a:off x="3419640" y="-27000"/>
              <a:ext cx="5400360" cy="1224000"/>
            </a:xfrm>
            <a:prstGeom prst="wedgeEllipseCallout">
              <a:avLst>
                <a:gd name="adj1" fmla="val -22787"/>
                <a:gd name="adj2" fmla="val 657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4212000" y="720"/>
              <a:ext cx="432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This weekend, we're going to a 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fruit farm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10"/>
          <p:cNvSpPr/>
          <p:nvPr/>
        </p:nvSpPr>
        <p:spPr>
          <a:xfrm>
            <a:off x="0" y="-142920"/>
            <a:ext cx="3240000" cy="187164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446904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笔 217"/>
          <p:cNvSpPr/>
          <p:nvPr/>
        </p:nvSpPr>
        <p:spPr>
          <a:xfrm>
            <a:off x="36360" y="638172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00080" y="714240"/>
            <a:ext cx="8143920" cy="54468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5219640" y="1773360"/>
            <a:ext cx="273708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fruit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2857680" y="714240"/>
            <a:ext cx="3744720" cy="576360"/>
          </a:xfrm>
          <a:prstGeom prst="flowChartProcess">
            <a:avLst/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atch and List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32000" y="5877000"/>
            <a:ext cx="70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can you h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143080" y="1338120"/>
            <a:ext cx="6029280" cy="453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492360" y="3357720"/>
            <a:ext cx="3529080" cy="1081080"/>
          </a:xfrm>
          <a:prstGeom prst="rect">
            <a:avLst/>
          </a:prstGeom>
          <a:ln w="0">
            <a:noFill/>
          </a:ln>
        </p:spPr>
      </p:pic>
      <p:sp>
        <p:nvSpPr>
          <p:cNvPr id="119" name="Oval 6"/>
          <p:cNvSpPr/>
          <p:nvPr/>
        </p:nvSpPr>
        <p:spPr>
          <a:xfrm>
            <a:off x="4071960" y="3357720"/>
            <a:ext cx="863640" cy="9349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5286240" y="3571920"/>
            <a:ext cx="93528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V$OBWGR~R)N8@SOEK60P1TQ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2" name="椭圆形标注1 91"/>
          <p:cNvSpPr/>
          <p:nvPr/>
        </p:nvSpPr>
        <p:spPr>
          <a:xfrm>
            <a:off x="3564000" y="0"/>
            <a:ext cx="5761080" cy="2276640"/>
          </a:xfrm>
          <a:prstGeom prst="wedgeEllipseCallout">
            <a:avLst>
              <a:gd name="adj1" fmla="val -22787"/>
              <a:gd name="adj2" fmla="val 65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067280" y="260280"/>
            <a:ext cx="482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weekend,we're going to a fruit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55640" y="5877000"/>
            <a:ext cx="7993080" cy="577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will they do on the fruit fa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716360" y="1413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e'll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ick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629080" y="5157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pick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fru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41360" y="1428840"/>
            <a:ext cx="7832880" cy="329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215040" y="2786040"/>
            <a:ext cx="18003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1571760" y="2928960"/>
            <a:ext cx="2338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6022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340000" y="6093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ill they pick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36360" y="620640"/>
            <a:ext cx="258300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2987640" y="333360"/>
            <a:ext cx="3889440" cy="1800360"/>
          </a:xfrm>
          <a:prstGeom prst="wedgeEllipseCallout">
            <a:avLst>
              <a:gd name="adj1" fmla="val -44856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419640" y="47628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700360" y="404640"/>
            <a:ext cx="6084720" cy="649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will they p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52360" y="571680"/>
            <a:ext cx="7488360" cy="6286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/>
          <p:cNvSpPr/>
          <p:nvPr/>
        </p:nvSpPr>
        <p:spPr>
          <a:xfrm>
            <a:off x="1327320" y="714240"/>
            <a:ext cx="3887640" cy="1800360"/>
          </a:xfrm>
          <a:prstGeom prst="wedgeEllipseCallout">
            <a:avLst>
              <a:gd name="adj1" fmla="val 2263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201080" y="2419200"/>
            <a:ext cx="1871640" cy="1009800"/>
          </a:xfrm>
          <a:prstGeom prst="wedgeEllipseCallout">
            <a:avLst>
              <a:gd name="adj1" fmla="val -30833"/>
              <a:gd name="adj2" fmla="val 11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632720" y="26352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608360" y="839880"/>
            <a:ext cx="3672000" cy="2232000"/>
          </a:xfrm>
          <a:prstGeom prst="cloudCallout">
            <a:avLst>
              <a:gd name="adj1" fmla="val -19115"/>
              <a:gd name="adj2" fmla="val 964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897440" y="14158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ut I don't 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4897440" y="3933720"/>
            <a:ext cx="1511280" cy="1300320"/>
          </a:xfrm>
          <a:prstGeom prst="rect">
            <a:avLst/>
          </a:prstGeom>
          <a:ln w="0">
            <a:noFill/>
          </a:ln>
        </p:spPr>
      </p:pic>
      <p:sp>
        <p:nvSpPr>
          <p:cNvPr id="144" name="Oval 9"/>
          <p:cNvSpPr/>
          <p:nvPr/>
        </p:nvSpPr>
        <p:spPr>
          <a:xfrm>
            <a:off x="6265800" y="3429000"/>
            <a:ext cx="2158920" cy="2016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830240" y="8571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1:05:24Z</dcterms:created>
  <dc:creator>viaton</dc:creator>
  <dc:description/>
  <dc:language>en-US</dc:language>
  <cp:lastModifiedBy>Admin</cp:lastModifiedBy>
  <dcterms:modified xsi:type="dcterms:W3CDTF">2017-06-09T04:46:04Z</dcterms:modified>
  <cp:revision>33</cp:revision>
  <dc:subject/>
  <dc:title>外研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