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chimes.wav" ContentType="audio/x-wav"/>
  <Override PartName="/ppt/media/image29.png" ContentType="image/png"/>
  <Override PartName="/ppt/media/image7.png" ContentType="image/png"/>
  <Override PartName="/ppt/media/image37.png" ContentType="image/png"/>
  <Override PartName="/ppt/media/image3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type.wav" ContentType="audio/x-wav"/>
  <Override PartName="/ppt/media/image17.png" ContentType="image/png"/>
  <Override PartName="/ppt/media/image27.jpeg" ContentType="image/jpeg"/>
  <Override PartName="/ppt/media/image5.wmf" ContentType="image/x-wmf"/>
  <Override PartName="/ppt/media/image1.jpeg" ContentType="image/jpeg"/>
  <Override PartName="/ppt/media/image10.png" ContentType="image/png"/>
  <Override PartName="/ppt/media/image28.png" ContentType="image/png"/>
  <Override PartName="/ppt/media/image31.png" ContentType="image/png"/>
  <Override PartName="/ppt/media/image11.png" ContentType="image/png"/>
  <Override PartName="/ppt/media/image35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30.png" ContentType="image/png"/>
  <Override PartName="/ppt/media/image3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3.png" ContentType="image/png"/>
  <Override PartName="/ppt/media/image14.png" ContentType="image/png"/>
  <Override PartName="/ppt/media/image16.png" ContentType="image/png"/>
  <Override PartName="/ppt/media/wind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7B5A-15E7-40E4-9A4E-1F5524EC0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43000" y="402084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3D6C-1AAC-4184-BE1D-01AA491F4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1680" y="175212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91680" y="4020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8CF8-3722-4492-8505-F983DC25C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6200" y="175212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9400" y="175212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43000" y="402084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6200" y="402084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9400" y="402084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8CAE-6EB6-41BA-A50F-F9EF2D82E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1F351-9210-489B-BE93-65FF8F1CE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143000" y="175212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48188-E6C4-41E4-8CB7-37C5ADC60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82870-EBC4-4AC4-A27D-F0E63D10B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1680" y="175212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A8B98-BADF-46B5-8075-AEFFABFEE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10219-EF2D-4F13-8A55-87C7DBD6D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1426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7029C-2D88-4010-989C-FA7AB176C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91680" y="175212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253BF-50C6-45C1-B64A-FA654D44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43000" y="175212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BC90-5A8F-4086-AECA-282C2034A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1680" y="175212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91680" y="4020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A2CF6-FF92-4C04-A7BB-46F1B978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1680" y="175212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C8781-E294-4FA5-A618-6F24B1F7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143000" y="402084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6391D-D5ED-4C9F-A637-E12B03270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1680" y="175212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91680" y="4020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3D5A6-4BD1-4A41-B2A1-6E2BD3FD2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16200" y="175212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89400" y="175212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143000" y="402084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16200" y="402084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89400" y="402084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00A1F-D1E3-4198-94A5-E7E3EA765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26F9-518F-426B-A002-658A90BBF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91680" y="175212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4AB5-403A-4F1F-A1D7-CED1BB3BF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EEA2-7FF8-4325-8A0E-15AC834BE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26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5510-BC7F-4546-AE58-E7FAF951E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1680" y="175212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B053-A992-41C7-B178-2CB48BE4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1680" y="175212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91680" y="4020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7A5C-6FA3-42E3-BA2E-AA0AFF6B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1680" y="175212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F136-3FFC-47DE-92B3-FECF5CAC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pptwork\0723\서식용\BL01_4_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-소망B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75212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소망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소망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소망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소망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소망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728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416040" y="62276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-소망M"/>
                <a:ea typeface="-소망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AAD14-F09D-4A2C-AC5A-B27D6D4AFBD4}" type="slidenum">
              <a:rPr b="0" lang="zh-CN" sz="1400" spc="-1" strike="noStrike">
                <a:solidFill>
                  <a:srgbClr val="000000"/>
                </a:solidFill>
                <a:latin typeface="-소망M"/>
                <a:ea typeface="-소망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椭圆 10"/>
          <p:cNvSpPr/>
          <p:nvPr/>
        </p:nvSpPr>
        <p:spPr>
          <a:xfrm>
            <a:off x="71280" y="142920"/>
            <a:ext cx="928800" cy="100008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图片 8" descr="LOGO.jpg"/>
          <p:cNvPicPr/>
          <p:nvPr/>
        </p:nvPicPr>
        <p:blipFill>
          <a:blip r:embed="rId4"/>
          <a:stretch/>
        </p:blipFill>
        <p:spPr>
          <a:xfrm>
            <a:off x="0" y="14292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pptwork\0723\서식용\BL01_4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4"/>
          <a:stretch/>
        </p:blipFill>
        <p:spPr>
          <a:xfrm>
            <a:off x="714240" y="2500200"/>
            <a:ext cx="1071720" cy="10717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-소망B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143000" y="175212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소망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소망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소망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소망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소망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-소망M"/>
                <a:ea typeface="-소망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85F76-FF5D-4D20-81BB-C1A3FFF4B496}" type="slidenum">
              <a:rPr b="0" lang="zh-CN" sz="1400" spc="-1" strike="noStrike">
                <a:solidFill>
                  <a:srgbClr val="000000"/>
                </a:solidFill>
                <a:latin typeface="-소망M"/>
                <a:ea typeface="-소망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audio" Target="../media/wind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2" descr="C:\Documents and Settings\Administrator\Local Settings\Temporary Internet Files\Content.IE5\3QLB9KBU\MC900343351[1].wmf"/>
          <p:cNvPicPr/>
          <p:nvPr/>
        </p:nvPicPr>
        <p:blipFill>
          <a:blip r:embed="rId1"/>
          <a:stretch/>
        </p:blipFill>
        <p:spPr>
          <a:xfrm>
            <a:off x="7000920" y="4857840"/>
            <a:ext cx="1743120" cy="1685880"/>
          </a:xfrm>
          <a:prstGeom prst="rect">
            <a:avLst/>
          </a:prstGeom>
          <a:ln w="0">
            <a:noFill/>
          </a:ln>
        </p:spPr>
      </p:pic>
      <p:sp>
        <p:nvSpPr>
          <p:cNvPr id="88" name="矩形 4"/>
          <p:cNvSpPr/>
          <p:nvPr/>
        </p:nvSpPr>
        <p:spPr>
          <a:xfrm>
            <a:off x="2000160" y="2357280"/>
            <a:ext cx="628668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Times New Roman"/>
                <a:ea typeface="黑体"/>
              </a:rPr>
              <a:t>Module 4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Times New Roman"/>
                <a:ea typeface="黑体"/>
              </a:rPr>
              <a:t>Unit 1 We’ll pick fru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43000" y="175212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36360" y="0"/>
            <a:ext cx="907416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5"/>
          <p:cNvSpPr/>
          <p:nvPr/>
        </p:nvSpPr>
        <p:spPr>
          <a:xfrm>
            <a:off x="108000" y="404640"/>
            <a:ext cx="4176720" cy="1584360"/>
          </a:xfrm>
          <a:prstGeom prst="wedgeRoundRectCallout">
            <a:avLst>
              <a:gd name="adj1" fmla="val -21462"/>
              <a:gd name="adj2" fmla="val 8122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179280" y="260280"/>
            <a:ext cx="37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What oth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fruit will we pic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179280" y="134136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Will we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pick pea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8"/>
          <p:cNvSpPr/>
          <p:nvPr/>
        </p:nvSpPr>
        <p:spPr>
          <a:xfrm>
            <a:off x="5508720" y="836640"/>
            <a:ext cx="1800000" cy="1008000"/>
          </a:xfrm>
          <a:prstGeom prst="wedgeRoundRectCallout">
            <a:avLst>
              <a:gd name="adj1" fmla="val -43750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5580000" y="765000"/>
            <a:ext cx="16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Ye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we wi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0" descr=""/>
          <p:cNvPicPr/>
          <p:nvPr/>
        </p:nvPicPr>
        <p:blipFill>
          <a:blip r:embed="rId2"/>
          <a:stretch/>
        </p:blipFill>
        <p:spPr>
          <a:xfrm>
            <a:off x="539640" y="2709720"/>
            <a:ext cx="1440000" cy="1247760"/>
          </a:xfrm>
          <a:prstGeom prst="rect">
            <a:avLst/>
          </a:prstGeom>
          <a:ln w="0">
            <a:noFill/>
          </a:ln>
        </p:spPr>
      </p:pic>
      <p:sp>
        <p:nvSpPr>
          <p:cNvPr id="155" name="笔 217"/>
          <p:cNvSpPr/>
          <p:nvPr/>
        </p:nvSpPr>
        <p:spPr>
          <a:xfrm>
            <a:off x="36360" y="6526080"/>
            <a:ext cx="216000" cy="360360"/>
          </a:xfrm>
          <a:custGeom>
            <a:avLst/>
            <a:gdLst/>
            <a:ahLst/>
            <a:rect l="l" t="t" r="r" b="b"/>
            <a:pathLst>
              <a:path w="621055" h="978642">
                <a:moveTo>
                  <a:pt x="13003" y="762005"/>
                </a:moveTo>
                <a:lnTo>
                  <a:pt x="181111" y="859062"/>
                </a:lnTo>
                <a:lnTo>
                  <a:pt x="0" y="978642"/>
                </a:lnTo>
                <a:lnTo>
                  <a:pt x="13003" y="762005"/>
                </a:lnTo>
                <a:close/>
                <a:moveTo>
                  <a:pt x="502622" y="186898"/>
                </a:moveTo>
                <a:lnTo>
                  <a:pt x="175090" y="754200"/>
                </a:lnTo>
                <a:lnTo>
                  <a:pt x="196101" y="766331"/>
                </a:lnTo>
                <a:lnTo>
                  <a:pt x="523633" y="199029"/>
                </a:lnTo>
                <a:lnTo>
                  <a:pt x="502622" y="186898"/>
                </a:lnTo>
                <a:close/>
                <a:moveTo>
                  <a:pt x="457985" y="161127"/>
                </a:moveTo>
                <a:lnTo>
                  <a:pt x="130453" y="728429"/>
                </a:lnTo>
                <a:lnTo>
                  <a:pt x="151464" y="740560"/>
                </a:lnTo>
                <a:lnTo>
                  <a:pt x="478996" y="173258"/>
                </a:lnTo>
                <a:lnTo>
                  <a:pt x="457985" y="161127"/>
                </a:lnTo>
                <a:close/>
                <a:moveTo>
                  <a:pt x="413348" y="135356"/>
                </a:moveTo>
                <a:lnTo>
                  <a:pt x="85816" y="702658"/>
                </a:lnTo>
                <a:lnTo>
                  <a:pt x="106827" y="714789"/>
                </a:lnTo>
                <a:lnTo>
                  <a:pt x="434359" y="147487"/>
                </a:lnTo>
                <a:lnTo>
                  <a:pt x="413348" y="135356"/>
                </a:lnTo>
                <a:close/>
                <a:moveTo>
                  <a:pt x="417712" y="61029"/>
                </a:moveTo>
                <a:lnTo>
                  <a:pt x="585820" y="158086"/>
                </a:lnTo>
                <a:lnTo>
                  <a:pt x="191736" y="840659"/>
                </a:lnTo>
                <a:lnTo>
                  <a:pt x="23628" y="743602"/>
                </a:lnTo>
                <a:lnTo>
                  <a:pt x="417712" y="61029"/>
                </a:lnTo>
                <a:close/>
                <a:moveTo>
                  <a:pt x="452947" y="0"/>
                </a:moveTo>
                <a:lnTo>
                  <a:pt x="621055" y="97057"/>
                </a:lnTo>
                <a:lnTo>
                  <a:pt x="596793" y="139079"/>
                </a:lnTo>
                <a:lnTo>
                  <a:pt x="428686" y="42022"/>
                </a:lnTo>
                <a:lnTo>
                  <a:pt x="452947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91" dur="2000" fill="hold"/>
                                        <p:tgtEl>
                                          <p:spTgt spid="1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80"/>
                </a:solidFill>
                <a:latin typeface="-소망B"/>
              </a:rPr>
              <a:t>   </a:t>
            </a:r>
            <a:r>
              <a:rPr b="1" lang="zh-CN" sz="4000" spc="-1" strike="noStrike">
                <a:solidFill>
                  <a:srgbClr val="000080"/>
                </a:solidFill>
                <a:latin typeface="-소망B"/>
              </a:rPr>
              <a:t>What are they doing?</a:t>
            </a:r>
            <a:endParaRPr b="0" lang="en-US" sz="4000" spc="-1" strike="noStrike">
              <a:solidFill>
                <a:srgbClr val="000080"/>
              </a:solidFill>
              <a:latin typeface="-소망B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459640" cy="472104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4"/>
          <p:cNvSpPr/>
          <p:nvPr/>
        </p:nvSpPr>
        <p:spPr>
          <a:xfrm>
            <a:off x="611280" y="1341360"/>
            <a:ext cx="4248000" cy="1295640"/>
          </a:xfrm>
          <a:prstGeom prst="wedgeEllipseCallout">
            <a:avLst>
              <a:gd name="adj1" fmla="val 36245"/>
              <a:gd name="adj2" fmla="val 77175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2"/>
          <a:stretch/>
        </p:blipFill>
        <p:spPr>
          <a:xfrm>
            <a:off x="1403280" y="1917720"/>
            <a:ext cx="1800360" cy="15494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"/>
          <p:cNvPicPr/>
          <p:nvPr/>
        </p:nvPicPr>
        <p:blipFill>
          <a:blip r:embed="rId3"/>
          <a:stretch/>
        </p:blipFill>
        <p:spPr>
          <a:xfrm>
            <a:off x="3132000" y="2997360"/>
            <a:ext cx="3097440" cy="2808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"/>
          <p:cNvPicPr/>
          <p:nvPr/>
        </p:nvPicPr>
        <p:blipFill>
          <a:blip r:embed="rId4"/>
          <a:stretch/>
        </p:blipFill>
        <p:spPr>
          <a:xfrm>
            <a:off x="250920" y="3357720"/>
            <a:ext cx="2303280" cy="25430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8"/>
          <p:cNvSpPr/>
          <p:nvPr/>
        </p:nvSpPr>
        <p:spPr>
          <a:xfrm>
            <a:off x="684360" y="6093000"/>
            <a:ext cx="82296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y are arguing.(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争吵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1143000" y="200772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108000" y="1380960"/>
            <a:ext cx="8893080" cy="496260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4"/>
          <p:cNvSpPr/>
          <p:nvPr/>
        </p:nvSpPr>
        <p:spPr>
          <a:xfrm>
            <a:off x="396720" y="1380960"/>
            <a:ext cx="4537080" cy="1513080"/>
          </a:xfrm>
          <a:prstGeom prst="wedgeEllipseCallout">
            <a:avLst>
              <a:gd name="adj1" fmla="val 36129"/>
              <a:gd name="adj2" fmla="val 70527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2"/>
          <a:stretch/>
        </p:blipFill>
        <p:spPr>
          <a:xfrm>
            <a:off x="1403280" y="2532240"/>
            <a:ext cx="1508040" cy="129672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6"/>
          <p:cNvSpPr/>
          <p:nvPr/>
        </p:nvSpPr>
        <p:spPr>
          <a:xfrm>
            <a:off x="-36360" y="1165320"/>
            <a:ext cx="3492360" cy="647640"/>
          </a:xfrm>
          <a:prstGeom prst="wedgeRoundRectCallout">
            <a:avLst>
              <a:gd name="adj1" fmla="val -15171"/>
              <a:gd name="adj2" fmla="val 7634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7"/>
          <p:cNvSpPr/>
          <p:nvPr/>
        </p:nvSpPr>
        <p:spPr>
          <a:xfrm>
            <a:off x="5148360" y="6205680"/>
            <a:ext cx="2879640" cy="576000"/>
          </a:xfrm>
          <a:prstGeom prst="wedgeRoundRectCallout">
            <a:avLst>
              <a:gd name="adj1" fmla="val -40689"/>
              <a:gd name="adj2" fmla="val -7909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8"/>
          <p:cNvSpPr/>
          <p:nvPr/>
        </p:nvSpPr>
        <p:spPr>
          <a:xfrm>
            <a:off x="3132000" y="3108240"/>
            <a:ext cx="2735280" cy="577800"/>
          </a:xfrm>
          <a:prstGeom prst="wedgeRoundRectCallout">
            <a:avLst>
              <a:gd name="adj1" fmla="val -15171"/>
              <a:gd name="adj2" fmla="val 7634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9"/>
          <p:cNvSpPr/>
          <p:nvPr/>
        </p:nvSpPr>
        <p:spPr>
          <a:xfrm>
            <a:off x="3924360" y="1165320"/>
            <a:ext cx="3384360" cy="576000"/>
          </a:xfrm>
          <a:prstGeom prst="wedgeRoundRectCallout">
            <a:avLst>
              <a:gd name="adj1" fmla="val -33069"/>
              <a:gd name="adj2" fmla="val 15734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0"/>
          <p:cNvSpPr/>
          <p:nvPr/>
        </p:nvSpPr>
        <p:spPr>
          <a:xfrm>
            <a:off x="108000" y="2028960"/>
            <a:ext cx="2663640" cy="576000"/>
          </a:xfrm>
          <a:prstGeom prst="wedgeRoundRectCallout">
            <a:avLst>
              <a:gd name="adj1" fmla="val -15180"/>
              <a:gd name="adj2" fmla="val 15734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1"/>
          <p:cNvSpPr/>
          <p:nvPr/>
        </p:nvSpPr>
        <p:spPr>
          <a:xfrm>
            <a:off x="108000" y="6205680"/>
            <a:ext cx="2663640" cy="647640"/>
          </a:xfrm>
          <a:prstGeom prst="wedgeRoundRectCallout">
            <a:avLst>
              <a:gd name="adj1" fmla="val -12893"/>
              <a:gd name="adj2" fmla="val -7277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0" y="1236600"/>
            <a:ext cx="337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'll pick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twelv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p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3"/>
          <p:cNvSpPr/>
          <p:nvPr/>
        </p:nvSpPr>
        <p:spPr>
          <a:xfrm>
            <a:off x="179280" y="6276960"/>
            <a:ext cx="337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'll pick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twent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4"/>
          <p:cNvSpPr/>
          <p:nvPr/>
        </p:nvSpPr>
        <p:spPr>
          <a:xfrm>
            <a:off x="3060720" y="3108240"/>
            <a:ext cx="337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'll pick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fourtee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5"/>
          <p:cNvSpPr/>
          <p:nvPr/>
        </p:nvSpPr>
        <p:spPr>
          <a:xfrm>
            <a:off x="4067280" y="1165320"/>
            <a:ext cx="337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'll pick 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te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app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6"/>
          <p:cNvSpPr/>
          <p:nvPr/>
        </p:nvSpPr>
        <p:spPr>
          <a:xfrm>
            <a:off x="179280" y="202896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'll pick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sixtee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7"/>
          <p:cNvSpPr/>
          <p:nvPr/>
        </p:nvSpPr>
        <p:spPr>
          <a:xfrm>
            <a:off x="5148360" y="6205680"/>
            <a:ext cx="33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'll pick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eightee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18"/>
          <p:cNvSpPr/>
          <p:nvPr/>
        </p:nvSpPr>
        <p:spPr>
          <a:xfrm>
            <a:off x="3637080" y="1236600"/>
            <a:ext cx="431640" cy="4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19"/>
          <p:cNvSpPr/>
          <p:nvPr/>
        </p:nvSpPr>
        <p:spPr>
          <a:xfrm>
            <a:off x="2143080" y="853920"/>
            <a:ext cx="433440" cy="43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20"/>
          <p:cNvSpPr/>
          <p:nvPr/>
        </p:nvSpPr>
        <p:spPr>
          <a:xfrm>
            <a:off x="2700360" y="3181320"/>
            <a:ext cx="43164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21"/>
          <p:cNvSpPr/>
          <p:nvPr/>
        </p:nvSpPr>
        <p:spPr>
          <a:xfrm>
            <a:off x="0" y="2532240"/>
            <a:ext cx="43164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22"/>
          <p:cNvSpPr/>
          <p:nvPr/>
        </p:nvSpPr>
        <p:spPr>
          <a:xfrm>
            <a:off x="4861080" y="634824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23"/>
          <p:cNvSpPr/>
          <p:nvPr/>
        </p:nvSpPr>
        <p:spPr>
          <a:xfrm>
            <a:off x="108000" y="5989680"/>
            <a:ext cx="43164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笔 217"/>
          <p:cNvSpPr/>
          <p:nvPr/>
        </p:nvSpPr>
        <p:spPr>
          <a:xfrm>
            <a:off x="8820000" y="6429240"/>
            <a:ext cx="216000" cy="360360"/>
          </a:xfrm>
          <a:custGeom>
            <a:avLst/>
            <a:gdLst/>
            <a:ahLst/>
            <a:rect l="l" t="t" r="r" b="b"/>
            <a:pathLst>
              <a:path w="621055" h="978642">
                <a:moveTo>
                  <a:pt x="13003" y="762005"/>
                </a:moveTo>
                <a:lnTo>
                  <a:pt x="181111" y="859062"/>
                </a:lnTo>
                <a:lnTo>
                  <a:pt x="0" y="978642"/>
                </a:lnTo>
                <a:lnTo>
                  <a:pt x="13003" y="762005"/>
                </a:lnTo>
                <a:close/>
                <a:moveTo>
                  <a:pt x="502622" y="186898"/>
                </a:moveTo>
                <a:lnTo>
                  <a:pt x="175090" y="754200"/>
                </a:lnTo>
                <a:lnTo>
                  <a:pt x="196101" y="766331"/>
                </a:lnTo>
                <a:lnTo>
                  <a:pt x="523633" y="199029"/>
                </a:lnTo>
                <a:lnTo>
                  <a:pt x="502622" y="186898"/>
                </a:lnTo>
                <a:close/>
                <a:moveTo>
                  <a:pt x="457985" y="161127"/>
                </a:moveTo>
                <a:lnTo>
                  <a:pt x="130453" y="728429"/>
                </a:lnTo>
                <a:lnTo>
                  <a:pt x="151464" y="740560"/>
                </a:lnTo>
                <a:lnTo>
                  <a:pt x="478996" y="173258"/>
                </a:lnTo>
                <a:lnTo>
                  <a:pt x="457985" y="161127"/>
                </a:lnTo>
                <a:close/>
                <a:moveTo>
                  <a:pt x="413348" y="135356"/>
                </a:moveTo>
                <a:lnTo>
                  <a:pt x="85816" y="702658"/>
                </a:lnTo>
                <a:lnTo>
                  <a:pt x="106827" y="714789"/>
                </a:lnTo>
                <a:lnTo>
                  <a:pt x="434359" y="147487"/>
                </a:lnTo>
                <a:lnTo>
                  <a:pt x="413348" y="135356"/>
                </a:lnTo>
                <a:close/>
                <a:moveTo>
                  <a:pt x="417712" y="61029"/>
                </a:moveTo>
                <a:lnTo>
                  <a:pt x="585820" y="158086"/>
                </a:lnTo>
                <a:lnTo>
                  <a:pt x="191736" y="840659"/>
                </a:lnTo>
                <a:lnTo>
                  <a:pt x="23628" y="743602"/>
                </a:lnTo>
                <a:lnTo>
                  <a:pt x="417712" y="61029"/>
                </a:lnTo>
                <a:close/>
                <a:moveTo>
                  <a:pt x="452947" y="0"/>
                </a:moveTo>
                <a:lnTo>
                  <a:pt x="621055" y="97057"/>
                </a:lnTo>
                <a:lnTo>
                  <a:pt x="596793" y="139079"/>
                </a:lnTo>
                <a:lnTo>
                  <a:pt x="428686" y="42022"/>
                </a:lnTo>
                <a:lnTo>
                  <a:pt x="452947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2640" y="14284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143000" y="257148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1"/>
          <a:stretch/>
        </p:blipFill>
        <p:spPr>
          <a:xfrm>
            <a:off x="36360" y="0"/>
            <a:ext cx="9072720" cy="6929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"/>
          <p:cNvPicPr/>
          <p:nvPr/>
        </p:nvPicPr>
        <p:blipFill>
          <a:blip r:embed="rId2"/>
          <a:stretch/>
        </p:blipFill>
        <p:spPr>
          <a:xfrm>
            <a:off x="108000" y="863640"/>
            <a:ext cx="2454120" cy="1368360"/>
          </a:xfrm>
          <a:prstGeom prst="rect">
            <a:avLst/>
          </a:prstGeom>
          <a:ln w="0">
            <a:noFill/>
          </a:ln>
        </p:spPr>
      </p:pic>
      <p:sp>
        <p:nvSpPr>
          <p:cNvPr id="190" name="Oval 6"/>
          <p:cNvSpPr/>
          <p:nvPr/>
        </p:nvSpPr>
        <p:spPr>
          <a:xfrm>
            <a:off x="36360" y="819000"/>
            <a:ext cx="2664000" cy="1557360"/>
          </a:xfrm>
          <a:prstGeom prst="ellipse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828720" y="2448000"/>
            <a:ext cx="2589120" cy="1584360"/>
          </a:xfrm>
          <a:prstGeom prst="cloudCallout">
            <a:avLst>
              <a:gd name="adj1" fmla="val 9972"/>
              <a:gd name="adj2" fmla="val 90495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Let's go now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my and S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6732720" y="3311640"/>
            <a:ext cx="2160360" cy="1368360"/>
          </a:xfrm>
          <a:prstGeom prst="cloudCallout">
            <a:avLst>
              <a:gd name="adj1" fmla="val 9972"/>
              <a:gd name="adj2" fmla="val 90495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oor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0" y="1356840"/>
            <a:ext cx="9145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-소망M"/>
              </a:rPr>
              <a:t>           </a:t>
            </a:r>
            <a:r>
              <a:rPr b="0" lang="zh-CN" sz="2800" spc="-1" strike="noStrike">
                <a:solidFill>
                  <a:srgbClr val="800080"/>
                </a:solidFill>
                <a:latin typeface="-소망M"/>
              </a:rPr>
              <a:t>三人一组分角色朗读整篇课文。</a:t>
            </a:r>
            <a:endParaRPr b="0" lang="en-US" sz="28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-소망M"/>
              </a:rPr>
              <a:t>       </a:t>
            </a:r>
            <a:r>
              <a:rPr b="0" lang="zh-CN" sz="2800" spc="-1" strike="noStrike">
                <a:solidFill>
                  <a:srgbClr val="800080"/>
                </a:solidFill>
                <a:latin typeface="-소망M"/>
              </a:rPr>
              <a:t>根据你们的表现，可以获得不同奖励哦！</a:t>
            </a:r>
            <a:endParaRPr b="0" lang="en-US" sz="28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800080"/>
                </a:solidFill>
                <a:latin typeface="-소망M"/>
              </a:rPr>
              <a:t>            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800080"/>
                </a:solidFill>
                <a:latin typeface="-소망M"/>
              </a:rPr>
              <a:t>           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800080"/>
                </a:solidFill>
                <a:latin typeface="-소망M"/>
              </a:rPr>
              <a:t>            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800080"/>
                </a:solidFill>
                <a:latin typeface="-소망M"/>
              </a:rPr>
              <a:t>           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80"/>
                </a:solidFill>
                <a:latin typeface="-소망M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-소망M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2286000" y="64296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n ro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4"/>
          <p:cNvGrpSpPr/>
          <p:nvPr/>
        </p:nvGrpSpPr>
        <p:grpSpPr>
          <a:xfrm>
            <a:off x="1476360" y="2161080"/>
            <a:ext cx="3976200" cy="741600"/>
            <a:chOff x="1476360" y="2161080"/>
            <a:chExt cx="3976200" cy="741600"/>
          </a:xfrm>
        </p:grpSpPr>
        <p:sp>
          <p:nvSpPr>
            <p:cNvPr id="196" name="AutoShape 5"/>
            <p:cNvSpPr/>
            <p:nvPr/>
          </p:nvSpPr>
          <p:spPr>
            <a:xfrm flipV="1" rot="2040000">
              <a:off x="4786200" y="2277720"/>
              <a:ext cx="573120" cy="507960"/>
            </a:xfrm>
            <a:custGeom>
              <a:avLst/>
              <a:gdLst/>
              <a:ahLst/>
              <a:rect l="l" t="t" r="r" b="b"/>
              <a:pathLst>
                <a:path w="903" h="801">
                  <a:moveTo>
                    <a:pt x="0" y="305"/>
                  </a:moveTo>
                  <a:lnTo>
                    <a:pt x="344" y="305"/>
                  </a:lnTo>
                  <a:lnTo>
                    <a:pt x="451" y="0"/>
                  </a:lnTo>
                  <a:lnTo>
                    <a:pt x="558" y="305"/>
                  </a:lnTo>
                  <a:lnTo>
                    <a:pt x="902" y="305"/>
                  </a:lnTo>
                  <a:lnTo>
                    <a:pt x="623" y="495"/>
                  </a:lnTo>
                  <a:lnTo>
                    <a:pt x="730" y="800"/>
                  </a:lnTo>
                  <a:lnTo>
                    <a:pt x="451" y="611"/>
                  </a:lnTo>
                  <a:lnTo>
                    <a:pt x="172" y="800"/>
                  </a:lnTo>
                  <a:lnTo>
                    <a:pt x="279" y="495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6"/>
            <p:cNvSpPr/>
            <p:nvPr/>
          </p:nvSpPr>
          <p:spPr>
            <a:xfrm>
              <a:off x="1476360" y="2205000"/>
              <a:ext cx="3094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800080"/>
                  </a:solidFill>
                  <a:latin typeface="Arial"/>
                </a:rPr>
                <a:t>1. </a:t>
              </a:r>
              <a:r>
                <a:rPr b="0" lang="zh-CN" sz="3200" spc="-1" strike="noStrike">
                  <a:solidFill>
                    <a:srgbClr val="800080"/>
                  </a:solidFill>
                  <a:latin typeface="Arial"/>
                </a:rPr>
                <a:t>正确朗读课文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7"/>
          <p:cNvGrpSpPr/>
          <p:nvPr/>
        </p:nvGrpSpPr>
        <p:grpSpPr>
          <a:xfrm>
            <a:off x="1547640" y="3095640"/>
            <a:ext cx="4843080" cy="741960"/>
            <a:chOff x="1547640" y="3095640"/>
            <a:chExt cx="4843080" cy="741960"/>
          </a:xfrm>
        </p:grpSpPr>
        <p:sp>
          <p:nvSpPr>
            <p:cNvPr id="199" name="AutoShape 8"/>
            <p:cNvSpPr/>
            <p:nvPr/>
          </p:nvSpPr>
          <p:spPr>
            <a:xfrm flipV="1" rot="2040000">
              <a:off x="5724720" y="3211920"/>
              <a:ext cx="572760" cy="508680"/>
            </a:xfrm>
            <a:custGeom>
              <a:avLst/>
              <a:gdLst/>
              <a:ahLst/>
              <a:rect l="l" t="t" r="r" b="b"/>
              <a:pathLst>
                <a:path w="902" h="800">
                  <a:moveTo>
                    <a:pt x="0" y="305"/>
                  </a:moveTo>
                  <a:lnTo>
                    <a:pt x="344" y="305"/>
                  </a:lnTo>
                  <a:lnTo>
                    <a:pt x="451" y="0"/>
                  </a:lnTo>
                  <a:lnTo>
                    <a:pt x="557" y="305"/>
                  </a:lnTo>
                  <a:lnTo>
                    <a:pt x="901" y="305"/>
                  </a:lnTo>
                  <a:lnTo>
                    <a:pt x="623" y="494"/>
                  </a:lnTo>
                  <a:lnTo>
                    <a:pt x="729" y="799"/>
                  </a:lnTo>
                  <a:lnTo>
                    <a:pt x="451" y="611"/>
                  </a:lnTo>
                  <a:lnTo>
                    <a:pt x="172" y="799"/>
                  </a:lnTo>
                  <a:lnTo>
                    <a:pt x="278" y="494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9"/>
            <p:cNvSpPr/>
            <p:nvPr/>
          </p:nvSpPr>
          <p:spPr>
            <a:xfrm flipV="1" rot="2040000">
              <a:off x="4861080" y="3211920"/>
              <a:ext cx="572760" cy="508680"/>
            </a:xfrm>
            <a:custGeom>
              <a:avLst/>
              <a:gdLst/>
              <a:ahLst/>
              <a:rect l="l" t="t" r="r" b="b"/>
              <a:pathLst>
                <a:path w="902" h="800">
                  <a:moveTo>
                    <a:pt x="0" y="305"/>
                  </a:moveTo>
                  <a:lnTo>
                    <a:pt x="344" y="305"/>
                  </a:lnTo>
                  <a:lnTo>
                    <a:pt x="451" y="0"/>
                  </a:lnTo>
                  <a:lnTo>
                    <a:pt x="557" y="305"/>
                  </a:lnTo>
                  <a:lnTo>
                    <a:pt x="901" y="305"/>
                  </a:lnTo>
                  <a:lnTo>
                    <a:pt x="623" y="494"/>
                  </a:lnTo>
                  <a:lnTo>
                    <a:pt x="729" y="799"/>
                  </a:lnTo>
                  <a:lnTo>
                    <a:pt x="451" y="611"/>
                  </a:lnTo>
                  <a:lnTo>
                    <a:pt x="172" y="799"/>
                  </a:lnTo>
                  <a:lnTo>
                    <a:pt x="278" y="494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10"/>
            <p:cNvSpPr/>
            <p:nvPr/>
          </p:nvSpPr>
          <p:spPr>
            <a:xfrm>
              <a:off x="1547640" y="3213000"/>
              <a:ext cx="324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800080"/>
                  </a:solidFill>
                  <a:latin typeface="Arial"/>
                </a:rPr>
                <a:t>2. </a:t>
              </a:r>
              <a:r>
                <a:rPr b="0" lang="zh-CN" sz="3200" spc="-1" strike="noStrike">
                  <a:solidFill>
                    <a:srgbClr val="800080"/>
                  </a:solidFill>
                  <a:latin typeface="Arial"/>
                </a:rPr>
                <a:t>有感情的朗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11"/>
          <p:cNvGrpSpPr/>
          <p:nvPr/>
        </p:nvGrpSpPr>
        <p:grpSpPr>
          <a:xfrm>
            <a:off x="1547640" y="4221000"/>
            <a:ext cx="5707800" cy="769680"/>
            <a:chOff x="1547640" y="4221000"/>
            <a:chExt cx="5707800" cy="769680"/>
          </a:xfrm>
        </p:grpSpPr>
        <p:sp>
          <p:nvSpPr>
            <p:cNvPr id="203" name="AutoShape 12"/>
            <p:cNvSpPr/>
            <p:nvPr/>
          </p:nvSpPr>
          <p:spPr>
            <a:xfrm flipV="1" rot="2040000">
              <a:off x="6588000" y="4364640"/>
              <a:ext cx="574560" cy="508320"/>
            </a:xfrm>
            <a:custGeom>
              <a:avLst/>
              <a:gdLst/>
              <a:ahLst/>
              <a:rect l="l" t="t" r="r" b="b"/>
              <a:pathLst>
                <a:path w="905" h="799">
                  <a:moveTo>
                    <a:pt x="0" y="305"/>
                  </a:moveTo>
                  <a:lnTo>
                    <a:pt x="345" y="305"/>
                  </a:lnTo>
                  <a:lnTo>
                    <a:pt x="452" y="0"/>
                  </a:lnTo>
                  <a:lnTo>
                    <a:pt x="559" y="305"/>
                  </a:lnTo>
                  <a:lnTo>
                    <a:pt x="904" y="305"/>
                  </a:lnTo>
                  <a:lnTo>
                    <a:pt x="625" y="493"/>
                  </a:lnTo>
                  <a:lnTo>
                    <a:pt x="732" y="798"/>
                  </a:lnTo>
                  <a:lnTo>
                    <a:pt x="452" y="610"/>
                  </a:lnTo>
                  <a:lnTo>
                    <a:pt x="172" y="798"/>
                  </a:lnTo>
                  <a:lnTo>
                    <a:pt x="279" y="493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13"/>
            <p:cNvSpPr/>
            <p:nvPr/>
          </p:nvSpPr>
          <p:spPr>
            <a:xfrm flipV="1" rot="2040000">
              <a:off x="5797440" y="4364640"/>
              <a:ext cx="574560" cy="508320"/>
            </a:xfrm>
            <a:custGeom>
              <a:avLst/>
              <a:gdLst/>
              <a:ahLst/>
              <a:rect l="l" t="t" r="r" b="b"/>
              <a:pathLst>
                <a:path w="905" h="799">
                  <a:moveTo>
                    <a:pt x="0" y="305"/>
                  </a:moveTo>
                  <a:lnTo>
                    <a:pt x="345" y="305"/>
                  </a:lnTo>
                  <a:lnTo>
                    <a:pt x="452" y="0"/>
                  </a:lnTo>
                  <a:lnTo>
                    <a:pt x="559" y="305"/>
                  </a:lnTo>
                  <a:lnTo>
                    <a:pt x="904" y="305"/>
                  </a:lnTo>
                  <a:lnTo>
                    <a:pt x="625" y="493"/>
                  </a:lnTo>
                  <a:lnTo>
                    <a:pt x="732" y="798"/>
                  </a:lnTo>
                  <a:lnTo>
                    <a:pt x="452" y="610"/>
                  </a:lnTo>
                  <a:lnTo>
                    <a:pt x="172" y="798"/>
                  </a:lnTo>
                  <a:lnTo>
                    <a:pt x="279" y="493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14"/>
            <p:cNvSpPr/>
            <p:nvPr/>
          </p:nvSpPr>
          <p:spPr>
            <a:xfrm flipV="1" rot="2040000">
              <a:off x="4932360" y="4364280"/>
              <a:ext cx="572760" cy="508680"/>
            </a:xfrm>
            <a:custGeom>
              <a:avLst/>
              <a:gdLst/>
              <a:ahLst/>
              <a:rect l="l" t="t" r="r" b="b"/>
              <a:pathLst>
                <a:path w="902" h="799">
                  <a:moveTo>
                    <a:pt x="0" y="305"/>
                  </a:moveTo>
                  <a:lnTo>
                    <a:pt x="344" y="305"/>
                  </a:lnTo>
                  <a:lnTo>
                    <a:pt x="451" y="0"/>
                  </a:lnTo>
                  <a:lnTo>
                    <a:pt x="557" y="305"/>
                  </a:lnTo>
                  <a:lnTo>
                    <a:pt x="901" y="305"/>
                  </a:lnTo>
                  <a:lnTo>
                    <a:pt x="623" y="493"/>
                  </a:lnTo>
                  <a:lnTo>
                    <a:pt x="729" y="798"/>
                  </a:lnTo>
                  <a:lnTo>
                    <a:pt x="451" y="610"/>
                  </a:lnTo>
                  <a:lnTo>
                    <a:pt x="172" y="798"/>
                  </a:lnTo>
                  <a:lnTo>
                    <a:pt x="278" y="493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15"/>
            <p:cNvSpPr/>
            <p:nvPr/>
          </p:nvSpPr>
          <p:spPr>
            <a:xfrm>
              <a:off x="1547640" y="4221000"/>
              <a:ext cx="338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800080"/>
                  </a:solidFill>
                  <a:latin typeface="Arial"/>
                </a:rPr>
                <a:t>3. </a:t>
              </a:r>
              <a:r>
                <a:rPr b="0" lang="zh-CN" sz="3200" spc="-1" strike="noStrike">
                  <a:solidFill>
                    <a:srgbClr val="800080"/>
                  </a:solidFill>
                  <a:latin typeface="Arial"/>
                </a:rPr>
                <a:t>有感情的表演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36360" y="0"/>
            <a:ext cx="3384720" cy="23702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"/>
          <p:cNvPicPr/>
          <p:nvPr/>
        </p:nvPicPr>
        <p:blipFill>
          <a:blip r:embed="rId2"/>
          <a:stretch/>
        </p:blipFill>
        <p:spPr>
          <a:xfrm>
            <a:off x="2771640" y="2421000"/>
            <a:ext cx="3754440" cy="2016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"/>
          <p:cNvPicPr/>
          <p:nvPr/>
        </p:nvPicPr>
        <p:blipFill>
          <a:blip r:embed="rId3"/>
          <a:stretch/>
        </p:blipFill>
        <p:spPr>
          <a:xfrm>
            <a:off x="36360" y="4581360"/>
            <a:ext cx="3619800" cy="2232360"/>
          </a:xfrm>
          <a:prstGeom prst="rect">
            <a:avLst/>
          </a:prstGeom>
          <a:ln w="0">
            <a:noFill/>
          </a:ln>
        </p:spPr>
      </p:pic>
      <p:grpSp>
        <p:nvGrpSpPr>
          <p:cNvPr id="210" name="Group 5"/>
          <p:cNvGrpSpPr/>
          <p:nvPr/>
        </p:nvGrpSpPr>
        <p:grpSpPr>
          <a:xfrm>
            <a:off x="3852720" y="0"/>
            <a:ext cx="5259600" cy="2305080"/>
            <a:chOff x="3852720" y="0"/>
            <a:chExt cx="5259600" cy="2305080"/>
          </a:xfrm>
        </p:grpSpPr>
        <p:pic>
          <p:nvPicPr>
            <p:cNvPr id="211" name="Picture 6" descr=""/>
            <p:cNvPicPr/>
            <p:nvPr/>
          </p:nvPicPr>
          <p:blipFill>
            <a:blip r:embed="rId4"/>
            <a:stretch/>
          </p:blipFill>
          <p:spPr>
            <a:xfrm>
              <a:off x="5652720" y="0"/>
              <a:ext cx="345960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AutoShape 7"/>
            <p:cNvSpPr/>
            <p:nvPr/>
          </p:nvSpPr>
          <p:spPr>
            <a:xfrm>
              <a:off x="3852720" y="836640"/>
              <a:ext cx="1655640" cy="720000"/>
            </a:xfrm>
            <a:prstGeom prst="rightArrow">
              <a:avLst>
                <a:gd name="adj1" fmla="val 50000"/>
                <a:gd name="adj2" fmla="val 5747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oup 8"/>
          <p:cNvGrpSpPr/>
          <p:nvPr/>
        </p:nvGrpSpPr>
        <p:grpSpPr>
          <a:xfrm>
            <a:off x="6012000" y="2637000"/>
            <a:ext cx="3087720" cy="4176360"/>
            <a:chOff x="6012000" y="2637000"/>
            <a:chExt cx="3087720" cy="4176360"/>
          </a:xfrm>
        </p:grpSpPr>
        <p:pic>
          <p:nvPicPr>
            <p:cNvPr id="214" name="Picture 9" descr=""/>
            <p:cNvPicPr/>
            <p:nvPr/>
          </p:nvPicPr>
          <p:blipFill>
            <a:blip r:embed="rId5"/>
            <a:stretch/>
          </p:blipFill>
          <p:spPr>
            <a:xfrm>
              <a:off x="6012000" y="4455000"/>
              <a:ext cx="3087720" cy="235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AutoShape 10"/>
            <p:cNvSpPr/>
            <p:nvPr/>
          </p:nvSpPr>
          <p:spPr>
            <a:xfrm>
              <a:off x="7811640" y="2637000"/>
              <a:ext cx="719640" cy="1583640"/>
            </a:xfrm>
            <a:prstGeom prst="downArrow">
              <a:avLst>
                <a:gd name="adj1" fmla="val 50000"/>
                <a:gd name="adj2" fmla="val 5500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AutoShape 11"/>
          <p:cNvSpPr/>
          <p:nvPr/>
        </p:nvSpPr>
        <p:spPr>
          <a:xfrm rot="10740000">
            <a:off x="4068720" y="5301360"/>
            <a:ext cx="1720800" cy="738360"/>
          </a:xfrm>
          <a:prstGeom prst="rightArrow">
            <a:avLst>
              <a:gd name="adj1" fmla="val 50000"/>
              <a:gd name="adj2" fmla="val 5825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2"/>
          <p:cNvSpPr/>
          <p:nvPr/>
        </p:nvSpPr>
        <p:spPr>
          <a:xfrm>
            <a:off x="1187280" y="3070080"/>
            <a:ext cx="1225800" cy="1150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3"/>
          <p:cNvSpPr/>
          <p:nvPr/>
        </p:nvSpPr>
        <p:spPr>
          <a:xfrm>
            <a:off x="-36360" y="44280"/>
            <a:ext cx="1439640" cy="3603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ruit f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4"/>
          <p:cNvSpPr/>
          <p:nvPr/>
        </p:nvSpPr>
        <p:spPr>
          <a:xfrm>
            <a:off x="0" y="476280"/>
            <a:ext cx="1441440" cy="3603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ick fr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5"/>
          <p:cNvSpPr/>
          <p:nvPr/>
        </p:nvSpPr>
        <p:spPr>
          <a:xfrm>
            <a:off x="6300720" y="1917720"/>
            <a:ext cx="2592360" cy="3589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We'll pick app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6"/>
          <p:cNvSpPr/>
          <p:nvPr/>
        </p:nvSpPr>
        <p:spPr>
          <a:xfrm>
            <a:off x="6012000" y="4510080"/>
            <a:ext cx="2592360" cy="3603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Will we pick pea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17" descr=""/>
          <p:cNvPicPr/>
          <p:nvPr/>
        </p:nvPicPr>
        <p:blipFill>
          <a:blip r:embed="rId6"/>
          <a:stretch/>
        </p:blipFill>
        <p:spPr>
          <a:xfrm>
            <a:off x="2484360" y="-27000"/>
            <a:ext cx="1008000" cy="6253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8" descr=""/>
          <p:cNvPicPr/>
          <p:nvPr/>
        </p:nvPicPr>
        <p:blipFill>
          <a:blip r:embed="rId7"/>
          <a:stretch/>
        </p:blipFill>
        <p:spPr>
          <a:xfrm>
            <a:off x="2771640" y="2421000"/>
            <a:ext cx="93672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1785960" y="1000080"/>
            <a:ext cx="6892920" cy="34210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"/>
          <p:cNvPicPr/>
          <p:nvPr/>
        </p:nvPicPr>
        <p:blipFill>
          <a:blip r:embed="rId2"/>
          <a:stretch/>
        </p:blipFill>
        <p:spPr>
          <a:xfrm>
            <a:off x="2857680" y="2357280"/>
            <a:ext cx="1882440" cy="20145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"/>
          <p:cNvPicPr/>
          <p:nvPr/>
        </p:nvPicPr>
        <p:blipFill>
          <a:blip r:embed="rId3"/>
          <a:stretch/>
        </p:blipFill>
        <p:spPr>
          <a:xfrm>
            <a:off x="6500880" y="2500200"/>
            <a:ext cx="1638360" cy="190512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5"/>
          <p:cNvSpPr/>
          <p:nvPr/>
        </p:nvSpPr>
        <p:spPr>
          <a:xfrm>
            <a:off x="900000" y="4437000"/>
            <a:ext cx="7993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A: Will you pick </a:t>
            </a:r>
            <a:r>
              <a:rPr b="0" lang="zh-CN" sz="3200" spc="-1" strike="noStrike" u="sng">
                <a:solidFill>
                  <a:srgbClr val="cc0000"/>
                </a:solidFill>
                <a:uFillTx/>
                <a:latin typeface="Arial"/>
              </a:rPr>
              <a:t>pears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?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B: Yes, I will. /  No, I won't. I'll pick 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bananas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A: How many</a:t>
            </a:r>
            <a:r>
              <a:rPr b="0" lang="zh-CN" sz="3200" spc="-1" strike="noStrike" u="sng">
                <a:solidFill>
                  <a:srgbClr val="cc0000"/>
                </a:solidFill>
                <a:uFillTx/>
                <a:latin typeface="Arial"/>
              </a:rPr>
              <a:t> bananas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 will you pick?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B: I'll pick 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twenty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6"/>
          <p:cNvSpPr/>
          <p:nvPr/>
        </p:nvSpPr>
        <p:spPr>
          <a:xfrm>
            <a:off x="3286080" y="428760"/>
            <a:ext cx="2714760" cy="5713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ork in pai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571680" y="2332080"/>
            <a:ext cx="921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Listen and read the story.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★★</a:t>
            </a:r>
            <a:endParaRPr b="0" lang="en-US" sz="36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.Act out the story.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★★★★</a:t>
            </a:r>
            <a:endParaRPr b="0" lang="en-US" sz="36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230" name="WordArt 3"/>
          <p:cNvSpPr txBox="1"/>
          <p:nvPr/>
        </p:nvSpPr>
        <p:spPr>
          <a:xfrm>
            <a:off x="2786040" y="571680"/>
            <a:ext cx="3591000" cy="146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华文彩云"/>
              </a:rPr>
              <a:t>Homework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华文彩云"/>
              <a:ea typeface="华文彩云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571680" y="2214720"/>
            <a:ext cx="4276440" cy="3806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5072040" y="2214720"/>
            <a:ext cx="3855960" cy="38163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4"/>
          <p:cNvSpPr/>
          <p:nvPr/>
        </p:nvSpPr>
        <p:spPr>
          <a:xfrm>
            <a:off x="1908000" y="6095880"/>
            <a:ext cx="575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How old are the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000080" y="642960"/>
            <a:ext cx="368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y are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fourtee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5580000" y="47628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y are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four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7"/>
          <p:cNvGrpSpPr/>
          <p:nvPr/>
        </p:nvGrpSpPr>
        <p:grpSpPr>
          <a:xfrm>
            <a:off x="1357200" y="1714320"/>
            <a:ext cx="2157120" cy="1006200"/>
            <a:chOff x="1357200" y="1714320"/>
            <a:chExt cx="2157120" cy="1006200"/>
          </a:xfrm>
        </p:grpSpPr>
        <p:sp>
          <p:nvSpPr>
            <p:cNvPr id="95" name="箭头 319"/>
            <p:cNvSpPr/>
            <p:nvPr/>
          </p:nvSpPr>
          <p:spPr>
            <a:xfrm flipV="1">
              <a:off x="1357200" y="1786680"/>
              <a:ext cx="358560" cy="93384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箭头 319"/>
            <p:cNvSpPr/>
            <p:nvPr/>
          </p:nvSpPr>
          <p:spPr>
            <a:xfrm flipH="1" flipV="1">
              <a:off x="2724120" y="1714320"/>
              <a:ext cx="790200" cy="71892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0"/>
          <p:cNvGrpSpPr/>
          <p:nvPr/>
        </p:nvGrpSpPr>
        <p:grpSpPr>
          <a:xfrm>
            <a:off x="5786280" y="1714680"/>
            <a:ext cx="1655640" cy="2233440"/>
            <a:chOff x="5786280" y="1714680"/>
            <a:chExt cx="1655640" cy="2233440"/>
          </a:xfrm>
        </p:grpSpPr>
        <p:sp>
          <p:nvSpPr>
            <p:cNvPr id="98" name="箭头 319"/>
            <p:cNvSpPr/>
            <p:nvPr/>
          </p:nvSpPr>
          <p:spPr>
            <a:xfrm flipV="1">
              <a:off x="5786280" y="1791000"/>
              <a:ext cx="790920" cy="177048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箭头 319"/>
            <p:cNvSpPr/>
            <p:nvPr/>
          </p:nvSpPr>
          <p:spPr>
            <a:xfrm flipH="1" flipV="1">
              <a:off x="6939000" y="1714680"/>
              <a:ext cx="502920" cy="223344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Text Box 13"/>
          <p:cNvSpPr/>
          <p:nvPr/>
        </p:nvSpPr>
        <p:spPr>
          <a:xfrm>
            <a:off x="1000080" y="114300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y are bi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5616720" y="981000"/>
            <a:ext cx="35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y are sm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143000" y="175212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36360" y="0"/>
            <a:ext cx="9107640" cy="6845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428760" y="285840"/>
            <a:ext cx="2531880" cy="151272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6"/>
          <p:cNvSpPr/>
          <p:nvPr/>
        </p:nvSpPr>
        <p:spPr>
          <a:xfrm>
            <a:off x="828720" y="6165720"/>
            <a:ext cx="8137440" cy="5763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What are they talking abou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7"/>
          <p:cNvGrpSpPr/>
          <p:nvPr/>
        </p:nvGrpSpPr>
        <p:grpSpPr>
          <a:xfrm>
            <a:off x="3419640" y="-27000"/>
            <a:ext cx="5400360" cy="1224000"/>
            <a:chOff x="3419640" y="-27000"/>
            <a:chExt cx="5400360" cy="1224000"/>
          </a:xfrm>
        </p:grpSpPr>
        <p:sp>
          <p:nvSpPr>
            <p:cNvPr id="108" name="椭圆形标注1 91"/>
            <p:cNvSpPr/>
            <p:nvPr/>
          </p:nvSpPr>
          <p:spPr>
            <a:xfrm>
              <a:off x="3419640" y="-27000"/>
              <a:ext cx="5400360" cy="1224000"/>
            </a:xfrm>
            <a:prstGeom prst="wedgeEllipseCallout">
              <a:avLst>
                <a:gd name="adj1" fmla="val -22787"/>
                <a:gd name="adj2" fmla="val 6570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9"/>
            <p:cNvSpPr/>
            <p:nvPr/>
          </p:nvSpPr>
          <p:spPr>
            <a:xfrm>
              <a:off x="4212000" y="720"/>
              <a:ext cx="4320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This weekend, we're going to a </a:t>
              </a:r>
              <a:r>
                <a:rPr b="0" lang="zh-CN" sz="3200" spc="-1" strike="noStrike">
                  <a:solidFill>
                    <a:srgbClr val="ff0000"/>
                  </a:solidFill>
                  <a:latin typeface="Arial"/>
                </a:rPr>
                <a:t>fruit farm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Oval 10"/>
          <p:cNvSpPr/>
          <p:nvPr/>
        </p:nvSpPr>
        <p:spPr>
          <a:xfrm>
            <a:off x="0" y="-142920"/>
            <a:ext cx="3240000" cy="1871640"/>
          </a:xfrm>
          <a:prstGeom prst="ellipse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1" descr=""/>
          <p:cNvPicPr/>
          <p:nvPr/>
        </p:nvPicPr>
        <p:blipFill>
          <a:blip r:embed="rId3"/>
          <a:stretch/>
        </p:blipFill>
        <p:spPr>
          <a:xfrm>
            <a:off x="3132000" y="3645000"/>
            <a:ext cx="4469040" cy="1368360"/>
          </a:xfrm>
          <a:prstGeom prst="rect">
            <a:avLst/>
          </a:prstGeom>
          <a:ln w="0">
            <a:noFill/>
          </a:ln>
        </p:spPr>
      </p:pic>
      <p:sp>
        <p:nvSpPr>
          <p:cNvPr id="112" name="笔 217"/>
          <p:cNvSpPr/>
          <p:nvPr/>
        </p:nvSpPr>
        <p:spPr>
          <a:xfrm>
            <a:off x="36360" y="6381720"/>
            <a:ext cx="216000" cy="360360"/>
          </a:xfrm>
          <a:custGeom>
            <a:avLst/>
            <a:gdLst/>
            <a:ahLst/>
            <a:rect l="l" t="t" r="r" b="b"/>
            <a:pathLst>
              <a:path w="621055" h="978642">
                <a:moveTo>
                  <a:pt x="13003" y="762005"/>
                </a:moveTo>
                <a:lnTo>
                  <a:pt x="181111" y="859062"/>
                </a:lnTo>
                <a:lnTo>
                  <a:pt x="0" y="978642"/>
                </a:lnTo>
                <a:lnTo>
                  <a:pt x="13003" y="762005"/>
                </a:lnTo>
                <a:close/>
                <a:moveTo>
                  <a:pt x="502622" y="186898"/>
                </a:moveTo>
                <a:lnTo>
                  <a:pt x="175090" y="754200"/>
                </a:lnTo>
                <a:lnTo>
                  <a:pt x="196101" y="766331"/>
                </a:lnTo>
                <a:lnTo>
                  <a:pt x="523633" y="199029"/>
                </a:lnTo>
                <a:lnTo>
                  <a:pt x="502622" y="186898"/>
                </a:lnTo>
                <a:close/>
                <a:moveTo>
                  <a:pt x="457985" y="161127"/>
                </a:moveTo>
                <a:lnTo>
                  <a:pt x="130453" y="728429"/>
                </a:lnTo>
                <a:lnTo>
                  <a:pt x="151464" y="740560"/>
                </a:lnTo>
                <a:lnTo>
                  <a:pt x="478996" y="173258"/>
                </a:lnTo>
                <a:lnTo>
                  <a:pt x="457985" y="161127"/>
                </a:lnTo>
                <a:close/>
                <a:moveTo>
                  <a:pt x="413348" y="135356"/>
                </a:moveTo>
                <a:lnTo>
                  <a:pt x="85816" y="702658"/>
                </a:lnTo>
                <a:lnTo>
                  <a:pt x="106827" y="714789"/>
                </a:lnTo>
                <a:lnTo>
                  <a:pt x="434359" y="147487"/>
                </a:lnTo>
                <a:lnTo>
                  <a:pt x="413348" y="135356"/>
                </a:lnTo>
                <a:close/>
                <a:moveTo>
                  <a:pt x="417712" y="61029"/>
                </a:moveTo>
                <a:lnTo>
                  <a:pt x="585820" y="158086"/>
                </a:lnTo>
                <a:lnTo>
                  <a:pt x="191736" y="840659"/>
                </a:lnTo>
                <a:lnTo>
                  <a:pt x="23628" y="743602"/>
                </a:lnTo>
                <a:lnTo>
                  <a:pt x="417712" y="61029"/>
                </a:lnTo>
                <a:close/>
                <a:moveTo>
                  <a:pt x="452947" y="0"/>
                </a:moveTo>
                <a:lnTo>
                  <a:pt x="621055" y="97057"/>
                </a:lnTo>
                <a:lnTo>
                  <a:pt x="596793" y="139079"/>
                </a:lnTo>
                <a:lnTo>
                  <a:pt x="428686" y="42022"/>
                </a:lnTo>
                <a:lnTo>
                  <a:pt x="452947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000080" y="714240"/>
            <a:ext cx="8143920" cy="544680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3"/>
          <p:cNvSpPr/>
          <p:nvPr/>
        </p:nvSpPr>
        <p:spPr>
          <a:xfrm>
            <a:off x="5219640" y="1773360"/>
            <a:ext cx="2737080" cy="6476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fruit fa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2"/>
          <p:cNvSpPr/>
          <p:nvPr/>
        </p:nvSpPr>
        <p:spPr>
          <a:xfrm>
            <a:off x="2857680" y="714240"/>
            <a:ext cx="3744720" cy="576360"/>
          </a:xfrm>
          <a:prstGeom prst="flowChartProcess">
            <a:avLst/>
          </a:prstGeom>
          <a:solidFill>
            <a:srgbClr val="ffcc99">
              <a:alpha val="6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Watch and Listen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332000" y="5877000"/>
            <a:ext cx="709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What fruit can you h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2143080" y="1338120"/>
            <a:ext cx="6029280" cy="4530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"/>
          <p:cNvPicPr/>
          <p:nvPr/>
        </p:nvPicPr>
        <p:blipFill>
          <a:blip r:embed="rId2"/>
          <a:stretch/>
        </p:blipFill>
        <p:spPr>
          <a:xfrm>
            <a:off x="3492360" y="3357720"/>
            <a:ext cx="3529080" cy="1081080"/>
          </a:xfrm>
          <a:prstGeom prst="rect">
            <a:avLst/>
          </a:prstGeom>
          <a:ln w="0">
            <a:noFill/>
          </a:ln>
        </p:spPr>
      </p:pic>
      <p:sp>
        <p:nvSpPr>
          <p:cNvPr id="119" name="Oval 6"/>
          <p:cNvSpPr/>
          <p:nvPr/>
        </p:nvSpPr>
        <p:spPr>
          <a:xfrm>
            <a:off x="4071960" y="3357720"/>
            <a:ext cx="863640" cy="934920"/>
          </a:xfrm>
          <a:prstGeom prst="ellipse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7"/>
          <p:cNvSpPr/>
          <p:nvPr/>
        </p:nvSpPr>
        <p:spPr>
          <a:xfrm>
            <a:off x="5286240" y="3571920"/>
            <a:ext cx="935280" cy="792000"/>
          </a:xfrm>
          <a:prstGeom prst="ellipse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" dur="2000" fill="hold"/>
                                        <p:tgtEl>
                                          <p:spTgt spid="1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V$OBWGR~R)N8@SOEK60P1TQ"/>
          <p:cNvPicPr/>
          <p:nvPr/>
        </p:nvPicPr>
        <p:blipFill>
          <a:blip r:embed="rId1"/>
          <a:stretch/>
        </p:blipFill>
        <p:spPr>
          <a:xfrm>
            <a:off x="0" y="-95400"/>
            <a:ext cx="9144000" cy="6953400"/>
          </a:xfrm>
          <a:prstGeom prst="rect">
            <a:avLst/>
          </a:prstGeom>
          <a:ln w="0">
            <a:noFill/>
          </a:ln>
        </p:spPr>
      </p:pic>
      <p:sp>
        <p:nvSpPr>
          <p:cNvPr id="122" name="椭圆形标注1 91"/>
          <p:cNvSpPr/>
          <p:nvPr/>
        </p:nvSpPr>
        <p:spPr>
          <a:xfrm>
            <a:off x="3564000" y="0"/>
            <a:ext cx="5761080" cy="2276640"/>
          </a:xfrm>
          <a:prstGeom prst="wedgeEllipseCallout">
            <a:avLst>
              <a:gd name="adj1" fmla="val -22787"/>
              <a:gd name="adj2" fmla="val 657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4067280" y="260280"/>
            <a:ext cx="482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This weekend,we're going to a fruit far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755640" y="5877000"/>
            <a:ext cx="7993080" cy="5778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What will they do on the fruit far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4716360" y="1413000"/>
            <a:ext cx="51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We'll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pick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fru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笔 217"/>
          <p:cNvSpPr/>
          <p:nvPr/>
        </p:nvSpPr>
        <p:spPr>
          <a:xfrm>
            <a:off x="36360" y="6526080"/>
            <a:ext cx="216000" cy="360360"/>
          </a:xfrm>
          <a:custGeom>
            <a:avLst/>
            <a:gdLst/>
            <a:ahLst/>
            <a:rect l="l" t="t" r="r" b="b"/>
            <a:pathLst>
              <a:path w="621055" h="978642">
                <a:moveTo>
                  <a:pt x="13003" y="762005"/>
                </a:moveTo>
                <a:lnTo>
                  <a:pt x="181111" y="859062"/>
                </a:lnTo>
                <a:lnTo>
                  <a:pt x="0" y="978642"/>
                </a:lnTo>
                <a:lnTo>
                  <a:pt x="13003" y="762005"/>
                </a:lnTo>
                <a:close/>
                <a:moveTo>
                  <a:pt x="502622" y="186898"/>
                </a:moveTo>
                <a:lnTo>
                  <a:pt x="175090" y="754200"/>
                </a:lnTo>
                <a:lnTo>
                  <a:pt x="196101" y="766331"/>
                </a:lnTo>
                <a:lnTo>
                  <a:pt x="523633" y="199029"/>
                </a:lnTo>
                <a:lnTo>
                  <a:pt x="502622" y="186898"/>
                </a:lnTo>
                <a:close/>
                <a:moveTo>
                  <a:pt x="457985" y="161127"/>
                </a:moveTo>
                <a:lnTo>
                  <a:pt x="130453" y="728429"/>
                </a:lnTo>
                <a:lnTo>
                  <a:pt x="151464" y="740560"/>
                </a:lnTo>
                <a:lnTo>
                  <a:pt x="478996" y="173258"/>
                </a:lnTo>
                <a:lnTo>
                  <a:pt x="457985" y="161127"/>
                </a:lnTo>
                <a:close/>
                <a:moveTo>
                  <a:pt x="413348" y="135356"/>
                </a:moveTo>
                <a:lnTo>
                  <a:pt x="85816" y="702658"/>
                </a:lnTo>
                <a:lnTo>
                  <a:pt x="106827" y="714789"/>
                </a:lnTo>
                <a:lnTo>
                  <a:pt x="434359" y="147487"/>
                </a:lnTo>
                <a:lnTo>
                  <a:pt x="413348" y="135356"/>
                </a:lnTo>
                <a:close/>
                <a:moveTo>
                  <a:pt x="417712" y="61029"/>
                </a:moveTo>
                <a:lnTo>
                  <a:pt x="585820" y="158086"/>
                </a:lnTo>
                <a:lnTo>
                  <a:pt x="191736" y="840659"/>
                </a:lnTo>
                <a:lnTo>
                  <a:pt x="23628" y="743602"/>
                </a:lnTo>
                <a:lnTo>
                  <a:pt x="417712" y="61029"/>
                </a:lnTo>
                <a:close/>
                <a:moveTo>
                  <a:pt x="452947" y="0"/>
                </a:moveTo>
                <a:lnTo>
                  <a:pt x="621055" y="97057"/>
                </a:lnTo>
                <a:lnTo>
                  <a:pt x="596793" y="139079"/>
                </a:lnTo>
                <a:lnTo>
                  <a:pt x="428686" y="42022"/>
                </a:lnTo>
                <a:lnTo>
                  <a:pt x="452947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"/>
          <p:cNvSpPr/>
          <p:nvPr/>
        </p:nvSpPr>
        <p:spPr>
          <a:xfrm>
            <a:off x="2629080" y="5157720"/>
            <a:ext cx="51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pick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frui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1341360" y="1428840"/>
            <a:ext cx="7832880" cy="32972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"/>
          <p:cNvPicPr/>
          <p:nvPr/>
        </p:nvPicPr>
        <p:blipFill>
          <a:blip r:embed="rId2"/>
          <a:stretch/>
        </p:blipFill>
        <p:spPr>
          <a:xfrm>
            <a:off x="6215040" y="2786040"/>
            <a:ext cx="1800360" cy="1523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"/>
          <p:cNvPicPr/>
          <p:nvPr/>
        </p:nvPicPr>
        <p:blipFill>
          <a:blip r:embed="rId3"/>
          <a:stretch/>
        </p:blipFill>
        <p:spPr>
          <a:xfrm>
            <a:off x="1571760" y="2928960"/>
            <a:ext cx="233820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28160" cy="60228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3"/>
          <p:cNvSpPr/>
          <p:nvPr/>
        </p:nvSpPr>
        <p:spPr>
          <a:xfrm>
            <a:off x="2340000" y="6093000"/>
            <a:ext cx="49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Will they pick..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36360" y="620640"/>
            <a:ext cx="2583000" cy="194472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5"/>
          <p:cNvSpPr/>
          <p:nvPr/>
        </p:nvSpPr>
        <p:spPr>
          <a:xfrm>
            <a:off x="2987640" y="333360"/>
            <a:ext cx="3889440" cy="1800360"/>
          </a:xfrm>
          <a:prstGeom prst="wedgeEllipseCallout">
            <a:avLst>
              <a:gd name="adj1" fmla="val -44856"/>
              <a:gd name="adj2" fmla="val 79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3419640" y="476280"/>
            <a:ext cx="280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We'l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ick appl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7"/>
          <p:cNvSpPr/>
          <p:nvPr/>
        </p:nvSpPr>
        <p:spPr>
          <a:xfrm>
            <a:off x="2700360" y="404640"/>
            <a:ext cx="6084720" cy="6494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What fruit will they pi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45" dur="2000" fill="hold"/>
                                        <p:tgtEl>
                                          <p:spTgt spid="1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14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1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1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1152360" y="571680"/>
            <a:ext cx="7488360" cy="628632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/>
          <p:cNvSpPr/>
          <p:nvPr/>
        </p:nvSpPr>
        <p:spPr>
          <a:xfrm>
            <a:off x="1327320" y="714240"/>
            <a:ext cx="3887640" cy="1800360"/>
          </a:xfrm>
          <a:prstGeom prst="wedgeEllipseCallout">
            <a:avLst>
              <a:gd name="adj1" fmla="val 2263"/>
              <a:gd name="adj2" fmla="val 79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7201080" y="2419200"/>
            <a:ext cx="1871640" cy="1009800"/>
          </a:xfrm>
          <a:prstGeom prst="wedgeEllipseCallout">
            <a:avLst>
              <a:gd name="adj1" fmla="val -30833"/>
              <a:gd name="adj2" fmla="val 11102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7632720" y="263520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I d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6"/>
          <p:cNvSpPr/>
          <p:nvPr/>
        </p:nvSpPr>
        <p:spPr>
          <a:xfrm>
            <a:off x="4608360" y="839880"/>
            <a:ext cx="3672000" cy="2232000"/>
          </a:xfrm>
          <a:prstGeom prst="cloudCallout">
            <a:avLst>
              <a:gd name="adj1" fmla="val -19115"/>
              <a:gd name="adj2" fmla="val 96416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4897440" y="141588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But I don't lik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appl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"/>
          <p:cNvPicPr/>
          <p:nvPr/>
        </p:nvPicPr>
        <p:blipFill>
          <a:blip r:embed="rId2"/>
          <a:stretch/>
        </p:blipFill>
        <p:spPr>
          <a:xfrm>
            <a:off x="4897440" y="3933720"/>
            <a:ext cx="1511280" cy="1300320"/>
          </a:xfrm>
          <a:prstGeom prst="rect">
            <a:avLst/>
          </a:prstGeom>
          <a:ln w="0">
            <a:noFill/>
          </a:ln>
        </p:spPr>
      </p:pic>
      <p:sp>
        <p:nvSpPr>
          <p:cNvPr id="144" name="Oval 9"/>
          <p:cNvSpPr/>
          <p:nvPr/>
        </p:nvSpPr>
        <p:spPr>
          <a:xfrm>
            <a:off x="6265800" y="3429000"/>
            <a:ext cx="2158920" cy="2016000"/>
          </a:xfrm>
          <a:prstGeom prst="ellipse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1830240" y="857160"/>
            <a:ext cx="28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We'l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ick appl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75" dur="2000" fill="hold"/>
                                        <p:tgtEl>
                                          <p:spTgt spid="1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9T11:05:24Z</dcterms:created>
  <dc:creator>viaton</dc:creator>
  <dc:description/>
  <dc:language>en-US</dc:language>
  <cp:lastModifiedBy>Admin</cp:lastModifiedBy>
  <dcterms:modified xsi:type="dcterms:W3CDTF">2017-06-09T04:46:04Z</dcterms:modified>
  <cp:revision>33</cp:revision>
  <dc:subject/>
  <dc:title>外研通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490</vt:lpwstr>
  </property>
</Properties>
</file>