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72D-B767-4290-B55D-E9FA2748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B1B-52CC-46E4-9BC3-D5FC171E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39E-5EE9-4483-BD66-F28ACE2B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A57-2E15-48AD-9652-EA08DBE3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7DF9-A252-4D94-BCAB-3B9B1D02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2357-C354-42C1-9288-428BC445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7AC2-4001-4C30-9956-06C014AD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FE49-AB0D-448E-BBB8-036E9F97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F767-364C-4C3D-95CD-BB102B2E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280B-8547-4D4C-911C-F8A6A813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2236-4ADA-4A71-A3C9-5133B097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35E-6C73-4ADF-8AB2-A498CE77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BFD7-ABFE-4751-80E2-862FB993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646B-77FB-48CA-B537-FBD925C8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A5A6-28F1-47FF-9B82-D988D8CC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D57B-BDC9-475E-9082-465640CE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2AB4-E3B4-4275-9393-3393509D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2DE8-5775-4232-8B4E-3A84790A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688-D310-47C0-961E-856DAE10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3633-1674-4C8F-B081-6604D6FC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2F9-7960-4F09-9F39-9C0D0617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1DF-7461-45BA-9321-1FE1E31D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48B7-1602-475D-BBAA-3EFC94BD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84A-7628-484C-AEA5-EF75BFBE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41A5-CFD0-40FF-8C14-9B3DEC9D56A7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C196-FB17-42AA-80C8-9C7B3C83A4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47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1A3A-6288-4BB2-A37C-4FE5395440A4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F258-9569-4FDA-9DB7-E7466BF2AD3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071800" y="228600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分数应用（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442880" y="3929040"/>
            <a:ext cx="5629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教：成都棠湖外国语学校附属小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刘晓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微信图片_20221128221123"/>
          <p:cNvPicPr/>
          <p:nvPr/>
        </p:nvPicPr>
        <p:blipFill>
          <a:blip r:embed="rId1"/>
          <a:stretch/>
        </p:blipFill>
        <p:spPr>
          <a:xfrm>
            <a:off x="6985080" y="4292640"/>
            <a:ext cx="1658880" cy="1692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" descr="微信图片_20221128223409"/>
          <p:cNvPicPr/>
          <p:nvPr/>
        </p:nvPicPr>
        <p:blipFill>
          <a:blip r:embed="rId2"/>
          <a:stretch/>
        </p:blipFill>
        <p:spPr>
          <a:xfrm>
            <a:off x="395280" y="249120"/>
            <a:ext cx="832176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4.mp4" descr=""/>
          <p:cNvPicPr/>
          <p:nvPr/>
        </p:nvPicPr>
        <p:blipFill>
          <a:blip r:embed="rId1"/>
          <a:stretch/>
        </p:blipFill>
        <p:spPr>
          <a:xfrm>
            <a:off x="404640" y="2142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629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826920" y="549360"/>
          <a:ext cx="5153040" cy="5430600"/>
        </p:xfrm>
        <a:graphic>
          <a:graphicData uri="http://schemas.openxmlformats.org/drawingml/2006/table">
            <a:tbl>
              <a:tblPr/>
              <a:tblGrid>
                <a:gridCol w="2576520"/>
                <a:gridCol w="2576520"/>
              </a:tblGrid>
              <a:tr h="79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恩格尔系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6308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6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2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6308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155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97" name="组合 12"/>
          <p:cNvGrpSpPr/>
          <p:nvPr/>
        </p:nvGrpSpPr>
        <p:grpSpPr>
          <a:xfrm>
            <a:off x="571680" y="642960"/>
            <a:ext cx="7940520" cy="1556280"/>
            <a:chOff x="571680" y="642960"/>
            <a:chExt cx="7940520" cy="1556280"/>
          </a:xfrm>
        </p:grpSpPr>
        <p:sp>
          <p:nvSpPr>
            <p:cNvPr id="98" name="圆角矩形标注 4"/>
            <p:cNvSpPr/>
            <p:nvPr/>
          </p:nvSpPr>
          <p:spPr>
            <a:xfrm>
              <a:off x="571680" y="642960"/>
              <a:ext cx="7940520" cy="150048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678960" y="6429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我们家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全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01" name="组合 12"/>
          <p:cNvGrpSpPr/>
          <p:nvPr/>
        </p:nvGrpSpPr>
        <p:grpSpPr>
          <a:xfrm>
            <a:off x="571680" y="428760"/>
            <a:ext cx="7940520" cy="1965960"/>
            <a:chOff x="571680" y="428760"/>
            <a:chExt cx="7940520" cy="1965960"/>
          </a:xfrm>
        </p:grpSpPr>
        <p:sp>
          <p:nvSpPr>
            <p:cNvPr id="102" name="圆角矩形标注 4"/>
            <p:cNvSpPr/>
            <p:nvPr/>
          </p:nvSpPr>
          <p:spPr>
            <a:xfrm>
              <a:off x="571680" y="428760"/>
              <a:ext cx="7940520" cy="196596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5"/>
            <p:cNvSpPr/>
            <p:nvPr/>
          </p:nvSpPr>
          <p:spPr>
            <a:xfrm>
              <a:off x="678960" y="4287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朱阿姨家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8"/>
          <p:cNvSpPr/>
          <p:nvPr/>
        </p:nvSpPr>
        <p:spPr>
          <a:xfrm>
            <a:off x="395280" y="256536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独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你能通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画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出题中的数量关系吗？从图中你能找到哪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量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画一画、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尝试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386400" y="292896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06" name="组合 12"/>
          <p:cNvGrpSpPr/>
          <p:nvPr/>
        </p:nvGrpSpPr>
        <p:grpSpPr>
          <a:xfrm>
            <a:off x="571680" y="428760"/>
            <a:ext cx="7940520" cy="2048040"/>
            <a:chOff x="571680" y="428760"/>
            <a:chExt cx="7940520" cy="2048040"/>
          </a:xfrm>
        </p:grpSpPr>
        <p:sp>
          <p:nvSpPr>
            <p:cNvPr id="107" name="圆角矩形标注 4"/>
            <p:cNvSpPr/>
            <p:nvPr/>
          </p:nvSpPr>
          <p:spPr>
            <a:xfrm>
              <a:off x="571680" y="428760"/>
              <a:ext cx="7940520" cy="204804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5"/>
            <p:cNvSpPr/>
            <p:nvPr/>
          </p:nvSpPr>
          <p:spPr>
            <a:xfrm>
              <a:off x="678960" y="4287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朱阿姨家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7"/>
          <p:cNvSpPr/>
          <p:nvPr/>
        </p:nvSpPr>
        <p:spPr>
          <a:xfrm>
            <a:off x="500040" y="2857680"/>
            <a:ext cx="557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合作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四人一组合作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共同读懂黑板上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对比两种方法，选其中一种讲给同学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.mp4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497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12" name="组合 12"/>
          <p:cNvGrpSpPr/>
          <p:nvPr/>
        </p:nvGrpSpPr>
        <p:grpSpPr>
          <a:xfrm>
            <a:off x="571680" y="500040"/>
            <a:ext cx="7940520" cy="1966320"/>
            <a:chOff x="571680" y="500040"/>
            <a:chExt cx="7940520" cy="1966320"/>
          </a:xfrm>
        </p:grpSpPr>
        <p:sp>
          <p:nvSpPr>
            <p:cNvPr id="113" name="圆角矩形标注 4"/>
            <p:cNvSpPr/>
            <p:nvPr/>
          </p:nvSpPr>
          <p:spPr>
            <a:xfrm>
              <a:off x="571680" y="500040"/>
              <a:ext cx="7940520" cy="196632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"/>
            <p:cNvSpPr/>
            <p:nvPr/>
          </p:nvSpPr>
          <p:spPr>
            <a:xfrm>
              <a:off x="678960" y="50004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旅游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两项支出一共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800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我家这一年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7"/>
          <p:cNvSpPr/>
          <p:nvPr/>
        </p:nvSpPr>
        <p:spPr>
          <a:xfrm>
            <a:off x="500040" y="2857680"/>
            <a:ext cx="557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学习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先画出线段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选择自己喜欢的方法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50920" y="620640"/>
          <a:ext cx="8715240" cy="4653000"/>
        </p:xfrm>
        <a:graphic>
          <a:graphicData uri="http://schemas.openxmlformats.org/drawingml/2006/table">
            <a:tbl>
              <a:tblPr/>
              <a:tblGrid>
                <a:gridCol w="3124080"/>
                <a:gridCol w="1791000"/>
                <a:gridCol w="1906560"/>
                <a:gridCol w="18936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9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品支出占家庭总支出的百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198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他支出占家庭总支出的百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支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7"/>
          <p:cNvSpPr/>
          <p:nvPr/>
        </p:nvSpPr>
        <p:spPr>
          <a:xfrm>
            <a:off x="1285920" y="53578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比这些数据，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15:07:28Z</dcterms:created>
  <dc:creator>IBM</dc:creator>
  <dc:description/>
  <dc:language>en-US</dc:language>
  <cp:lastModifiedBy>Levy</cp:lastModifiedBy>
  <dcterms:modified xsi:type="dcterms:W3CDTF">2022-11-28T15:12:18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8D007873A7084AC1BBDE92061AB1A021</vt:lpwstr>
  </property>
  <property fmtid="{D5CDD505-2E9C-101B-9397-08002B2CF9AE}" pid="3" name="KSOProductBuildVer">
    <vt:lpwstr>2052-11.1.0.12651</vt:lpwstr>
  </property>
</Properties>
</file>