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50D-5FCF-4F81-AD71-FC52DAEE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FF5-B0DE-40AB-8710-01828853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AA1-7DBD-41F2-A233-C629F80C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758-6831-492D-B739-41B912E1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10C6-8887-47F8-8A53-C8BE57DC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03A4-FCDD-4774-ACD7-1E6B2760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044E-4106-41FB-801A-228FFB20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209F-F112-4F02-AB34-F40FDBB6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8C0C-F394-421D-951F-5E871991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4D91-DAB1-46D4-B9D6-92062AB5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2E9C-98AE-4D82-A6DF-76B611ED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1D12-41CC-4041-B54A-A0106C9E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D0A3-2007-4509-ABFA-C855055E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251F-214F-49D2-A827-9D567664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4021-233C-46EA-B209-E9FD8CAE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581F-0C98-44B6-AAC9-90743A9E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EB1E-7E30-4FF9-AC82-E21F0D10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D6B-2A1D-4F80-8B34-C5952462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FC4-8153-47BF-AE87-BAA6EAA9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A94-260D-452C-974E-F41B426C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EF4-89B2-4985-85FB-F93D83A5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3791-D2F0-4E5A-963C-29A1A613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FF0-DF9B-4B52-AD9B-3CB6A24F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F25-E84F-4558-BDD5-4976BD18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798F-DE73-42B9-B596-390A8F3772DD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2158-97C3-4AC4-A798-9BE7C5EA1FC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47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9C9A-00B9-4CB7-8E1D-58C4660079DB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03CB-6D98-4285-829C-C153E1ADDBC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071800" y="228600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分数应用（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442880" y="3929040"/>
            <a:ext cx="5629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教：成都棠湖外国语学校附属小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刘晓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" descr="微信图片_20221128221123"/>
          <p:cNvPicPr/>
          <p:nvPr/>
        </p:nvPicPr>
        <p:blipFill>
          <a:blip r:embed="rId1"/>
          <a:stretch/>
        </p:blipFill>
        <p:spPr>
          <a:xfrm>
            <a:off x="6985080" y="4292640"/>
            <a:ext cx="1658880" cy="1692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" descr="微信图片_20221128223409"/>
          <p:cNvPicPr/>
          <p:nvPr/>
        </p:nvPicPr>
        <p:blipFill>
          <a:blip r:embed="rId2"/>
          <a:stretch/>
        </p:blipFill>
        <p:spPr>
          <a:xfrm>
            <a:off x="395280" y="249120"/>
            <a:ext cx="832176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4.mp4" descr=""/>
          <p:cNvPicPr/>
          <p:nvPr/>
        </p:nvPicPr>
        <p:blipFill>
          <a:blip r:embed="rId1"/>
          <a:stretch/>
        </p:blipFill>
        <p:spPr>
          <a:xfrm>
            <a:off x="404640" y="2142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629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826920" y="549360"/>
          <a:ext cx="5153040" cy="5430600"/>
        </p:xfrm>
        <a:graphic>
          <a:graphicData uri="http://schemas.openxmlformats.org/drawingml/2006/table">
            <a:tbl>
              <a:tblPr/>
              <a:tblGrid>
                <a:gridCol w="2576520"/>
                <a:gridCol w="2576520"/>
              </a:tblGrid>
              <a:tr h="79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恩格尔系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6308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6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2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6308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155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97" name="组合 12"/>
          <p:cNvGrpSpPr/>
          <p:nvPr/>
        </p:nvGrpSpPr>
        <p:grpSpPr>
          <a:xfrm>
            <a:off x="571680" y="642960"/>
            <a:ext cx="7940520" cy="1556280"/>
            <a:chOff x="571680" y="642960"/>
            <a:chExt cx="7940520" cy="1556280"/>
          </a:xfrm>
        </p:grpSpPr>
        <p:sp>
          <p:nvSpPr>
            <p:cNvPr id="98" name="圆角矩形标注 4"/>
            <p:cNvSpPr/>
            <p:nvPr/>
          </p:nvSpPr>
          <p:spPr>
            <a:xfrm>
              <a:off x="571680" y="642960"/>
              <a:ext cx="7940520" cy="150048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678960" y="6429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我们家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全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01" name="组合 12"/>
          <p:cNvGrpSpPr/>
          <p:nvPr/>
        </p:nvGrpSpPr>
        <p:grpSpPr>
          <a:xfrm>
            <a:off x="571680" y="428760"/>
            <a:ext cx="7940520" cy="1965960"/>
            <a:chOff x="571680" y="428760"/>
            <a:chExt cx="7940520" cy="1965960"/>
          </a:xfrm>
        </p:grpSpPr>
        <p:sp>
          <p:nvSpPr>
            <p:cNvPr id="102" name="圆角矩形标注 4"/>
            <p:cNvSpPr/>
            <p:nvPr/>
          </p:nvSpPr>
          <p:spPr>
            <a:xfrm>
              <a:off x="571680" y="428760"/>
              <a:ext cx="7940520" cy="196596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5"/>
            <p:cNvSpPr/>
            <p:nvPr/>
          </p:nvSpPr>
          <p:spPr>
            <a:xfrm>
              <a:off x="678960" y="4287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朱阿姨家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8"/>
          <p:cNvSpPr/>
          <p:nvPr/>
        </p:nvSpPr>
        <p:spPr>
          <a:xfrm>
            <a:off x="395280" y="256536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独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你能通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画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出题中的数量关系吗？从图中你能找到哪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量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画一画、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尝试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386400" y="292896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06" name="组合 12"/>
          <p:cNvGrpSpPr/>
          <p:nvPr/>
        </p:nvGrpSpPr>
        <p:grpSpPr>
          <a:xfrm>
            <a:off x="571680" y="428760"/>
            <a:ext cx="7940520" cy="2048040"/>
            <a:chOff x="571680" y="428760"/>
            <a:chExt cx="7940520" cy="2048040"/>
          </a:xfrm>
        </p:grpSpPr>
        <p:sp>
          <p:nvSpPr>
            <p:cNvPr id="107" name="圆角矩形标注 4"/>
            <p:cNvSpPr/>
            <p:nvPr/>
          </p:nvSpPr>
          <p:spPr>
            <a:xfrm>
              <a:off x="571680" y="428760"/>
              <a:ext cx="7940520" cy="204804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5"/>
            <p:cNvSpPr/>
            <p:nvPr/>
          </p:nvSpPr>
          <p:spPr>
            <a:xfrm>
              <a:off x="678960" y="4287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朱阿姨家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7"/>
          <p:cNvSpPr/>
          <p:nvPr/>
        </p:nvSpPr>
        <p:spPr>
          <a:xfrm>
            <a:off x="500040" y="2857680"/>
            <a:ext cx="557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合作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四人一组合作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共同读懂黑板上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对比两种方法，选其中一种讲给同学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.mp4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497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12" name="组合 12"/>
          <p:cNvGrpSpPr/>
          <p:nvPr/>
        </p:nvGrpSpPr>
        <p:grpSpPr>
          <a:xfrm>
            <a:off x="571680" y="500040"/>
            <a:ext cx="7940520" cy="1966320"/>
            <a:chOff x="571680" y="500040"/>
            <a:chExt cx="7940520" cy="1966320"/>
          </a:xfrm>
        </p:grpSpPr>
        <p:sp>
          <p:nvSpPr>
            <p:cNvPr id="113" name="圆角矩形标注 4"/>
            <p:cNvSpPr/>
            <p:nvPr/>
          </p:nvSpPr>
          <p:spPr>
            <a:xfrm>
              <a:off x="571680" y="500040"/>
              <a:ext cx="7940520" cy="196632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5"/>
            <p:cNvSpPr/>
            <p:nvPr/>
          </p:nvSpPr>
          <p:spPr>
            <a:xfrm>
              <a:off x="678960" y="50004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旅游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两项支出一共是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800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我家这一年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7"/>
          <p:cNvSpPr/>
          <p:nvPr/>
        </p:nvSpPr>
        <p:spPr>
          <a:xfrm>
            <a:off x="500040" y="2857680"/>
            <a:ext cx="557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学习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先画出线段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选择自己喜欢的方法解决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50920" y="620640"/>
          <a:ext cx="8715240" cy="4653000"/>
        </p:xfrm>
        <a:graphic>
          <a:graphicData uri="http://schemas.openxmlformats.org/drawingml/2006/table">
            <a:tbl>
              <a:tblPr/>
              <a:tblGrid>
                <a:gridCol w="3124080"/>
                <a:gridCol w="1791000"/>
                <a:gridCol w="1906560"/>
                <a:gridCol w="18936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9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品支出占家庭总支出的百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198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他支出占家庭总支出的百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支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7"/>
          <p:cNvSpPr/>
          <p:nvPr/>
        </p:nvSpPr>
        <p:spPr>
          <a:xfrm>
            <a:off x="1285920" y="53578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比这些数据，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15:07:28Z</dcterms:created>
  <dc:creator>IBM</dc:creator>
  <dc:description/>
  <dc:language>en-US</dc:language>
  <cp:lastModifiedBy>Levy</cp:lastModifiedBy>
  <dcterms:modified xsi:type="dcterms:W3CDTF">2022-11-28T15:12:18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8D007873A7084AC1BBDE92061AB1A021</vt:lpwstr>
  </property>
  <property fmtid="{D5CDD505-2E9C-101B-9397-08002B2CF9AE}" pid="3" name="KSOProductBuildVer">
    <vt:lpwstr>2052-11.1.0.12651</vt:lpwstr>
  </property>
</Properties>
</file>