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802-AB40-440F-BDD8-7F253EFB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BA2-2CC7-4952-88CA-60EAAA6F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967-8EE0-4A67-9D11-38E3EC9D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126-E7B1-4004-9615-E637E8E2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6183-A70E-424F-B7BB-7C79C0EB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2679-8D66-48D0-AD4E-7B29A312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055F-0D40-49F7-B45E-A1B725E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223B-0292-4356-99A6-281F242B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502B-28D9-44E4-A831-081D757D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5964-EFF0-4A1F-ADE5-0AF99756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150A-29C8-4B10-9DBF-C773492B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703-2A9A-407A-9C08-B7835B03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1E02-7681-480F-8E1F-C20CEA86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73DE-56C5-4A6F-9C72-5F5702AA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8662-D188-4883-9300-5D417470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2A54-11D9-4561-9621-D8050540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7BA2-940B-4614-9317-DA4F5C30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652-992B-483B-8F18-EE8CBCA0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FDC-E960-4721-9E24-176B13C9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3F9-3043-4EBA-832F-6CB1D70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617-458D-4ACB-BE55-D39324BC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F1F-CD7F-4FF7-AC57-89A35B7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E53-802A-4128-9612-17040FFE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EDD-93D6-473A-9252-020F098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E40F-C9AA-4FB4-BBFE-F3BA7C1681F5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14A2-8B50-4C1B-9FC6-040D1B0A17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7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0A2D-AB00-413E-8B90-E09A7B51B13C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9640-D906-4319-852D-C2E041096F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071800" y="228600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分数应用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42880" y="3929040"/>
            <a:ext cx="562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教：成都棠湖外国语学校附属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微信图片_20221128221123"/>
          <p:cNvPicPr/>
          <p:nvPr/>
        </p:nvPicPr>
        <p:blipFill>
          <a:blip r:embed="rId1"/>
          <a:stretch/>
        </p:blipFill>
        <p:spPr>
          <a:xfrm>
            <a:off x="6985080" y="429264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微信图片_20221128223409"/>
          <p:cNvPicPr/>
          <p:nvPr/>
        </p:nvPicPr>
        <p:blipFill>
          <a:blip r:embed="rId2"/>
          <a:stretch/>
        </p:blipFill>
        <p:spPr>
          <a:xfrm>
            <a:off x="395280" y="249120"/>
            <a:ext cx="83217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.mp4" descr=""/>
          <p:cNvPicPr/>
          <p:nvPr/>
        </p:nvPicPr>
        <p:blipFill>
          <a:blip r:embed="rId1"/>
          <a:stretch/>
        </p:blipFill>
        <p:spPr>
          <a:xfrm>
            <a:off x="404640" y="214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826920" y="549360"/>
          <a:ext cx="5153040" cy="5430600"/>
        </p:xfrm>
        <a:graphic>
          <a:graphicData uri="http://schemas.openxmlformats.org/drawingml/2006/table">
            <a:tbl>
              <a:tblPr/>
              <a:tblGrid>
                <a:gridCol w="2576520"/>
                <a:gridCol w="2576520"/>
              </a:tblGrid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恩格尔系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5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97" name="组合 12"/>
          <p:cNvGrpSpPr/>
          <p:nvPr/>
        </p:nvGrpSpPr>
        <p:grpSpPr>
          <a:xfrm>
            <a:off x="571680" y="642960"/>
            <a:ext cx="7940520" cy="1556280"/>
            <a:chOff x="571680" y="642960"/>
            <a:chExt cx="7940520" cy="1556280"/>
          </a:xfrm>
        </p:grpSpPr>
        <p:sp>
          <p:nvSpPr>
            <p:cNvPr id="98" name="圆角矩形标注 4"/>
            <p:cNvSpPr/>
            <p:nvPr/>
          </p:nvSpPr>
          <p:spPr>
            <a:xfrm>
              <a:off x="571680" y="642960"/>
              <a:ext cx="7940520" cy="150048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78960" y="6429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家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全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1" name="组合 12"/>
          <p:cNvGrpSpPr/>
          <p:nvPr/>
        </p:nvGrpSpPr>
        <p:grpSpPr>
          <a:xfrm>
            <a:off x="571680" y="428760"/>
            <a:ext cx="7940520" cy="1965960"/>
            <a:chOff x="571680" y="428760"/>
            <a:chExt cx="7940520" cy="1965960"/>
          </a:xfrm>
        </p:grpSpPr>
        <p:sp>
          <p:nvSpPr>
            <p:cNvPr id="102" name="圆角矩形标注 4"/>
            <p:cNvSpPr/>
            <p:nvPr/>
          </p:nvSpPr>
          <p:spPr>
            <a:xfrm>
              <a:off x="571680" y="428760"/>
              <a:ext cx="7940520" cy="196596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395280" y="256536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能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画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出题中的数量关系吗？从图中你能找到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画一画、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86400" y="292896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6" name="组合 12"/>
          <p:cNvGrpSpPr/>
          <p:nvPr/>
        </p:nvGrpSpPr>
        <p:grpSpPr>
          <a:xfrm>
            <a:off x="571680" y="428760"/>
            <a:ext cx="7940520" cy="2048040"/>
            <a:chOff x="571680" y="428760"/>
            <a:chExt cx="7940520" cy="2048040"/>
          </a:xfrm>
        </p:grpSpPr>
        <p:sp>
          <p:nvSpPr>
            <p:cNvPr id="107" name="圆角矩形标注 4"/>
            <p:cNvSpPr/>
            <p:nvPr/>
          </p:nvSpPr>
          <p:spPr>
            <a:xfrm>
              <a:off x="571680" y="428760"/>
              <a:ext cx="7940520" cy="204804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7"/>
          <p:cNvSpPr/>
          <p:nvPr/>
        </p:nvSpPr>
        <p:spPr>
          <a:xfrm>
            <a:off x="500040" y="285768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合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四人一组合作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共同读懂黑板上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对比两种方法，选其中一种讲给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49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12" name="组合 12"/>
          <p:cNvGrpSpPr/>
          <p:nvPr/>
        </p:nvGrpSpPr>
        <p:grpSpPr>
          <a:xfrm>
            <a:off x="571680" y="500040"/>
            <a:ext cx="7940520" cy="1966320"/>
            <a:chOff x="571680" y="500040"/>
            <a:chExt cx="7940520" cy="1966320"/>
          </a:xfrm>
        </p:grpSpPr>
        <p:sp>
          <p:nvSpPr>
            <p:cNvPr id="113" name="圆角矩形标注 4"/>
            <p:cNvSpPr/>
            <p:nvPr/>
          </p:nvSpPr>
          <p:spPr>
            <a:xfrm>
              <a:off x="571680" y="500040"/>
              <a:ext cx="7940520" cy="196632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678960" y="50004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旅游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两项支出一共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我家这一年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00040" y="285768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先画出线段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选择自己喜欢的方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620640"/>
          <a:ext cx="8715240" cy="4653000"/>
        </p:xfrm>
        <a:graphic>
          <a:graphicData uri="http://schemas.openxmlformats.org/drawingml/2006/table">
            <a:tbl>
              <a:tblPr/>
              <a:tblGrid>
                <a:gridCol w="3124080"/>
                <a:gridCol w="1791000"/>
                <a:gridCol w="1906560"/>
                <a:gridCol w="18936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品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支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7"/>
          <p:cNvSpPr/>
          <p:nvPr/>
        </p:nvSpPr>
        <p:spPr>
          <a:xfrm>
            <a:off x="1285920" y="53578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这些数据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15:07:28Z</dcterms:created>
  <dc:creator>IBM</dc:creator>
  <dc:description/>
  <dc:language>en-US</dc:language>
  <cp:lastModifiedBy>Levy</cp:lastModifiedBy>
  <dcterms:modified xsi:type="dcterms:W3CDTF">2022-11-28T15:12:18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D007873A7084AC1BBDE92061AB1A021</vt:lpwstr>
  </property>
  <property fmtid="{D5CDD505-2E9C-101B-9397-08002B2CF9AE}" pid="3" name="KSOProductBuildVer">
    <vt:lpwstr>2052-11.1.0.12651</vt:lpwstr>
  </property>
</Properties>
</file>