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252-3F73-4C4F-89E7-5B5CE77D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B73-527D-4FF0-A0AF-9A8AFA3A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90E7-C9EA-43C9-A076-B97AD601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268-00F7-4974-BB0D-ACF50AAF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6109-991B-4018-80C5-9E7B2B7C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ABCF-D71F-4B38-AB66-363FF3C4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8327-448E-434E-BD6B-FAC16AD2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E3A9-DC33-4AEC-9E97-233E4182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7BEB-63B2-42F8-B03D-F45AC787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4741-82D8-4911-ADA4-1257DC8F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FB13-8208-408E-A00F-CAF06BA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771-4F68-4590-842C-15F5337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7250-DA79-4845-A7AE-87D1B234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D972-F1A0-4D92-A326-51700165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06A8-DD1B-4B6F-9CA9-6A9D0A0C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6C1E-5E51-468C-95ED-EB674AE5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86C5-E800-4020-9292-AF26361E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65F-02D4-4620-927E-FEB2E46B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3B4-04D3-4D39-9F12-6F0E4CC6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F7D-2A46-428F-AEA6-67F2D3E3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D15-E40C-4C14-B578-AEA70250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E65-6ACF-41F4-B8D5-8CFD31F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043-0935-47AE-BED5-8686690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208-5EAB-48A4-A342-2A179C98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B000-C952-41B8-B02D-6EE3A7E6523A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14A6-5FBD-4A78-BC62-D15CBA833BD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7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9EF8-8FD1-439D-B127-ADBA9B01DDB2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01F6-F839-44B3-A624-F0C2192E75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071800" y="228600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分数应用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42880" y="3929040"/>
            <a:ext cx="562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教：成都棠湖外国语学校附属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微信图片_20221128221123"/>
          <p:cNvPicPr/>
          <p:nvPr/>
        </p:nvPicPr>
        <p:blipFill>
          <a:blip r:embed="rId1"/>
          <a:stretch/>
        </p:blipFill>
        <p:spPr>
          <a:xfrm>
            <a:off x="6985080" y="429264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微信图片_20221128223409"/>
          <p:cNvPicPr/>
          <p:nvPr/>
        </p:nvPicPr>
        <p:blipFill>
          <a:blip r:embed="rId2"/>
          <a:stretch/>
        </p:blipFill>
        <p:spPr>
          <a:xfrm>
            <a:off x="395280" y="249120"/>
            <a:ext cx="83217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.mp4" descr=""/>
          <p:cNvPicPr/>
          <p:nvPr/>
        </p:nvPicPr>
        <p:blipFill>
          <a:blip r:embed="rId1"/>
          <a:stretch/>
        </p:blipFill>
        <p:spPr>
          <a:xfrm>
            <a:off x="404640" y="214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826920" y="549360"/>
          <a:ext cx="5153040" cy="5430600"/>
        </p:xfrm>
        <a:graphic>
          <a:graphicData uri="http://schemas.openxmlformats.org/drawingml/2006/table">
            <a:tbl>
              <a:tblPr/>
              <a:tblGrid>
                <a:gridCol w="2576520"/>
                <a:gridCol w="2576520"/>
              </a:tblGrid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恩格尔系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5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97" name="组合 12"/>
          <p:cNvGrpSpPr/>
          <p:nvPr/>
        </p:nvGrpSpPr>
        <p:grpSpPr>
          <a:xfrm>
            <a:off x="571680" y="642960"/>
            <a:ext cx="7940520" cy="1556280"/>
            <a:chOff x="571680" y="642960"/>
            <a:chExt cx="7940520" cy="1556280"/>
          </a:xfrm>
        </p:grpSpPr>
        <p:sp>
          <p:nvSpPr>
            <p:cNvPr id="98" name="圆角矩形标注 4"/>
            <p:cNvSpPr/>
            <p:nvPr/>
          </p:nvSpPr>
          <p:spPr>
            <a:xfrm>
              <a:off x="571680" y="642960"/>
              <a:ext cx="7940520" cy="150048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78960" y="6429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家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全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1" name="组合 12"/>
          <p:cNvGrpSpPr/>
          <p:nvPr/>
        </p:nvGrpSpPr>
        <p:grpSpPr>
          <a:xfrm>
            <a:off x="571680" y="428760"/>
            <a:ext cx="7940520" cy="1965960"/>
            <a:chOff x="571680" y="428760"/>
            <a:chExt cx="7940520" cy="1965960"/>
          </a:xfrm>
        </p:grpSpPr>
        <p:sp>
          <p:nvSpPr>
            <p:cNvPr id="102" name="圆角矩形标注 4"/>
            <p:cNvSpPr/>
            <p:nvPr/>
          </p:nvSpPr>
          <p:spPr>
            <a:xfrm>
              <a:off x="571680" y="428760"/>
              <a:ext cx="7940520" cy="196596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395280" y="256536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能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画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出题中的数量关系吗？从图中你能找到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画一画、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86400" y="292896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6" name="组合 12"/>
          <p:cNvGrpSpPr/>
          <p:nvPr/>
        </p:nvGrpSpPr>
        <p:grpSpPr>
          <a:xfrm>
            <a:off x="571680" y="428760"/>
            <a:ext cx="7940520" cy="2048040"/>
            <a:chOff x="571680" y="428760"/>
            <a:chExt cx="7940520" cy="2048040"/>
          </a:xfrm>
        </p:grpSpPr>
        <p:sp>
          <p:nvSpPr>
            <p:cNvPr id="107" name="圆角矩形标注 4"/>
            <p:cNvSpPr/>
            <p:nvPr/>
          </p:nvSpPr>
          <p:spPr>
            <a:xfrm>
              <a:off x="571680" y="428760"/>
              <a:ext cx="7940520" cy="204804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7"/>
          <p:cNvSpPr/>
          <p:nvPr/>
        </p:nvSpPr>
        <p:spPr>
          <a:xfrm>
            <a:off x="500040" y="285768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合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四人一组合作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共同读懂黑板上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对比两种方法，选其中一种讲给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49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12" name="组合 12"/>
          <p:cNvGrpSpPr/>
          <p:nvPr/>
        </p:nvGrpSpPr>
        <p:grpSpPr>
          <a:xfrm>
            <a:off x="571680" y="500040"/>
            <a:ext cx="7940520" cy="1966320"/>
            <a:chOff x="571680" y="500040"/>
            <a:chExt cx="7940520" cy="1966320"/>
          </a:xfrm>
        </p:grpSpPr>
        <p:sp>
          <p:nvSpPr>
            <p:cNvPr id="113" name="圆角矩形标注 4"/>
            <p:cNvSpPr/>
            <p:nvPr/>
          </p:nvSpPr>
          <p:spPr>
            <a:xfrm>
              <a:off x="571680" y="500040"/>
              <a:ext cx="7940520" cy="196632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678960" y="50004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旅游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两项支出一共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我家这一年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00040" y="285768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先画出线段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选择自己喜欢的方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620640"/>
          <a:ext cx="8715240" cy="4653000"/>
        </p:xfrm>
        <a:graphic>
          <a:graphicData uri="http://schemas.openxmlformats.org/drawingml/2006/table">
            <a:tbl>
              <a:tblPr/>
              <a:tblGrid>
                <a:gridCol w="3124080"/>
                <a:gridCol w="1791000"/>
                <a:gridCol w="1906560"/>
                <a:gridCol w="18936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品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支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7"/>
          <p:cNvSpPr/>
          <p:nvPr/>
        </p:nvSpPr>
        <p:spPr>
          <a:xfrm>
            <a:off x="1285920" y="53578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这些数据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15:07:28Z</dcterms:created>
  <dc:creator>IBM</dc:creator>
  <dc:description/>
  <dc:language>en-US</dc:language>
  <cp:lastModifiedBy>Levy</cp:lastModifiedBy>
  <dcterms:modified xsi:type="dcterms:W3CDTF">2022-11-28T15:12:18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D007873A7084AC1BBDE92061AB1A021</vt:lpwstr>
  </property>
  <property fmtid="{D5CDD505-2E9C-101B-9397-08002B2CF9AE}" pid="3" name="KSOProductBuildVer">
    <vt:lpwstr>2052-11.1.0.12651</vt:lpwstr>
  </property>
</Properties>
</file>