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C021-C7A3-4485-A600-54A589E7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ED24-420D-4A17-AEFF-F4A20333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DF58-C6F6-41FE-AFDC-2D5E9B33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5EE5-EDBF-4C19-B731-6A88E514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1EF2-5611-4F11-9FD1-DCF27B95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1ACB-9F96-43CE-85C1-5CD771E4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1130-8756-4A9F-BCC0-6220A629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FB68-C620-441D-BACC-3C8BA6AD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9A72-0BAD-410E-B54F-E47AE0AD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23F1-426D-4199-93CC-3A7756C4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EE7C-1AAA-4B59-8386-5B06D715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638D-094C-4FA5-834F-268900B3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F23A-3598-446A-81DA-1E8DDA26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D966-AB59-4089-956D-36D512BF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9F29-CC37-4285-BA23-8F717BB1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5702-0C07-4B69-8B25-AF489FB0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D708-5918-4376-94BF-0E643BFE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BE9D-2777-44D2-A0B1-4B6CB124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72E4-F902-46E1-B657-337F3BBF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2BE6-B3AE-47CB-834A-B71C1412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C50E-E156-44FF-B6A9-493110B6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1BFC-98B7-4EF8-848A-03859D84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12A0-09C5-4DD3-8813-8001B0AA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D2C7-DDEC-4C7A-ACAB-8210517E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D2E6-D279-402B-9583-D9E41DDAB1C8}" type="datetime">
              <a:rPr b="0" lang="zh-CN" sz="1200" spc="-1" strike="noStrike">
                <a:solidFill>
                  <a:srgbClr val="000000"/>
                </a:solidFill>
                <a:latin typeface="Garamond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FEFA-C546-4281-8E39-49C79304847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57200" y="6172200"/>
            <a:ext cx="8229600" cy="360"/>
            <a:chOff x="457200" y="6172200"/>
            <a:chExt cx="8229600" cy="360"/>
          </a:xfrm>
        </p:grpSpPr>
        <p:sp>
          <p:nvSpPr>
            <p:cNvPr id="7" name="Line 8"/>
            <p:cNvSpPr/>
            <p:nvPr/>
          </p:nvSpPr>
          <p:spPr>
            <a:xfrm>
              <a:off x="457200" y="6172200"/>
              <a:ext cx="822960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57200" y="61722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81080" y="3962520"/>
            <a:ext cx="6512040" cy="360"/>
            <a:chOff x="1981080" y="3962520"/>
            <a:chExt cx="6512040" cy="360"/>
          </a:xfrm>
        </p:grpSpPr>
        <p:sp>
          <p:nvSpPr>
            <p:cNvPr id="47" name="Line 8"/>
            <p:cNvSpPr/>
            <p:nvPr/>
          </p:nvSpPr>
          <p:spPr>
            <a:xfrm>
              <a:off x="1981080" y="3962520"/>
              <a:ext cx="651204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1981080" y="3962520"/>
              <a:ext cx="6512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86F6-9BDC-4E0D-884B-E33C86D26217}" type="datetime">
              <a:rPr b="0" lang="zh-CN" sz="1200" spc="-1" strike="noStrike">
                <a:solidFill>
                  <a:srgbClr val="000000"/>
                </a:solidFill>
                <a:latin typeface="Garamond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1D19-EDBB-4210-B9A6-28962B239F2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2071800" y="2286000"/>
            <a:ext cx="657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百分数应用（三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1442880" y="3929040"/>
            <a:ext cx="5629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执教：成都棠湖外国语学校附属小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刘晓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1" descr="微信图片_20221128221123"/>
          <p:cNvPicPr/>
          <p:nvPr/>
        </p:nvPicPr>
        <p:blipFill>
          <a:blip r:embed="rId1"/>
          <a:stretch/>
        </p:blipFill>
        <p:spPr>
          <a:xfrm>
            <a:off x="6985080" y="4292640"/>
            <a:ext cx="1658880" cy="16923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2" descr="微信图片_20221128223409"/>
          <p:cNvPicPr/>
          <p:nvPr/>
        </p:nvPicPr>
        <p:blipFill>
          <a:blip r:embed="rId2"/>
          <a:stretch/>
        </p:blipFill>
        <p:spPr>
          <a:xfrm>
            <a:off x="395280" y="249120"/>
            <a:ext cx="8321760" cy="13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4.mp4" descr=""/>
          <p:cNvPicPr/>
          <p:nvPr/>
        </p:nvPicPr>
        <p:blipFill>
          <a:blip r:embed="rId1"/>
          <a:stretch/>
        </p:blipFill>
        <p:spPr>
          <a:xfrm>
            <a:off x="404640" y="214200"/>
            <a:ext cx="83822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56299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826920" y="549360"/>
          <a:ext cx="5153040" cy="5430600"/>
        </p:xfrm>
        <a:graphic>
          <a:graphicData uri="http://schemas.openxmlformats.org/drawingml/2006/table">
            <a:tbl>
              <a:tblPr/>
              <a:tblGrid>
                <a:gridCol w="2576520"/>
                <a:gridCol w="2576520"/>
              </a:tblGrid>
              <a:tr h="79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恩格尔系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6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4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2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8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1.mp4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26308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46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2.mp4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26308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1553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386400" y="2786040"/>
            <a:ext cx="2757600" cy="28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</p:pic>
      <p:grpSp>
        <p:nvGrpSpPr>
          <p:cNvPr id="97" name="组合 12"/>
          <p:cNvGrpSpPr/>
          <p:nvPr/>
        </p:nvGrpSpPr>
        <p:grpSpPr>
          <a:xfrm>
            <a:off x="571680" y="642960"/>
            <a:ext cx="7940520" cy="1556280"/>
            <a:chOff x="571680" y="642960"/>
            <a:chExt cx="7940520" cy="1556280"/>
          </a:xfrm>
        </p:grpSpPr>
        <p:sp>
          <p:nvSpPr>
            <p:cNvPr id="98" name="圆角矩形标注 4"/>
            <p:cNvSpPr/>
            <p:nvPr/>
          </p:nvSpPr>
          <p:spPr>
            <a:xfrm>
              <a:off x="571680" y="642960"/>
              <a:ext cx="7940520" cy="1500480"/>
            </a:xfrm>
            <a:prstGeom prst="wedgeRoundRectCallout">
              <a:avLst>
                <a:gd name="adj1" fmla="val 42564"/>
                <a:gd name="adj2" fmla="val 834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5"/>
            <p:cNvSpPr/>
            <p:nvPr/>
          </p:nvSpPr>
          <p:spPr>
            <a:xfrm>
              <a:off x="678960" y="642960"/>
              <a:ext cx="782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我们家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年全年，食品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其他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食品支出比其他支出多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386400" y="2786040"/>
            <a:ext cx="2757600" cy="28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</p:pic>
      <p:grpSp>
        <p:nvGrpSpPr>
          <p:cNvPr id="101" name="组合 12"/>
          <p:cNvGrpSpPr/>
          <p:nvPr/>
        </p:nvGrpSpPr>
        <p:grpSpPr>
          <a:xfrm>
            <a:off x="571680" y="428760"/>
            <a:ext cx="7940520" cy="1965960"/>
            <a:chOff x="571680" y="428760"/>
            <a:chExt cx="7940520" cy="1965960"/>
          </a:xfrm>
        </p:grpSpPr>
        <p:sp>
          <p:nvSpPr>
            <p:cNvPr id="102" name="圆角矩形标注 4"/>
            <p:cNvSpPr/>
            <p:nvPr/>
          </p:nvSpPr>
          <p:spPr>
            <a:xfrm>
              <a:off x="571680" y="428760"/>
              <a:ext cx="7940520" cy="1965960"/>
            </a:xfrm>
            <a:prstGeom prst="wedgeRoundRectCallout">
              <a:avLst>
                <a:gd name="adj1" fmla="val 42564"/>
                <a:gd name="adj2" fmla="val 834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5"/>
            <p:cNvSpPr/>
            <p:nvPr/>
          </p:nvSpPr>
          <p:spPr>
            <a:xfrm>
              <a:off x="678960" y="428760"/>
              <a:ext cx="782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年，食品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其他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食品支出比其他支出多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。朱阿姨家的总支出是多少元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8"/>
          <p:cNvSpPr/>
          <p:nvPr/>
        </p:nvSpPr>
        <p:spPr>
          <a:xfrm>
            <a:off x="395280" y="2565360"/>
            <a:ext cx="5572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活动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独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你能通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画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出题中的数量关系吗？从图中你能找到哪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等量关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画一画、写一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尝试自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解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个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6386400" y="2928960"/>
            <a:ext cx="2757600" cy="28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</p:pic>
      <p:grpSp>
        <p:nvGrpSpPr>
          <p:cNvPr id="106" name="组合 12"/>
          <p:cNvGrpSpPr/>
          <p:nvPr/>
        </p:nvGrpSpPr>
        <p:grpSpPr>
          <a:xfrm>
            <a:off x="571680" y="428760"/>
            <a:ext cx="7940520" cy="2048040"/>
            <a:chOff x="571680" y="428760"/>
            <a:chExt cx="7940520" cy="2048040"/>
          </a:xfrm>
        </p:grpSpPr>
        <p:sp>
          <p:nvSpPr>
            <p:cNvPr id="107" name="圆角矩形标注 4"/>
            <p:cNvSpPr/>
            <p:nvPr/>
          </p:nvSpPr>
          <p:spPr>
            <a:xfrm>
              <a:off x="571680" y="428760"/>
              <a:ext cx="7940520" cy="2048040"/>
            </a:xfrm>
            <a:prstGeom prst="wedgeRoundRectCallout">
              <a:avLst>
                <a:gd name="adj1" fmla="val 42564"/>
                <a:gd name="adj2" fmla="val 834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5"/>
            <p:cNvSpPr/>
            <p:nvPr/>
          </p:nvSpPr>
          <p:spPr>
            <a:xfrm>
              <a:off x="678960" y="428760"/>
              <a:ext cx="782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年，食品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其他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食品支出比其他支出多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。朱阿姨家的总支出是多少元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7"/>
          <p:cNvSpPr/>
          <p:nvPr/>
        </p:nvSpPr>
        <p:spPr>
          <a:xfrm>
            <a:off x="500040" y="2857680"/>
            <a:ext cx="5572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合作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四人一组合作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共同读懂黑板上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对比两种方法，选其中一种讲给同学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3.mp4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4294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7497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386400" y="2786040"/>
            <a:ext cx="2757600" cy="28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</p:pic>
      <p:grpSp>
        <p:nvGrpSpPr>
          <p:cNvPr id="112" name="组合 12"/>
          <p:cNvGrpSpPr/>
          <p:nvPr/>
        </p:nvGrpSpPr>
        <p:grpSpPr>
          <a:xfrm>
            <a:off x="571680" y="500040"/>
            <a:ext cx="7940520" cy="1966320"/>
            <a:chOff x="571680" y="500040"/>
            <a:chExt cx="7940520" cy="1966320"/>
          </a:xfrm>
        </p:grpSpPr>
        <p:sp>
          <p:nvSpPr>
            <p:cNvPr id="113" name="圆角矩形标注 4"/>
            <p:cNvSpPr/>
            <p:nvPr/>
          </p:nvSpPr>
          <p:spPr>
            <a:xfrm>
              <a:off x="571680" y="500040"/>
              <a:ext cx="7940520" cy="1966320"/>
            </a:xfrm>
            <a:prstGeom prst="wedgeRoundRectCallout">
              <a:avLst>
                <a:gd name="adj1" fmla="val 42564"/>
                <a:gd name="adj2" fmla="val 834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5"/>
            <p:cNvSpPr/>
            <p:nvPr/>
          </p:nvSpPr>
          <p:spPr>
            <a:xfrm>
              <a:off x="678960" y="500040"/>
              <a:ext cx="782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年，食品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旅游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两项支出一共是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800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。我家这一年的总支出是多少元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7"/>
          <p:cNvSpPr/>
          <p:nvPr/>
        </p:nvSpPr>
        <p:spPr>
          <a:xfrm>
            <a:off x="500040" y="2857680"/>
            <a:ext cx="557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学习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先画出线段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选择自己喜欢的方法解决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250920" y="620640"/>
          <a:ext cx="8715240" cy="4653000"/>
        </p:xfrm>
        <a:graphic>
          <a:graphicData uri="http://schemas.openxmlformats.org/drawingml/2006/table">
            <a:tbl>
              <a:tblPr/>
              <a:tblGrid>
                <a:gridCol w="3124080"/>
                <a:gridCol w="1791000"/>
                <a:gridCol w="1906560"/>
                <a:gridCol w="18936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8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198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食品支出占家庭总支出的百分之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198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其他支出占家庭总支出的百分之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支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117" name="TextBox 7"/>
          <p:cNvSpPr/>
          <p:nvPr/>
        </p:nvSpPr>
        <p:spPr>
          <a:xfrm>
            <a:off x="1285920" y="535788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比这些数据，你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6T15:07:28Z</dcterms:created>
  <dc:creator>IBM</dc:creator>
  <dc:description/>
  <dc:language>en-US</dc:language>
  <cp:lastModifiedBy>Levy</cp:lastModifiedBy>
  <dcterms:modified xsi:type="dcterms:W3CDTF">2022-11-28T15:12:18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8D007873A7084AC1BBDE92061AB1A021</vt:lpwstr>
  </property>
  <property fmtid="{D5CDD505-2E9C-101B-9397-08002B2CF9AE}" pid="3" name="KSOProductBuildVer">
    <vt:lpwstr>2052-11.1.0.12651</vt:lpwstr>
  </property>
</Properties>
</file>