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26.jpeg" ContentType="image/jpeg"/>
  <Override PartName="/ppt/media/image19.png" ContentType="image/png"/>
  <Override PartName="/ppt/media/type.wav" ContentType="audio/x-wav"/>
  <Override PartName="/ppt/media/image25.gif" ContentType="image/gif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29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42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50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51.png" ContentType="image/png"/>
  <Override PartName="/ppt/media/%E8%B4%9D%E5%A4%9A%E8%8A%AC%E3%80%81%E8%BD%BB%E9%9F%B3%E4%B9%90%E9%92%A2%E7%90%B4%E6%9B%B2%20-%20%E8%87%B4%E7%88%B1%E4%B8%BD%E4%B8%9D.wav" ContentType="audio/x-wav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C55-BBC0-4627-B25D-1FED6C07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C2A-9F12-496E-BA46-6E8B8267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B1A87-6B58-446E-8B15-F616667F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8FF86-5FD4-41C5-A0D7-FF4807FC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79235-C98E-402D-9B71-936A709A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F126D-E3DE-4FBD-A0EA-BD3C3237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C4BC4-E3F8-4E22-861F-4DF044EB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3EA91-5A0E-43F5-9B6C-503F6990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73EE9-D46E-4B20-B6D0-55DA059B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DF4D9-BCAA-43A0-953D-E6FDE9D7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A08AF-BCF9-4DCD-A721-EAAB70EF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0545B-1D66-4C8A-B2A7-C5BF8466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DAE-015A-4C08-95D3-ACE21CD2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A47FC-0000-4AB7-82E5-22CC6810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721BD-8D92-4239-8941-CEB1CDD1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6CFC5-D5A1-4AE8-98D1-B7EEB4E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BE9CF-92A4-4BC9-9AE3-0958F38D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966BE-1190-4BD7-AF82-5789CF7A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8CE69-25FD-48CE-8388-9558045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45677-974A-4867-9C56-C7B7EDE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38403-CD22-4ACD-BAB5-76310BA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DB242-EF2E-4EE6-91F0-74FEF52F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95258-E4A6-4A33-BBE1-35C50586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47F-6735-46E6-95B6-A2171A96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10816-20F6-450E-9B38-E242D527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F35B2-9A41-4317-A222-3319B9E4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4FC51-F4B3-4F71-9578-B9BE265E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86278-571B-48A3-9DEB-176CA836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A3368-D278-44F6-BE2A-0CD7CDAD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99B0B-CCA8-4EB8-97CB-6D1A2768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29426-57C4-4AF5-A42B-E0901BD1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2D86D-FD24-48C1-AEFE-3A58190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4B582-C685-407F-A89D-EF0D639D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5E85C-BA51-493B-A6B9-9F41C122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4355-9FB1-4BA9-8E75-02886C8B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8A3E5-5174-438A-A3B6-E48C01EE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38AC1-488F-463A-9F0A-C4621E4D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CFF1E-C72A-4808-A001-DE2D8E15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5BDD1-8EF3-4E90-849F-6B83099A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0A846-5028-4936-A461-E7AA242C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C9AF6-C209-4DE4-9A39-14328C9B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B0664-E4A1-49B9-9451-F9437DFE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5418B-7798-4828-AB71-6F1DD876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5105C-84B2-4CB9-8D08-0C01F768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F2464-BC56-40D6-A57F-1ED477EE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4ADD-1B6C-4516-A26C-2F0A4D60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A8AD6-9834-4C1A-8915-62D34818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7AAF2-D080-4607-97BB-5434FC6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205AA-D91B-4105-9B2B-DBBA90C7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52F06-17D6-4977-9054-CDEE093A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7C2CA-8070-4174-BCC5-5F14FC87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AC60C-1752-4278-93D4-3EA3B47F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C5DB8-A826-4D94-9A4F-CF4D6B80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3F482-90B9-4656-966A-56D6F9A7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30937-5D7E-4E17-B95A-D2195C9E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2C199-E347-468F-8C04-C88BF278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B260-7742-41E4-A0A7-6E5FE6D0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14DD2-7F7A-4FA0-9748-46CF255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10A66-707E-4D03-9D21-7FFC34B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5924C-A880-41A8-B587-B508CA2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77A41-2BA9-4A08-B9BF-1138A52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ED38A-2E67-457D-81CE-1DA04FF0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D2599-B701-43E4-BBE5-504CD1D8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8D71F-4648-46DA-A906-263F135E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4A613-13F5-4FD1-ACFA-F1D94828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B1DE3-E479-4146-BBF6-53EA24FC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2B6ED-AB93-4039-9661-1BD6F02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B469-4837-4B9C-859B-17579F21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933DE-8F17-443C-B8CD-89DEC29A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E387E-E6ED-46E2-AE7C-640C1E76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B0651-2718-4CF2-8F1F-2F1083B9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4A08D-75EC-4319-888D-CC870D7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921B9-750B-4E23-907A-52EB7C64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0EF30-6CA6-42AE-9357-5C31C81B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60149-BCD1-4C67-A55C-E3B224CF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8D379-6F1E-4E77-BB2A-77C25EAE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4C8FC-AB47-403E-B371-925A2E2D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6B07B-A06B-4299-9DE3-B588FBA7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6BF9-9075-43CE-80BB-C9CD6EDE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80555-40ED-41BF-A889-B0E01133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10EB5-732E-46A0-9EE3-D70B8EC1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74B2F-53BD-434C-8052-8E1FAB42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2456E-B7B2-4AB9-A238-5A8A68B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5C851-121B-4406-9666-A12DCED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8E410-BBE3-4C07-8D91-BE71392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FC6B5-255E-41E0-87D8-7EC7BA8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BFE0A-4B83-44DE-9E8A-5C02555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B9EC2-BC06-407E-A7B0-8F5488DD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16A9D-9E0B-418D-9DC5-262DBED0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5C56-0326-4DBB-AE74-2817737D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95B5A-F85A-4F2E-94AE-EB23D5EC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E0486-B88E-4A39-B79F-42B80903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0EF4E-36EB-44C9-8042-9888B518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2A316-7AA7-44D5-85D0-2186BA97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A676D-25B9-432D-BF4A-36491A0C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5E1E5-B255-44D3-A77E-BCF7D64E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BFCCA-6C90-4751-A73A-43DEEB08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8856F-8CF9-4961-9106-FCACF8F9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9E57A-EB74-4CAC-84F8-A5B775CB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A43E9-CBFE-4AF3-9724-8C17F312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CE0D-DE7A-453C-8786-01B1AEB0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91530-C8FA-4299-B116-ACF7D088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C6BEC-2A35-4F53-9527-EDA9C1C2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FBFFD2-4B3A-4726-9A2D-7D7E962D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79378-CE58-49F7-902E-8C57A138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5D41E-9B19-4E77-81CD-FD76F366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D3784B-A091-4471-BD21-F559A567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F8A88-B19E-41D6-95AD-F5C336FD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FBCD9-24D1-4C37-A0CE-6824CF11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5445F-5378-43A4-8C77-7C0A3BCE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C4AC4-A47B-4F67-AAD6-A38DCD2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0F7-8174-4AAE-8A66-EC7D8040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D259-5789-4C73-96FE-768031B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2AA5E-919B-4FDA-9AE4-8357C5F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8757A-8822-4FEA-BE4C-19523B34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4C784-2306-4045-B79D-EBA668B9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08B01-FB4C-4E0E-A2D2-9918C049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436E7-7388-47AE-BEAD-BF380CE7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7CEEE-DA56-4133-B3A6-E8217D12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389FE-C74B-4E04-9CE8-B9CC2A5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DCBC2-6A78-47E9-B69E-68BE1D70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EE2A0-A903-4FC5-83E8-D1509AA4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A15D1-D0B0-4507-BA3B-0A584370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9083-6931-4D70-85A4-B2BC564B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7DF28-7B01-4FBB-9293-0566DAD4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024F7-B8B6-4EDD-ADED-4E55738A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4ABBFC-5DBA-4212-B213-F2259CCB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294D0-1A5A-4A61-A57A-D4220E53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B18A2-1A02-4924-AB1B-7E5D917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DAEFD-BA65-41E2-93C0-EE56AAE4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E132D-DA8D-4133-B496-5D9D9651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378AE-0B7C-40BA-9B7E-2E4AA7CA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BCEBD-A02A-4694-B2FA-503B79B7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0C3F9-4FCE-4138-BE00-7F68DA63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729C-D939-4FF3-AB1D-B4982FE1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2672D-580F-4638-911C-D5BA1DA1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D2421E-539C-445B-9F9E-B7DB9848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A13C8-F4A3-4F4B-BFCE-9D14CA5D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C34ACC-CAAB-456A-A136-EA6FDFAA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7B2B57-0646-49F7-9ECD-CF2AA569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905618-7B69-4E76-B26C-F59539A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0C9E9-FE9C-4C4C-BAB0-0D3ED7BA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88D3F-B709-408B-A9AF-CDC995C0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E671FA-6ADC-45C4-A420-A11D8F89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7292E-9D2C-48DB-BF18-2D8B1441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8245-5DBC-436C-9DF8-0A821D7F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B42CF-11AC-4129-BA47-77B84E3F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DDD641-FDD0-4F29-8C7F-24103E58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DB9D5-A1ED-4FA6-93B8-1219116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094C1-5D65-44BC-AD21-25DBE406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0EDF56-317D-4ABB-99E4-79A32603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2E461-6FBE-4A01-B750-5F0B9BF9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7E9380-720B-4E55-A615-C78F0DFE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26E35-8C37-450C-9BE1-D55814D3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1338E-1197-4A01-A2BC-B075ACC4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68AD4-4E61-4541-A835-65732B74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294E-A4F4-4DB8-B362-281B0EC6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B5084-14EC-4EFB-8345-0F56C46A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2237D4-B4D4-4D71-91C9-F0AF961C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DA879-1545-4B60-B544-A089385E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E06CF9-F4D5-46C3-8DE2-61075323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53319-ADD1-45B5-BCB5-B21459ED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8D353-6CC8-4B9D-BC22-72C79617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369A33-5140-495C-A464-B2080F3D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4EE01F-EAF4-4BD7-862D-8F7C7784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8AC8C8-526C-4700-9ED3-90C952BB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69FA0-2238-4357-95D8-F231807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D6A5-41BA-44DE-8A0C-FE335F74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74EA0E-50DF-4A57-AF71-8F78254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0FD0B-28A8-48D2-92E2-090DFB4E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A4E8E5-D313-4FAC-806C-70D453A5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42F152-722E-4FB2-97D9-94CAA060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D9D8AC-678B-4DD3-9D3A-4FFAC363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215164-FB16-407B-BF3B-8FF84FFB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96CD3D-C741-4230-9041-8CED1743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E8F93F-579F-4E83-B242-8238B0C3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674C15-8306-4A7C-93EF-C7807664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8B2366-7313-48FE-811C-0601023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7EDF-0454-47B4-9E73-AF735B56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B721D1-4D5C-4C18-9340-EE33AEC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37A222-750C-4E7F-AAF2-6784D02A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A694D9-AA63-4D63-A5C3-E7917512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14C509-D5E6-4A08-B8F3-90BDB1B3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A963FC-8A3D-4493-8807-696C780E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713453-78E0-4D3A-BFE7-2E334C4E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CC38D1-C328-42B3-8850-673D1533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976306-4CD3-4FF2-8DC9-92779388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EF5CB6-F7AB-4E66-9F48-55EBB678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AE615-FFCD-4B2A-B0C8-D0205CD0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B900-C2A5-4B8F-9F0E-193F99AF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A1CF04-D66D-4BAD-813B-DD9EA547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74B0D5-4220-4FA5-86FC-AA01DE6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FA412E-FB9E-4C9F-8C68-17EB4E40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6CDBC9-CB2B-422B-86E5-81CC6E5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DAEAA4-8818-434D-856D-3F51574C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7016C1-2018-4932-9E93-AEC32B76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23B1A8-62EE-47A7-B674-538C090A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A50FA6-5F11-4A4B-945E-92B4622B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790DDD-238D-4AB5-9E58-641D7AAF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6CCAA0-5D45-4071-8E46-CB182989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BA47-618B-4BAB-B8F4-8AE04F03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8080BB-AC16-477C-8D66-BC31C8D4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2D183D-26C9-4822-ACB3-0D8D4C77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96F0F6-4E98-4208-8BFF-83E8C5E7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E8323B-2FE2-4AA4-9DF5-DCCABF9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58DD27-62DC-4655-9B04-9F18295F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5AD25A-44AC-4054-9046-888BD00E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7A694F-10D4-4165-BFB4-A5D72720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070F88-87C5-4DDC-A7F2-8A84544C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D7C13A-87AE-4C34-8B04-30681FAF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FA59CE-C8E0-4C40-BA9B-8F020336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F687-0F4C-4E9B-8AA5-60F0BC96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EBCE45-5552-4E3D-8943-08995EE4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C4D036-9D9F-430C-8C61-37E89001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4A1970-3C06-4583-8681-DF70C3E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091F66-44FB-4517-9E8D-4B4BC9F8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774D23-C7BC-4EAC-BEE6-4517EB9A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6129EA-2832-4287-877E-D2C9115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D1E7A3-2813-490D-A4A1-535F4320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CC47E9-EA37-4686-AD65-E2961FD9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6832E3-ED8C-4DA1-A2C9-92EAAC52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A8FAC3-3684-404E-BCC6-6C8197FE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2D1-26F1-4735-97D5-A6F88F6B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F7FF-1A6E-4A40-8871-412886D6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DC6A8C-0F8E-40CA-95A4-E91006CD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B511C1-BAED-46FE-BDB2-61791836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D1806E-6BDB-4CD7-8B24-DEC496D8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453B55-82BC-498D-BE86-44E20014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66D177-7C89-40EB-A603-C05F11FB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5AF521-8A8E-42C3-968B-A802FFDC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EE154F-3350-4248-A878-4AAE310F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9F5633-7ECD-46C4-80DF-2551082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5A7AD6-76F6-4831-B05F-0A54797F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64AE1C-C5C6-4BB1-83BF-EB30D0CD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A61C7-E3D2-4979-B52A-4210E8F5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A1AE46-C940-499E-AE3F-CE48EE8F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FE03D5-729D-485A-A356-822A487C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93BAA7-5446-4A57-93D8-87DF5273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9B8EBF-78F5-4769-9F50-4583B1DE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108B56-1BDE-4C49-9601-83B28C4F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EB1C24-09D1-4979-8A0F-D85B0304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0CEA3A-2F1C-481C-A4E8-91F611CA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4D8685-C097-49D2-ACFF-4AB879F0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FCDEF9-77D1-43A9-8D6E-06FF6289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84ECA2-A1A4-4DB8-AD02-FD769EE6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128F-1110-47C3-8058-3223255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869DD6-0DF9-4D34-BFA1-5ABFFA3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88F824-9FF7-4557-959A-1713D12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D89F76-56AB-4F79-B59A-B8DF3C8E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6DFB41-0E5E-4174-85E1-F1F1DB6A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6EA3A4-D9D9-4E9B-9F23-AB4C1E48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AAECA4-3B94-485F-B072-58361925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ADD0B4-0890-461E-B016-F2DC06D9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35C39E-8396-430C-8EE1-185FADAF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C679C1-E379-4FD1-8BA0-61EE5D9F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1A52E1-DC8E-4403-9FAB-9B47A829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430A-2D68-4C3E-BE2C-2C799A91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C723C3-75E2-4466-9E7B-347950C5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3596A0-ABC8-4C68-943B-B79A4C1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FD0B12-17AB-45C2-A80D-592AAC2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84BDCF-018F-42FC-859B-AA6992EC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F44167-6B64-418E-876E-70D979C9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0DEE54-11DF-4BCF-99E3-C971326C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BFD63E-648D-4160-8F44-0D236AC5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BB7CCB-0F5B-4881-BC89-4BDC5288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1E9E04-883D-4229-8B16-1B06C6A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49F8F4-A092-49B1-86BD-C0D168D0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F103-B843-4883-8385-41D311C2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E7E1B4-01E6-4C0C-BD9B-D0932C15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BD5A38-6BCB-4A17-BFF5-9929A74C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D3F20A-6CB8-4E4E-8E03-61FC64BB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479F41-A81C-4CC9-80DE-0C60B9D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8BF9AF-8C15-49C8-B050-8A22940F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D28961-F6AF-433A-8389-AC1E375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50E93E-9A43-451F-8D21-A3F946CD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6FBCDD-C630-4ED8-9382-4ECD8442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1E0498-DA3A-4C2E-894C-80AE9A98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B9EAC1-1622-44CE-90E8-E9750E95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EAAA-FDB5-4F58-966D-70611263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993913-E38F-4933-AC97-272D5B68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A85A3A-FB4A-4C21-990E-CE214EE8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43B172-8972-463F-8A3A-E7C41996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9F7E19-68BF-4240-958D-29701DA8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9E7B59-E56E-4B43-8A77-88DE1772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E8C23B-1407-4D20-984D-E0893230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7BAC11-CD80-41D3-9178-E633DEB2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0CA844-5FC1-4D9F-A38D-502DB70A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7C0568-B717-4962-9BF9-F9B48E19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A141A2-A802-4BFD-9E1A-6932B90E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8B93-E5C4-452E-A6BD-FE41EE5E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3E836C-021D-4EB0-BF96-E3D57F3A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A27187-DB23-49FC-878D-CEF074C7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9DCFAF-00BB-437D-A5C4-9F896411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53F3A7-B722-45A6-9CF9-9883BD7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C11325-268F-41FF-9E28-1C459060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048FCA-7AA0-4347-8880-37E45418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8B96EF-811E-4504-893C-D6CC96C6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D37960-415D-4824-80CD-B58C202C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6D14CC-DBA0-4A58-B7A9-BB26AAF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0D4226-8448-4B46-89F5-4F1647B8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B0CB4-FA98-4447-BE22-5F712929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DBA5F3-B97A-46C5-9712-D48F108E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D490C6-1F4B-4AFE-B3DE-347C3EF3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6AD7CB-263F-468A-ADA3-CA06C430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74411B-A199-4938-8FF1-8F831E97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F70173-0517-4CF2-9E18-843F7923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6117CD-DFC5-4392-A342-5E058E2D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B411E9-DCCF-4A6C-A947-CCD1B87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B48353-1315-4E87-916B-B1B5F66C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B23DDF-4AE1-47B9-8EE1-16316B9C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B92683-CB0A-471D-B4AE-7F368AB3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0D5E-8515-48BB-814D-A8AE5DDF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571F77-705F-4EB2-9F5D-3FBDAAF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C724A7-3056-4DAF-BB2E-6CCB1474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40B0C3-960B-457E-B7A5-A4312CF1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3F92B4-E170-4F07-BCD8-EE6CD184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95611A-0EA9-4940-8B04-F522B79F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79F9F6-2C8C-4B89-9C74-C32EFCFA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6525C7-08BB-4186-8B90-9BD453B6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95DEC8-F6DC-4EAB-B679-C8DACC2D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E85A2A-BE3D-478D-8858-75ABD026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FEAF63-FD5C-4EB3-94EF-27918053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89D0C-2583-479B-8EF3-9E3CE0C4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7DCDB1-9409-4C3E-8786-31626E57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827053-2516-4638-A9FB-4CDCF2B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D42FFC-993E-44B8-A4CA-CBAC8A35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47750A-316C-4617-B912-6324DCE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D23C69-92F1-43E7-9B04-1E70A68D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BB6997-F1C3-4381-9D37-08161F58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DEA2D1-C78D-4FE7-A9F7-1276942C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26B583-68B7-498B-9461-78E82F0B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15EAF2-5A0D-4B0F-A69E-EB070BE8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49F4B9-595E-4FD9-AC1D-D5350AC7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E83-B22F-4AAB-B185-97AB1170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FFFD-2BB5-419D-822B-B6C09D17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865609-926C-4E15-9E4D-9070D128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B64F03-AA02-406A-A530-3C0CC9C8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AEF3AA-951B-45DB-9063-70F0A541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F42F69-E152-405D-A0DF-B1B6C75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AC8D50-2AE3-4DA2-B316-DF88E8FC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9F2997-C650-4631-A229-7CA4228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3E7F2D-603F-4280-8FE9-B3D3CA7D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DBAD3C-8359-4B04-B555-7590892D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754994-F3FB-4F0E-89FC-6B0B350A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9C0292-F207-45E8-B6FB-0BA64AF8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8233-3B4A-4FB2-AFBD-6D77B63A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CFC1E9-EF41-4216-999A-AD3AE0D6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DDD164-C40D-4983-8073-30974ADE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918DF3-B35A-4D44-9FBF-BECE52B0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5A397E-6A4B-4564-B810-2339359A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52175F-8C34-483B-A08D-7A3F63B4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38BEA8-E7F2-4787-8D04-EBA2792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4980D6-912F-48D1-913F-FE9F9444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F36ED7-BF11-4385-A9A4-15C11D0D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3A5D0E-610C-46B4-8FD7-6C6766D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894620-3B7E-475B-B110-8E3D7B61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AAC2-782D-4800-B30F-C4A64783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3AD11C-2E41-4163-8BC8-EF0B696C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2E7ACB-17C5-4935-A1EE-EAC4E0CB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DCE280-CFB3-4825-B8B4-9D422EB0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4114FC-E3A9-4F48-9C1D-4A500AA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E1F3CB-2D45-4CC3-9099-1BA81704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5DC3BF-625F-48D4-BC54-71FAD5B7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DD1C8B-37F8-4014-9E91-969A0878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524B3C-1C50-48DA-A2F1-09C6763F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144403-6C9C-428A-AA68-6AFCF383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532B3D-CF2B-4B05-B1F5-A55F573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EF76-C5B9-49A1-8960-F6ADBDBE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D2DDC9-AD77-4D05-8292-4AD5E715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7781DC-5F8E-44D5-9998-561DCEF0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80415E-0EAA-4792-A6AD-6673AAB6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64328D-6C17-4DB5-BB63-1B259D51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20A2B8-054F-4774-B5BE-FA0D181C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526B9C-CFFC-4FFC-8A11-594DED32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F46BC86-2354-4A3D-8D29-5F93AA21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7CA92D-2977-4022-AC51-F07BCF3B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9FF39D-2D8D-4B3E-9306-1ACC84A5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7BE331-A5E6-4CF3-BFEE-62040FC7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D98F-7DBA-408D-875A-478C045F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9B63B9-E5BA-4D70-B94A-36270B8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3C6542-9467-4CC2-9F6A-986514B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988B36-D7B5-4AF8-8AE9-8147AEA0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1934570-0F5F-44B4-82DC-7CD32F3C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5F182D-EDD4-4485-8529-F7167B9D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C44C5B-2ED1-4F9B-9166-5006D282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996755-ADA7-4A5F-B461-6FC144C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9296EF-CBFE-4E90-8509-366BD1D2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E11F47-9485-4A8B-94D3-926EFE07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DC332F-36BA-47B6-ADBE-B5864BDF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EB81-3531-4C3B-BFE3-5AE3F6C3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77B0BD-CF5B-4F52-8B4D-8CDA2990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5C1838-5BC7-44B2-B824-BD07A44D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A88B81-F34E-4D6A-A471-8D76230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62BCB5-B1D7-4111-9C5A-A50A84D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5E5FE7-1705-4758-9D32-ADADDA5F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595AF1-4E86-48F8-88BB-2DBE4BF2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F6B6C9-39D2-4E9A-930B-EF1F070F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400C6B-5490-4B76-B60D-B5CA6A8D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738380-BE48-4F49-8139-67C72961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25C6F9-C3A3-47F6-A379-42EE2701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4167-5845-44AD-8B17-1FAFC949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7068C2-2C5B-4747-A87B-F4339420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ED59B9-A3E9-4576-A271-E5D7CDFB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ADCAFA-74EC-4CD2-90C7-98F2A40A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85E24F-01D0-456A-BAD7-A0817C5C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5BB504-F109-4C0B-8F8E-A81135D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95DCA1-BEDA-40AE-9754-DBD272F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F18968-CF67-45DC-A0EC-691BC3F6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5B95275-4D9B-4DD0-8D83-9C028557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F426FE-D176-4522-AD7E-D91A1C64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79EDFE-F2E1-4961-BDE8-6A3A2F83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742C3-1DC7-4F49-81CE-991B8D22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4478D6-94AF-4014-8202-60B807AD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25ACF6-AA77-42ED-AAA0-B6E54E1C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51AC46-87F2-4DC5-9643-F4988EE7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8B4EDF-51BF-47A3-86F0-4D4C61BB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DA84A5-6DF7-4E22-8AA0-A30D451C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754576-F329-401D-B202-19A86AC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63882D-75D3-486B-97BE-5BD4914F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DBCAC7-42B2-4B40-B95D-41AD08C8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3E2D83-3759-4788-9B97-9879D90F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501074-86E1-4469-9340-9FEE88B3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D248-413B-4B9B-8928-846C52D6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D01152-7412-4B21-A1C3-DDE5365B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A51BCB-55AD-4451-A215-A82617D9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5F83FA-DA3C-4180-B997-0CB64E0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898AED2-5060-4A77-9695-5920DB40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1763AC-67B2-4188-B8E5-33589576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3797BC-AE01-470E-AE31-3A52640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89DBDC-65E8-4AA6-B836-DF3A3778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5E0DCD-E481-4459-AFA4-9727F69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D4D78F-DEDC-487A-B42A-09F50B98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1A1AAD-C4C1-467F-BCDC-B9750BB8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8D77F-29F3-4A8D-830E-84A982D0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650BF5-8078-4E3D-8E5B-6AA11543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6FAD1B-438C-4E19-9BD5-DE5F6C96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7D0325-43B3-4E97-BBD1-9B2947CA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39ED5A-A85B-43FD-A4BA-4A297B7E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1F5A67-BE1C-4584-883E-832FBAC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6AD0A1-827A-4A2E-8552-DA0F953A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D225F5-C814-4E86-9607-B88D2E2D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8BC1FA-1F0F-4ECE-908C-5968C01F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6A44C50-907B-4EA4-89AE-1B5914A8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90C0446-2C50-4206-ABE1-262F5F6A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806-4650-471D-B4BD-8419BF24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B00D-0460-4ABC-9FC1-58F149E6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35E9EA-0A2F-4996-B930-56F417E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6F4255-7774-4E43-8306-86507B21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7BBFFB-2E87-4984-A602-497A7BD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79719A-4092-47C2-8498-48FB8D83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54AD322-82BA-4DD2-BB7C-C9A0C1A7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335312-DA40-4B1E-AF03-B867836F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1EF5829-D4CC-44A1-9E19-E9F464FC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F5F258-5BEC-42F8-B8F1-44131800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A0B455-4AE0-4433-BD6D-D08CB3DB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8A179E-9915-48A1-8971-A1527FC3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08873-0172-4111-99D3-789237CC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9E27DD-BC1F-4F4E-920B-DE54659A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3B2ED2-4631-4253-B1F3-410294A2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4AB4B9-9EE3-47E0-B5C9-2A4D16C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4514DF-509B-4569-98EE-CCA40E25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099E15-8F8C-401C-A101-78DD7849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FA7E6D-7D73-465A-8BD6-C62FAB80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8D88E4-0F73-44A9-B4E4-840CDA6D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AF5A11-F5C3-496C-8AF6-02BA612D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AF59DD-3743-4611-B4E1-B185DA70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FD06EA-B410-477B-BADE-C3DCFB84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3367D-4F0C-4F12-B46F-C0D9008B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8AC04D-1623-4C9A-820B-5253D227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5AEC4C-EA27-49FE-8924-43D6AF91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1545270-99C7-42B5-85F9-B35AABB2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25C6D1F-4C1E-419B-AA9D-4AA7F9F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8D68D0-355F-4E61-A5CE-0D2B790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0007E9-FB53-4B7C-951A-B5C6CC1A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0A54DC-90A5-4EB6-A680-7CAD5830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97889B-096F-463A-A06E-B29996EA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A6E4A01-61C2-441B-93FC-8C33A4D3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8741B0-2291-4D0A-B393-A9A91645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6EDEF-4E59-40BF-BB31-A7E0A36F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F5DEE5-4B3E-4AA5-AE4E-42118E6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0A44F2-B7B9-4D4A-ACC8-6C16D4A1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BDE79F0-9F44-43FF-808C-68879AB1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7380F84-5FE1-4612-B581-D406377B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96ABBC-8D08-4071-B07B-4E968A94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29B386F-B75D-4C2C-8A23-C0B2304F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3DA98A-8018-456D-8D49-B0ECA71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E8F3D0C-B0E3-4270-BF76-F8216A4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280B79-D9D8-42C3-A0EB-830D0044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8F63A56-CA01-4EF9-B08D-48E32A45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D671-9D85-41D9-8D23-7DE11C1A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C7C7EBD-B33B-4BD8-B963-A7E05EDA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676BB4-E202-4E44-9DE7-908AE754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B27A68-8731-42D6-A5FA-08B5EE0E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C51B6EA-A847-40D3-B9AD-5D60A309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95CB66-E2D5-4AA7-998D-6EFFECF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6EEA84-0E84-419A-9772-10A1A179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25D2F4B-6225-4D96-88E2-37E85613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1D6F69-9E11-497C-ACAF-3E694725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49836A-C2C2-4604-B638-1DD85AD2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0ADD62-F311-4BF8-A55F-87F25DB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F56B-3F83-4F38-9532-D4E9A41E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199C4C-B294-4161-97DB-C0EF845D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E5D92E4-4032-4624-A2B7-3E1978BB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B06579-E80D-4781-8B6B-AAA8C472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1A1927-8958-477E-B614-FE90E6C9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23AD71-0EE4-44A8-9720-EF788CD2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CD1164-1EBC-479E-9D9D-76018E56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14A52F5-92C8-408B-B919-8134A480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A95181-FC58-410B-AC4C-8BE2A3B6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0E35498-3873-4A9B-AF93-EADEF3E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244F72-EC06-4126-8266-D3519BDE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FBE4-7927-4277-915F-9AAC332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E10C3D-AA04-4F71-908F-4A593029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E19B15-5F81-47BF-BEEB-D760168C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4D8F64-358F-4E82-A5AF-39E62F1F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E72254-3CE0-418D-98D3-33AE3E0F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58704C0-722F-452B-9BAD-11544504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67C9B73-ADCC-49EE-BE2C-2C2B2D58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6EB3CE-5BAB-483E-9FAC-D94F6BB1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93DB92-BE0E-4A34-B36A-871BD73E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BFC0949-2CEB-4FA2-98C1-29D79C65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1C66B0-E164-4470-BF12-64D672CA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3A46-EC47-48C0-BB67-488E8ECE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5B1D851-17B8-4B08-8CF6-F2325724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CE7F80C-36E2-49B5-AFDB-D4458BEA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E59E3C-7D70-411F-B122-DC2BFDAF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180284F-8BE3-425E-85ED-6EA18CA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85E88A-1AD3-498A-896C-6C97C7FE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1468E6-E3A4-42E6-A654-0F7B86A4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B92AAD-B216-4DAC-87D6-2CD3DEC4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A3AFF04-9881-4FE0-A3D1-0A6892F8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B6D071B-0E22-49D9-9C78-3317D699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BF5367F-FB4F-42EF-8A84-3F67852F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B4CF2-B920-49AB-A68D-338F33FF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465B93-F0DF-4086-90B3-AFC423F6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F450216-759A-445A-8397-80438556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2815A47-499C-43A5-918D-C4D97F39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BF0FA6-F8E9-40C4-8F58-8C7940D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A51400-3406-409B-8C7C-5C1DD6FE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4A874E-DF27-4439-8470-A333AC0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D10600-5DAF-4D0D-9C7C-B6ED52EA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DE412F-A90C-4095-829D-69593131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4FD9456-340D-44E3-9503-8E43868A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951A63-CE6A-480B-938A-C6B3D2E6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1840-60E2-4EE2-9DD1-8315AA41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E7E63AD-2860-4B6E-903D-D1D444AA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37F76A-456D-4319-9D33-FE2B766D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EF58A67-0538-46C5-A111-9F3004DA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AE677E-5164-475C-9FA4-36993FA2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19DE470-BC8A-413D-A4E5-A0CCC556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DE70F5-B527-4D4C-8E39-2A7306C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3E7489-E977-48C7-855A-5A3C2AFB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C7C17C6-D85D-4DE7-A143-2CE43C8F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01E21A-B2D7-4364-8FE1-D0D64E8E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28F791D-3518-439D-A46D-502A07DF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204-52D1-441E-8311-AEEBDE21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D236-E962-4104-9E5C-EBD5898B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4FF12B8-CEED-473E-8AD1-C23CC218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B6489-AFCA-40FA-8801-D7A4F5C8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273F5-E016-473B-8539-57FE6DDA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4A81E-8DB3-4E20-9AE5-5945574B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6FDB3-5C8D-457D-B01B-C1FB82EA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57F54-6CE2-4FCA-9187-EEA96247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25E8E-6974-4CDF-B103-F2EB14D2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6C744-C3EA-4D24-927A-7A164055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27CF0-077E-41A4-96D8-E8575B82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B6410-9C7F-4015-B79E-8E4CBFE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B31-7348-4A08-B76F-5593CD3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9B931-00B9-486D-A1C3-20D4D7EC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79D42-5C08-4325-846C-2A18BA4F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194A0-8EB5-43B3-89D4-E84322C4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5A41C-F6D8-4400-80C9-24D8923F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73224-32D0-463A-B7FD-46A5D487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CC59B-6CF1-4FE6-8D5F-23A4E96C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39254-19EE-4181-A41A-39103422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DA075-C1B2-49A6-A88B-0BCD243C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DEFF9-E111-472D-9928-98D72A4B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A4087-90B7-4950-86AE-9BE4C16D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FC0-2195-44DD-BA36-5F81E319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959F5-11FF-4B70-8487-7C581F9E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91DC-B7D0-462D-BFCA-58CB5B4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9CD82-37F7-47B3-BAC2-B2AAAF51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26127-9439-4A91-9E05-E7D0EB4F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8212D-1804-4BD7-A463-4F97F8F6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B7E98-E8AE-47B5-A374-5A2D4993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AC586-30AA-44A2-8D25-8C9890A4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120C-BEB1-4182-8C3B-2C406DEC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DBE16-31AB-4F25-B5B6-4B1781E7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331E-0AF4-451B-A063-57EE816E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22D-0E77-42B7-902E-655533D3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92D01-33FB-4E17-A126-EF9BE8F9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EE935-7B87-43FD-B1F2-68BF4AF5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8A7C0-39B8-4839-BE13-41A4108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949EE-ED60-4A55-B4C2-295D4A92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BBEBB-1676-4239-90D9-73A060FB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AFC03-E5F4-4EBA-B0C4-FF6C9CCC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B4AC2-6A03-4AA8-A1F2-743BB8FD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27788-9703-431B-AB1D-152E4F9F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C3FD0-4E68-47E9-B9B6-52181F18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6AD5A-7F35-4316-B0E0-DEF3D6A3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E952-C5A5-4D81-BF68-FF2CB410B2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6C86-804E-4623-A998-10700AEF4C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12DA-D7F3-4FA9-A2AE-20934BF5E3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C046-79FA-4AA2-BA40-53ADB91DC9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EF14-0317-425D-92F4-B99313D7A2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4DE4-AE44-41E6-BEAE-0C0A74CBBA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C9DB-157E-4F3A-A939-5027EB6CD8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C24-EB37-4C5D-8BCC-639ED9255C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E031-D6A6-48D3-8F02-AF4DEA2237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12C1-1D45-4761-8774-F1493D3CAA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8B2C-B03C-4CAF-BAB4-2D8CCF4BDB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7D61-2EF8-46DD-A2E1-60C52E1402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E0B1-BC9C-458F-8AB2-8342DCAF18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E91-5EC2-4EB3-97DB-BB6CB43B3D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7" descr=""/>
          <p:cNvPicPr/>
          <p:nvPr/>
        </p:nvPicPr>
        <p:blipFill>
          <a:blip r:embed="rId2"/>
          <a:srcRect l="400" t="1911" r="0" b="0"/>
          <a:stretch/>
        </p:blipFill>
        <p:spPr>
          <a:xfrm>
            <a:off x="0" y="0"/>
            <a:ext cx="9142560" cy="68436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47B2-FB8A-4E96-A406-51E32A576A3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1A43-3D3B-4B4E-8AA9-126CE71BD13E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CEE6-19A1-4C7B-9218-A3E5134600AF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AB78-3B83-414E-8CB3-905B8F965659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9D44-5C9A-4748-95EB-49A8D0B48A11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5CB-BFF5-45D6-B587-C3261FD3081A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166A-2605-400F-AE0F-7CF873E0A562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00E6-8B86-4012-8203-CD9CC3E325E1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E916-4EEE-44EE-B35B-F56969D59AD3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0160-6824-49A0-A55D-FEC887CCA41E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A655-65CC-48F1-97B5-A1AAA962F7E7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0716-4204-431F-8100-B729EBF757F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8407-0A65-4A78-96EC-DFD7D23841EB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6F2F-595A-49BF-8F2F-71D0123BE00B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A462-E583-49ED-ADA1-E4ABAABBD5B4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397B-A896-4EB8-A621-6F394F6D08DE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0DB9-9F61-4D8B-B3FC-45D4469CB886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7F6B-11D4-4CCC-8CC0-738AD28DCD2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A7E6-B84D-43B2-9432-A16E0D9AA46F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804B-7A8B-485B-8E7C-2D1B91B81DBD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DD6C-6DE1-4075-B59D-2817BCCB52C6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258C-01D8-4102-8BFA-AA61923E08DB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5A64-A91C-472E-BA04-CAE15B61ADC4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2595-217E-4063-A03B-B51E45AB0933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08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8472-FE07-492B-A24E-DB26E95E514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8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8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3A92-84A3-4C3C-9DD9-0D88B9BF61C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8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8689-A8CB-4F88-BF76-9F95B9D0561E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8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8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A082-9A83-41AF-8E3B-59EACBB9BB77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7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4C9A-3986-402E-B425-6F013287BDA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49C9-527A-420E-BFF2-12CCB2DAF4C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44D7-0C17-4624-BD87-251DD30B0F0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F87-92BA-4E7B-B1AB-C2E177EE6E4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8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1E0-535B-48B8-9A37-8169C30A340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9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90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25BE-8A74-42AA-BD25-D36D9AE94CF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91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1C5E-E96E-455F-B857-89FE1BB5F5D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92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93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08FB-1679-458D-A986-F17D7FDE04F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4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499D-E7C6-4F67-B092-03292A98B71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5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6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EC90-E2F2-4B96-8D23-058BCF377FB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CC33-9DE4-4428-AA4D-22387B8AD7F2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AB43-BDED-4A1C-B6A2-D61C38082BF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9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00C2-5244-45A9-AD99-929D07133FF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01D9-B1D5-44B8-819B-D25986C198D4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D9A9-0929-4110-BF96-41721FAD253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C6B7-ECC2-4295-B8EA-DE1C237DF56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6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EA72-7513-46E8-8E80-288DE9A1651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7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888-827A-4058-860E-9E795F72C7A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10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796D-FAED-447E-A8EA-DBC6DE414E8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11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8ABF-0ABF-4F2A-AD40-A1167415A32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1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FA7-02A8-47C3-97B4-7E3C71DBFC6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1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1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80D-581E-4D15-A264-4CCD0A27360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61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1E94-B8ED-42F2-8904-CEE7EF87B15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7A1D-49D0-4DF3-B07B-D8993C54C99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5D34-6A2C-47E2-94C7-015A3668CD4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2C8B-9091-4945-B56C-06AB6142F1C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A421-698E-4009-8286-BB2250C0277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2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87D-C073-43F5-86BB-DFB872D889F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0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21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BD03-A39E-48C0-A80C-D091578E02A2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22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23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FAF5-739B-46FD-A16B-76524AA963C7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dt" idx="124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62A5-7FC3-46CE-A789-B7F3A6BA002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ftr" idx="125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sldNum" idx="126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B23-48EE-470F-A733-A355AA2670F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27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F238-6B07-4D04-B2FA-CA22538F800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28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9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E032-D0F0-4D98-BD87-3618598EFE67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3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dt" idx="13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F56F-655C-47E7-A555-560D0FCBE75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ftr" idx="13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 type="sldNum" idx="13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1884-4B5C-4A98-8A15-8FE8684D5CC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3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BC95-0639-49E2-9222-19515C1E5F9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3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3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0556-5E6B-4FD2-ADC4-BA7F038C1B4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2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36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7072-170B-4C13-972B-69BD3FB5819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37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38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7039-B29B-4F0D-842F-D6A3F8697D3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9BC-365B-4D87-8771-D40380B6D65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FD6D-AEAA-4EA6-A5B6-78AAA3466C2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dt" idx="142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9B55-7BB4-4E3F-BB04-658915C2185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ftr" idx="143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1591-70EB-450A-9FDF-682C53DA5A3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14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6B16-6AAB-4236-82FE-DA451693F37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14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A6BB-CF80-4B9B-A79F-99344109F88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3E3A-AFC6-4538-93B8-649D4BC1B7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EC27-C667-4A75-BB11-5625CB9F40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14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28D-48C4-47EF-B7E6-2AFA80962A1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14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15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9656-0679-4B7A-A2FC-0580ABE70D5A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F61-B780-4348-B3C5-11A2FAE7DC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F1A8-4009-4F91-BB15-B2BF419A31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117-B2C7-4307-9257-D84E5B370A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A9CD-0E34-45A6-9379-34381DF1C4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4C45-4F2E-4E7B-A841-109B8F9C96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0C2E-7161-454A-B623-8B4C157AFE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96FF-46FE-4AB1-9EB7-CC699B6C14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0F92-8F5C-4D84-8DD1-35C46291E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44" descr=""/>
          <p:cNvPicPr/>
          <p:nvPr/>
        </p:nvPicPr>
        <p:blipFill>
          <a:blip r:embed="rId1"/>
          <a:stretch/>
        </p:blipFill>
        <p:spPr>
          <a:xfrm>
            <a:off x="2328840" y="2428920"/>
            <a:ext cx="4486320" cy="157176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4"/>
          <p:cNvSpPr/>
          <p:nvPr/>
        </p:nvSpPr>
        <p:spPr>
          <a:xfrm>
            <a:off x="1225440" y="135720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七单元  时、分、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1300320" y="492588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成都棠外附小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方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内容占位符 37895" descr="ANI_023"/>
          <p:cNvPicPr/>
          <p:nvPr/>
        </p:nvPicPr>
        <p:blipFill>
          <a:blip r:embed="rId1"/>
          <a:stretch/>
        </p:blipFill>
        <p:spPr>
          <a:xfrm>
            <a:off x="744480" y="2133720"/>
            <a:ext cx="1743120" cy="2506680"/>
          </a:xfrm>
          <a:prstGeom prst="rect">
            <a:avLst/>
          </a:prstGeom>
          <a:ln w="0">
            <a:noFill/>
          </a:ln>
        </p:spPr>
      </p:pic>
      <p:pic>
        <p:nvPicPr>
          <p:cNvPr id="2358" name="内容占位符 37896" descr=""/>
          <p:cNvPicPr/>
          <p:nvPr/>
        </p:nvPicPr>
        <p:blipFill>
          <a:blip r:embed="rId2"/>
          <a:stretch/>
        </p:blipFill>
        <p:spPr>
          <a:xfrm>
            <a:off x="2940120" y="2413080"/>
            <a:ext cx="2400120" cy="1679400"/>
          </a:xfrm>
          <a:prstGeom prst="rect">
            <a:avLst/>
          </a:prstGeom>
          <a:ln w="0">
            <a:noFill/>
          </a:ln>
        </p:spPr>
      </p:pic>
      <p:pic>
        <p:nvPicPr>
          <p:cNvPr id="2359" name="内容占位符 37897" descr="ANI_022"/>
          <p:cNvPicPr/>
          <p:nvPr/>
        </p:nvPicPr>
        <p:blipFill>
          <a:blip r:embed="rId3"/>
          <a:stretch/>
        </p:blipFill>
        <p:spPr>
          <a:xfrm>
            <a:off x="5794200" y="2763720"/>
            <a:ext cx="2711520" cy="1735200"/>
          </a:xfrm>
          <a:prstGeom prst="rect">
            <a:avLst/>
          </a:prstGeom>
          <a:ln w="0">
            <a:noFill/>
          </a:ln>
        </p:spPr>
      </p:pic>
      <p:sp>
        <p:nvSpPr>
          <p:cNvPr id="2360" name="文本框 37898"/>
          <p:cNvSpPr/>
          <p:nvPr/>
        </p:nvSpPr>
        <p:spPr>
          <a:xfrm>
            <a:off x="1041840" y="51958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文本框 37899"/>
          <p:cNvSpPr/>
          <p:nvPr/>
        </p:nvSpPr>
        <p:spPr>
          <a:xfrm>
            <a:off x="3348360" y="45813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文本框 37900"/>
          <p:cNvSpPr/>
          <p:nvPr/>
        </p:nvSpPr>
        <p:spPr>
          <a:xfrm>
            <a:off x="6173640" y="51195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游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3" name="组合 37901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64" name="椭圆 37902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文本框 37903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3847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中央电视台播音员大约可以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字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7" name="Picture 4" descr="新闻"/>
          <p:cNvPicPr/>
          <p:nvPr/>
        </p:nvPicPr>
        <p:blipFill>
          <a:blip r:embed="rId1"/>
          <a:stretch/>
        </p:blipFill>
        <p:spPr>
          <a:xfrm>
            <a:off x="4500720" y="765000"/>
            <a:ext cx="4262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831680" y="5536800"/>
            <a:ext cx="66056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汽车大约可以跑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br>
              <a:rPr sz="3200"/>
            </a:b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9" name="Picture 4" descr="汽车"/>
          <p:cNvPicPr/>
          <p:nvPr/>
        </p:nvPicPr>
        <p:blipFill>
          <a:blip r:embed="rId1"/>
          <a:stretch/>
        </p:blipFill>
        <p:spPr>
          <a:xfrm>
            <a:off x="1579680" y="9968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076360" y="1052280"/>
            <a:ext cx="3529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激光大约可以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千米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71" name="Picture 4" descr="激光"/>
          <p:cNvPicPr/>
          <p:nvPr/>
        </p:nvPicPr>
        <p:blipFill>
          <a:blip r:embed="rId1"/>
          <a:stretch/>
        </p:blipFill>
        <p:spPr>
          <a:xfrm>
            <a:off x="468360" y="1341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Picture 9" descr="u=788106986,66757298&amp;fm=0&amp;gp=0"/>
          <p:cNvPicPr/>
          <p:nvPr/>
        </p:nvPicPr>
        <p:blipFill>
          <a:blip r:embed="rId1"/>
          <a:stretch/>
        </p:blipFill>
        <p:spPr>
          <a:xfrm>
            <a:off x="1501920" y="1089000"/>
            <a:ext cx="5734080" cy="4140360"/>
          </a:xfrm>
          <a:prstGeom prst="rect">
            <a:avLst/>
          </a:prstGeom>
          <a:ln w="0">
            <a:noFill/>
          </a:ln>
        </p:spPr>
      </p:pic>
      <p:sp>
        <p:nvSpPr>
          <p:cNvPr id="2373" name="Rectangle 10"/>
          <p:cNvSpPr/>
          <p:nvPr/>
        </p:nvSpPr>
        <p:spPr>
          <a:xfrm>
            <a:off x="2334240" y="522936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猎豹</a:t>
            </a:r>
            <a:r>
              <a:rPr b="1" lang="en-US" sz="4000" spc="-1" strike="noStrike">
                <a:solidFill>
                  <a:srgbClr val="d72f0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d72f0d"/>
                </a:solidFill>
                <a:latin typeface="Arial"/>
                <a:ea typeface="宋体"/>
              </a:rPr>
              <a:t>分钟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大约能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3" descr=""/>
          <p:cNvPicPr/>
          <p:nvPr/>
        </p:nvPicPr>
        <p:blipFill>
          <a:blip r:embed="rId1"/>
          <a:stretch/>
        </p:blipFill>
        <p:spPr>
          <a:xfrm>
            <a:off x="-1440" y="1166760"/>
            <a:ext cx="8883360" cy="41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流程图: 可选过程 34818"/>
          <p:cNvSpPr/>
          <p:nvPr/>
        </p:nvSpPr>
        <p:spPr>
          <a:xfrm>
            <a:off x="5364000" y="2050200"/>
            <a:ext cx="2519640" cy="132876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你可以背诵几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乘法口诀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b4b75c"/>
                </a:solidFill>
                <a:latin typeface="Arial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圆角矩形 34819"/>
          <p:cNvSpPr/>
          <p:nvPr/>
        </p:nvSpPr>
        <p:spPr>
          <a:xfrm>
            <a:off x="4648320" y="2971800"/>
            <a:ext cx="3809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圆角矩形 34820"/>
          <p:cNvSpPr/>
          <p:nvPr/>
        </p:nvSpPr>
        <p:spPr>
          <a:xfrm>
            <a:off x="3886200" y="1676520"/>
            <a:ext cx="48006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组合 34821"/>
          <p:cNvGrpSpPr/>
          <p:nvPr/>
        </p:nvGrpSpPr>
        <p:grpSpPr>
          <a:xfrm>
            <a:off x="5076720" y="4221000"/>
            <a:ext cx="3342960" cy="1009800"/>
            <a:chOff x="5076720" y="4221000"/>
            <a:chExt cx="3342960" cy="1009800"/>
          </a:xfrm>
        </p:grpSpPr>
        <p:sp>
          <p:nvSpPr>
            <p:cNvPr id="2379" name="圆角矩形 34822"/>
            <p:cNvSpPr/>
            <p:nvPr/>
          </p:nvSpPr>
          <p:spPr>
            <a:xfrm>
              <a:off x="5220000" y="4221000"/>
              <a:ext cx="3199680" cy="100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fd9"/>
                </a:gs>
                <a:gs pos="100000">
                  <a:srgbClr val="ccff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文本框 34823"/>
            <p:cNvSpPr/>
            <p:nvPr/>
          </p:nvSpPr>
          <p:spPr>
            <a:xfrm>
              <a:off x="5076720" y="4437360"/>
              <a:ext cx="22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你能画几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笑脸 34824"/>
            <p:cNvSpPr/>
            <p:nvPr/>
          </p:nvSpPr>
          <p:spPr>
            <a:xfrm>
              <a:off x="7380000" y="4365720"/>
              <a:ext cx="791640" cy="770400"/>
            </a:xfrm>
            <a:prstGeom prst="smileyFace">
              <a:avLst>
                <a:gd name="adj" fmla="val 4653"/>
              </a:avLst>
            </a:prstGeom>
            <a:solidFill>
              <a:srgbClr val="ffcccc"/>
            </a:solidFill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组合 34825"/>
          <p:cNvGrpSpPr/>
          <p:nvPr/>
        </p:nvGrpSpPr>
        <p:grpSpPr>
          <a:xfrm>
            <a:off x="1070280" y="3530160"/>
            <a:ext cx="3688560" cy="2285640"/>
            <a:chOff x="1070280" y="3530160"/>
            <a:chExt cx="3688560" cy="2285640"/>
          </a:xfrm>
        </p:grpSpPr>
        <p:sp>
          <p:nvSpPr>
            <p:cNvPr id="2383" name="爆炸形 2 34826"/>
            <p:cNvSpPr/>
            <p:nvPr/>
          </p:nvSpPr>
          <p:spPr>
            <a:xfrm rot="540000">
              <a:off x="1187280" y="3789360"/>
              <a:ext cx="3454560" cy="1766880"/>
            </a:xfrm>
            <a:prstGeom prst="irregularSeal2">
              <a:avLst/>
            </a:prstGeom>
            <a:gradFill rotWithShape="0">
              <a:gsLst>
                <a:gs pos="0">
                  <a:srgbClr val="fff9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文本框 34827"/>
            <p:cNvSpPr/>
            <p:nvPr/>
          </p:nvSpPr>
          <p:spPr>
            <a:xfrm>
              <a:off x="1556280" y="4449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写几个字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34828"/>
          <p:cNvGrpSpPr/>
          <p:nvPr/>
        </p:nvGrpSpPr>
        <p:grpSpPr>
          <a:xfrm>
            <a:off x="1403280" y="2421000"/>
            <a:ext cx="3313080" cy="790560"/>
            <a:chOff x="1403280" y="2421000"/>
            <a:chExt cx="3313080" cy="790560"/>
          </a:xfrm>
        </p:grpSpPr>
        <p:sp>
          <p:nvSpPr>
            <p:cNvPr id="2386" name="双波形 34829"/>
            <p:cNvSpPr/>
            <p:nvPr/>
          </p:nvSpPr>
          <p:spPr>
            <a:xfrm>
              <a:off x="1403280" y="2421000"/>
              <a:ext cx="3024720" cy="790560"/>
            </a:xfrm>
            <a:custGeom>
              <a:avLst/>
              <a:gdLst>
                <a:gd name="textAreaLeft" fmla="*/ 0 w 3024720"/>
                <a:gd name="textAreaRight" fmla="*/ 3025080 w 3024720"/>
                <a:gd name="textAreaTop" fmla="*/ 102600 h 790560"/>
                <a:gd name="textAreaBottom" fmla="*/ 68796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文本框 34830"/>
            <p:cNvSpPr/>
            <p:nvPr/>
          </p:nvSpPr>
          <p:spPr>
            <a:xfrm>
              <a:off x="1475640" y="2565000"/>
              <a:ext cx="32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数多少个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组合 34831"/>
          <p:cNvGrpSpPr/>
          <p:nvPr/>
        </p:nvGrpSpPr>
        <p:grpSpPr>
          <a:xfrm>
            <a:off x="971640" y="117360"/>
            <a:ext cx="5587560" cy="1663920"/>
            <a:chOff x="971640" y="117360"/>
            <a:chExt cx="5587560" cy="1663920"/>
          </a:xfrm>
        </p:grpSpPr>
        <p:pic>
          <p:nvPicPr>
            <p:cNvPr id="2389" name="图片 34832" descr="仙女"/>
            <p:cNvPicPr/>
            <p:nvPr/>
          </p:nvPicPr>
          <p:blipFill>
            <a:blip r:embed="rId2"/>
            <a:stretch/>
          </p:blipFill>
          <p:spPr>
            <a:xfrm>
              <a:off x="971640" y="117360"/>
              <a:ext cx="1944360" cy="16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0" name="组合 34833"/>
            <p:cNvGrpSpPr/>
            <p:nvPr/>
          </p:nvGrpSpPr>
          <p:grpSpPr>
            <a:xfrm>
              <a:off x="3046680" y="578520"/>
              <a:ext cx="3512520" cy="791280"/>
              <a:chOff x="3046680" y="578520"/>
              <a:chExt cx="3512520" cy="791280"/>
            </a:xfrm>
          </p:grpSpPr>
          <p:sp>
            <p:nvSpPr>
              <p:cNvPr id="2391" name="云形标注 34834"/>
              <p:cNvSpPr/>
              <p:nvPr/>
            </p:nvSpPr>
            <p:spPr>
              <a:xfrm>
                <a:off x="3046680" y="578520"/>
                <a:ext cx="3512520" cy="791280"/>
              </a:xfrm>
              <a:prstGeom prst="cloudCallout">
                <a:avLst>
                  <a:gd name="adj1" fmla="val -54981"/>
                  <a:gd name="adj2" fmla="val 3075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4b4b4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2" name="矩形 34835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9720" y="642240"/>
                <a:ext cx="2754360" cy="59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93" name="轻音乐 - 一帘幽梦 - 古筝_trans.wav" descr=""/>
          <p:cNvPicPr/>
          <p:nvPr/>
        </p:nvPicPr>
        <p:blipFill>
          <a:blip r:embed="rId5"/>
          <a:stretch/>
        </p:blipFill>
        <p:spPr>
          <a:xfrm>
            <a:off x="684360" y="5896080"/>
            <a:ext cx="358560" cy="35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61048" fill="hold"/>
                                        <p:tgtEl>
                                          <p:spTgt spid="2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5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6" name="组合 32769"/>
          <p:cNvGrpSpPr/>
          <p:nvPr/>
        </p:nvGrpSpPr>
        <p:grpSpPr>
          <a:xfrm>
            <a:off x="1763640" y="1050840"/>
            <a:ext cx="5522760" cy="5338800"/>
            <a:chOff x="1763640" y="1050840"/>
            <a:chExt cx="5522760" cy="5338800"/>
          </a:xfrm>
        </p:grpSpPr>
        <p:pic>
          <p:nvPicPr>
            <p:cNvPr id="2397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52276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直接连接符 32771"/>
            <p:cNvSpPr/>
            <p:nvPr/>
          </p:nvSpPr>
          <p:spPr>
            <a:xfrm flipH="1">
              <a:off x="4263840" y="5822280"/>
              <a:ext cx="756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直接连接符 32772"/>
            <p:cNvSpPr/>
            <p:nvPr/>
          </p:nvSpPr>
          <p:spPr>
            <a:xfrm flipH="1">
              <a:off x="4057200" y="57952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直接连接符 32773"/>
            <p:cNvSpPr/>
            <p:nvPr/>
          </p:nvSpPr>
          <p:spPr>
            <a:xfrm flipH="1">
              <a:off x="3831840" y="574920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直接连接符 32774"/>
            <p:cNvSpPr/>
            <p:nvPr/>
          </p:nvSpPr>
          <p:spPr>
            <a:xfrm flipH="1">
              <a:off x="3628800" y="565992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直接连接符 32775"/>
            <p:cNvSpPr/>
            <p:nvPr/>
          </p:nvSpPr>
          <p:spPr>
            <a:xfrm flipH="1">
              <a:off x="3174120" y="543456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直接连接符 32776"/>
            <p:cNvSpPr/>
            <p:nvPr/>
          </p:nvSpPr>
          <p:spPr>
            <a:xfrm flipH="1">
              <a:off x="3009600" y="53125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直接连接符 32777"/>
            <p:cNvSpPr/>
            <p:nvPr/>
          </p:nvSpPr>
          <p:spPr>
            <a:xfrm flipH="1">
              <a:off x="2811240" y="5144760"/>
              <a:ext cx="58320" cy="42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直接连接符 32778"/>
            <p:cNvSpPr/>
            <p:nvPr/>
          </p:nvSpPr>
          <p:spPr>
            <a:xfrm flipH="1">
              <a:off x="2683440" y="4970160"/>
              <a:ext cx="60120" cy="39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直接连接符 32779"/>
            <p:cNvSpPr/>
            <p:nvPr/>
          </p:nvSpPr>
          <p:spPr>
            <a:xfrm flipH="1">
              <a:off x="2404080" y="45378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直接连接符 32780"/>
            <p:cNvSpPr/>
            <p:nvPr/>
          </p:nvSpPr>
          <p:spPr>
            <a:xfrm flipH="1">
              <a:off x="2325960" y="435564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直接连接符 32781"/>
            <p:cNvSpPr/>
            <p:nvPr/>
          </p:nvSpPr>
          <p:spPr>
            <a:xfrm flipH="1">
              <a:off x="2258640" y="41569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直接连接符 32782"/>
            <p:cNvSpPr/>
            <p:nvPr/>
          </p:nvSpPr>
          <p:spPr>
            <a:xfrm flipH="1">
              <a:off x="2238840" y="39459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直接连接符 32783"/>
            <p:cNvSpPr/>
            <p:nvPr/>
          </p:nvSpPr>
          <p:spPr>
            <a:xfrm flipH="1" flipV="1">
              <a:off x="2229840" y="344088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直接连接符 32784"/>
            <p:cNvSpPr/>
            <p:nvPr/>
          </p:nvSpPr>
          <p:spPr>
            <a:xfrm flipH="1" flipV="1">
              <a:off x="2259000" y="324072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直接连接符 32785"/>
            <p:cNvSpPr/>
            <p:nvPr/>
          </p:nvSpPr>
          <p:spPr>
            <a:xfrm flipH="1" flipV="1">
              <a:off x="2311200" y="302256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直接连接符 32786"/>
            <p:cNvSpPr/>
            <p:nvPr/>
          </p:nvSpPr>
          <p:spPr>
            <a:xfrm flipH="1" flipV="1">
              <a:off x="2404800" y="2826360"/>
              <a:ext cx="6444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直接连接符 32787"/>
            <p:cNvSpPr/>
            <p:nvPr/>
          </p:nvSpPr>
          <p:spPr>
            <a:xfrm flipH="1" flipV="1">
              <a:off x="2667240" y="236772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直接连接符 32788"/>
            <p:cNvSpPr/>
            <p:nvPr/>
          </p:nvSpPr>
          <p:spPr>
            <a:xfrm flipH="1" flipV="1">
              <a:off x="2797200" y="2208960"/>
              <a:ext cx="5472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直接连接符 32789"/>
            <p:cNvSpPr/>
            <p:nvPr/>
          </p:nvSpPr>
          <p:spPr>
            <a:xfrm flipH="1" flipV="1">
              <a:off x="2984400" y="207144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直接连接符 32790"/>
            <p:cNvSpPr/>
            <p:nvPr/>
          </p:nvSpPr>
          <p:spPr>
            <a:xfrm flipH="1" flipV="1">
              <a:off x="3166200" y="1948320"/>
              <a:ext cx="37440" cy="583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直接连接符 32791"/>
            <p:cNvSpPr/>
            <p:nvPr/>
          </p:nvSpPr>
          <p:spPr>
            <a:xfrm flipH="1" flipV="1">
              <a:off x="3619800" y="169560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直接连接符 32792"/>
            <p:cNvSpPr/>
            <p:nvPr/>
          </p:nvSpPr>
          <p:spPr>
            <a:xfrm flipH="1" flipV="1">
              <a:off x="3815280" y="1620720"/>
              <a:ext cx="23040" cy="66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直接连接符 32793"/>
            <p:cNvSpPr/>
            <p:nvPr/>
          </p:nvSpPr>
          <p:spPr>
            <a:xfrm flipH="1" flipV="1">
              <a:off x="4035960" y="155556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直接连接符 32794"/>
            <p:cNvSpPr/>
            <p:nvPr/>
          </p:nvSpPr>
          <p:spPr>
            <a:xfrm flipH="1" flipV="1">
              <a:off x="4256280" y="153648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直接连接符 32795"/>
            <p:cNvSpPr/>
            <p:nvPr/>
          </p:nvSpPr>
          <p:spPr>
            <a:xfrm flipV="1">
              <a:off x="4776840" y="15260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直接连接符 32796"/>
            <p:cNvSpPr/>
            <p:nvPr/>
          </p:nvSpPr>
          <p:spPr>
            <a:xfrm flipV="1">
              <a:off x="4979520" y="15544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直接连接符 32797"/>
            <p:cNvSpPr/>
            <p:nvPr/>
          </p:nvSpPr>
          <p:spPr>
            <a:xfrm flipV="1">
              <a:off x="5190120" y="160452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直接连接符 32798"/>
            <p:cNvSpPr/>
            <p:nvPr/>
          </p:nvSpPr>
          <p:spPr>
            <a:xfrm flipV="1">
              <a:off x="5388120" y="169488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直接连接符 32799"/>
            <p:cNvSpPr/>
            <p:nvPr/>
          </p:nvSpPr>
          <p:spPr>
            <a:xfrm flipV="1">
              <a:off x="5845680" y="1941120"/>
              <a:ext cx="4140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直接连接符 32800"/>
            <p:cNvSpPr/>
            <p:nvPr/>
          </p:nvSpPr>
          <p:spPr>
            <a:xfrm flipV="1">
              <a:off x="6008040" y="20671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直接连接符 32801"/>
            <p:cNvSpPr/>
            <p:nvPr/>
          </p:nvSpPr>
          <p:spPr>
            <a:xfrm flipV="1">
              <a:off x="6136920" y="219384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直接连接符 32802"/>
            <p:cNvSpPr/>
            <p:nvPr/>
          </p:nvSpPr>
          <p:spPr>
            <a:xfrm flipV="1">
              <a:off x="6262560" y="2369160"/>
              <a:ext cx="6012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直接连接符 32803"/>
            <p:cNvSpPr/>
            <p:nvPr/>
          </p:nvSpPr>
          <p:spPr>
            <a:xfrm flipV="1">
              <a:off x="6527520" y="28072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直接连接符 32804"/>
            <p:cNvSpPr/>
            <p:nvPr/>
          </p:nvSpPr>
          <p:spPr>
            <a:xfrm flipV="1">
              <a:off x="6602760" y="299736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直接连接符 32805"/>
            <p:cNvSpPr/>
            <p:nvPr/>
          </p:nvSpPr>
          <p:spPr>
            <a:xfrm flipV="1">
              <a:off x="6666840" y="321120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直接连接符 32806"/>
            <p:cNvSpPr/>
            <p:nvPr/>
          </p:nvSpPr>
          <p:spPr>
            <a:xfrm flipV="1">
              <a:off x="6685920" y="3423960"/>
              <a:ext cx="7200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直接连接符 32807"/>
            <p:cNvSpPr/>
            <p:nvPr/>
          </p:nvSpPr>
          <p:spPr>
            <a:xfrm>
              <a:off x="6687360" y="3929760"/>
              <a:ext cx="7164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直接连接符 32808"/>
            <p:cNvSpPr/>
            <p:nvPr/>
          </p:nvSpPr>
          <p:spPr>
            <a:xfrm>
              <a:off x="6659280" y="4126680"/>
              <a:ext cx="7056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直接连接符 32809"/>
            <p:cNvSpPr/>
            <p:nvPr/>
          </p:nvSpPr>
          <p:spPr>
            <a:xfrm>
              <a:off x="6612120" y="432900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直接连接符 32810"/>
            <p:cNvSpPr/>
            <p:nvPr/>
          </p:nvSpPr>
          <p:spPr>
            <a:xfrm>
              <a:off x="6519960" y="4520520"/>
              <a:ext cx="6372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直接连接符 32811"/>
            <p:cNvSpPr/>
            <p:nvPr/>
          </p:nvSpPr>
          <p:spPr>
            <a:xfrm>
              <a:off x="6256800" y="494064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直接连接符 32812"/>
            <p:cNvSpPr/>
            <p:nvPr/>
          </p:nvSpPr>
          <p:spPr>
            <a:xfrm>
              <a:off x="6130800" y="50979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直接连接符 32813"/>
            <p:cNvSpPr/>
            <p:nvPr/>
          </p:nvSpPr>
          <p:spPr>
            <a:xfrm>
              <a:off x="6013080" y="527652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直接连接符 32814"/>
            <p:cNvSpPr/>
            <p:nvPr/>
          </p:nvSpPr>
          <p:spPr>
            <a:xfrm>
              <a:off x="5833440" y="5397480"/>
              <a:ext cx="3780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直接连接符 32815"/>
            <p:cNvSpPr/>
            <p:nvPr/>
          </p:nvSpPr>
          <p:spPr>
            <a:xfrm>
              <a:off x="5398920" y="5653440"/>
              <a:ext cx="27720" cy="640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直接连接符 32816"/>
            <p:cNvSpPr/>
            <p:nvPr/>
          </p:nvSpPr>
          <p:spPr>
            <a:xfrm>
              <a:off x="5210280" y="572616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直接连接符 32817"/>
            <p:cNvSpPr/>
            <p:nvPr/>
          </p:nvSpPr>
          <p:spPr>
            <a:xfrm>
              <a:off x="5005080" y="57884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直接连接符 32818"/>
            <p:cNvSpPr/>
            <p:nvPr/>
          </p:nvSpPr>
          <p:spPr>
            <a:xfrm>
              <a:off x="4786920" y="580644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447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8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450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1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2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453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4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5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5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600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6000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432000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对象 8193" descr=""/>
          <p:cNvPicPr/>
          <p:nvPr/>
        </p:nvPicPr>
        <p:blipFill>
          <a:blip r:embed="rId1"/>
          <a:stretch/>
        </p:blipFill>
        <p:spPr>
          <a:xfrm>
            <a:off x="185760" y="404640"/>
            <a:ext cx="4352760" cy="428328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3" descr="CJ3738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2147" name="Text Box 4"/>
          <p:cNvSpPr/>
          <p:nvPr/>
        </p:nvSpPr>
        <p:spPr>
          <a:xfrm>
            <a:off x="4648320" y="69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钟面上有（    ）个大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）个小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5"/>
          <p:cNvSpPr/>
          <p:nvPr/>
        </p:nvSpPr>
        <p:spPr>
          <a:xfrm>
            <a:off x="480060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大格是（  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6"/>
          <p:cNvSpPr/>
          <p:nvPr/>
        </p:nvSpPr>
        <p:spPr>
          <a:xfrm>
            <a:off x="4800600" y="2971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分针走一小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走一大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7"/>
          <p:cNvSpPr/>
          <p:nvPr/>
        </p:nvSpPr>
        <p:spPr>
          <a:xfrm>
            <a:off x="20574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大格，分针正好走（   ）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 rot="5400000">
            <a:off x="3009600" y="4686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6707"/>
                </a:lnTo>
                <a:cubicBezTo>
                  <a:pt x="10800" y="7606"/>
                  <a:pt x="16200" y="8504"/>
                  <a:pt x="21600" y="8504"/>
                </a:cubicBezTo>
                <a:cubicBezTo>
                  <a:pt x="16200" y="8504"/>
                  <a:pt x="10800" y="9403"/>
                  <a:pt x="10800" y="103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9"/>
          <p:cNvSpPr/>
          <p:nvPr/>
        </p:nvSpPr>
        <p:spPr>
          <a:xfrm rot="5400000">
            <a:off x="5981400" y="415296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12007"/>
                </a:lnTo>
                <a:cubicBezTo>
                  <a:pt x="10800" y="12906"/>
                  <a:pt x="16200" y="13804"/>
                  <a:pt x="21600" y="13804"/>
                </a:cubicBezTo>
                <a:cubicBezTo>
                  <a:pt x="16200" y="13804"/>
                  <a:pt x="10800" y="14703"/>
                  <a:pt x="10800" y="156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0"/>
          <p:cNvSpPr/>
          <p:nvPr/>
        </p:nvSpPr>
        <p:spPr>
          <a:xfrm>
            <a:off x="2819520" y="5638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1"/>
          <p:cNvSpPr/>
          <p:nvPr/>
        </p:nvSpPr>
        <p:spPr>
          <a:xfrm>
            <a:off x="51814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12"/>
          <p:cNvGrpSpPr/>
          <p:nvPr/>
        </p:nvGrpSpPr>
        <p:grpSpPr>
          <a:xfrm>
            <a:off x="4191120" y="5867280"/>
            <a:ext cx="380880" cy="152280"/>
            <a:chOff x="4191120" y="5867280"/>
            <a:chExt cx="380880" cy="152280"/>
          </a:xfrm>
        </p:grpSpPr>
        <p:sp>
          <p:nvSpPr>
            <p:cNvPr id="2156" name="Line 13"/>
            <p:cNvSpPr/>
            <p:nvPr/>
          </p:nvSpPr>
          <p:spPr>
            <a:xfrm>
              <a:off x="4191120" y="58672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4"/>
            <p:cNvSpPr/>
            <p:nvPr/>
          </p:nvSpPr>
          <p:spPr>
            <a:xfrm>
              <a:off x="4191120" y="6019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Rectangle 15"/>
          <p:cNvSpPr/>
          <p:nvPr/>
        </p:nvSpPr>
        <p:spPr>
          <a:xfrm>
            <a:off x="6478200" y="6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16"/>
          <p:cNvSpPr/>
          <p:nvPr/>
        </p:nvSpPr>
        <p:spPr>
          <a:xfrm>
            <a:off x="6477120" y="110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7"/>
          <p:cNvSpPr/>
          <p:nvPr/>
        </p:nvSpPr>
        <p:spPr>
          <a:xfrm>
            <a:off x="7393320" y="175248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8"/>
          <p:cNvSpPr/>
          <p:nvPr/>
        </p:nvSpPr>
        <p:spPr>
          <a:xfrm>
            <a:off x="7716600" y="29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9"/>
          <p:cNvSpPr/>
          <p:nvPr/>
        </p:nvSpPr>
        <p:spPr>
          <a:xfrm>
            <a:off x="7773840" y="34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20"/>
          <p:cNvSpPr/>
          <p:nvPr/>
        </p:nvSpPr>
        <p:spPr>
          <a:xfrm>
            <a:off x="655452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1"/>
          <p:cNvSpPr/>
          <p:nvPr/>
        </p:nvSpPr>
        <p:spPr>
          <a:xfrm>
            <a:off x="5076720" y="0"/>
            <a:ext cx="406728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1"/>
          <p:cNvSpPr/>
          <p:nvPr/>
        </p:nvSpPr>
        <p:spPr>
          <a:xfrm>
            <a:off x="-33480" y="6453360"/>
            <a:ext cx="765036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TextBox 19"/>
          <p:cNvSpPr/>
          <p:nvPr/>
        </p:nvSpPr>
        <p:spPr>
          <a:xfrm>
            <a:off x="888840" y="517680"/>
            <a:ext cx="82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谁用的时间最接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1" name="图片 1" descr=""/>
          <p:cNvPicPr/>
          <p:nvPr/>
        </p:nvPicPr>
        <p:blipFill>
          <a:blip r:embed="rId1"/>
          <a:stretch/>
        </p:blipFill>
        <p:spPr>
          <a:xfrm>
            <a:off x="5775480" y="3452760"/>
            <a:ext cx="2571480" cy="278136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9" descr="C:\Users\12556\AppData\Roaming\Seewo\EasiNote5\Temp\6248-24.05.26,20-46-08,7591598\1481aa0e-f793-4ee7-a238-6eef70e85855\Resources\c03dced7724da8b6535aa1e7658817cf.png"/>
          <p:cNvPicPr/>
          <p:nvPr/>
        </p:nvPicPr>
        <p:blipFill>
          <a:blip r:embed="rId2"/>
          <a:stretch/>
        </p:blipFill>
        <p:spPr>
          <a:xfrm>
            <a:off x="339840" y="1359000"/>
            <a:ext cx="3144600" cy="71892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0" descr="C:\Users\12556\AppData\Roaming\Seewo\EasiNote5\Temp\6248-24.05.26,20-46-08,7591598\1481aa0e-f793-4ee7-a238-6eef70e85855\Resources\f8fbdf9791a0da3945f99438e4a12313.png"/>
          <p:cNvPicPr/>
          <p:nvPr/>
        </p:nvPicPr>
        <p:blipFill>
          <a:blip r:embed="rId3"/>
          <a:stretch/>
        </p:blipFill>
        <p:spPr>
          <a:xfrm>
            <a:off x="339840" y="1994040"/>
            <a:ext cx="845316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4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465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15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18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9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0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21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3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25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60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600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43200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27" name="图片 13" descr="14.png"/>
          <p:cNvPicPr/>
          <p:nvPr/>
        </p:nvPicPr>
        <p:blipFill>
          <a:blip r:embed="rId2"/>
          <a:stretch/>
        </p:blipFill>
        <p:spPr>
          <a:xfrm>
            <a:off x="785880" y="1785960"/>
            <a:ext cx="3541680" cy="39528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4" descr="C:\Users\12556\Documents\WeChat Files\wxid_833aj0flutox22\FileStorage\Temp\abdd0080b59b13622c63249ed1c655c.jpg"/>
          <p:cNvPicPr/>
          <p:nvPr/>
        </p:nvPicPr>
        <p:blipFill>
          <a:blip r:embed="rId3"/>
          <a:stretch/>
        </p:blipFill>
        <p:spPr>
          <a:xfrm>
            <a:off x="684360" y="2535120"/>
            <a:ext cx="7775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23840" y="848880"/>
            <a:ext cx="9020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刘翔在雅典奥运会以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秒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91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破当时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10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米栏世界纪录的成绩夺冠。</a:t>
            </a:r>
            <a:br>
              <a:rPr sz="3600"/>
            </a:b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530" name="Picture 4" descr="刘翔"/>
          <p:cNvPicPr/>
          <p:nvPr/>
        </p:nvPicPr>
        <p:blipFill>
          <a:blip r:embed="rId1"/>
          <a:stretch/>
        </p:blipFill>
        <p:spPr>
          <a:xfrm>
            <a:off x="2003400" y="1695600"/>
            <a:ext cx="5184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32" name="图片 4" descr="16.png"/>
          <p:cNvPicPr/>
          <p:nvPr/>
        </p:nvPicPr>
        <p:blipFill>
          <a:blip r:embed="rId2"/>
          <a:stretch/>
        </p:blipFill>
        <p:spPr>
          <a:xfrm>
            <a:off x="857160" y="1890720"/>
            <a:ext cx="3191040" cy="395280"/>
          </a:xfrm>
          <a:prstGeom prst="rect">
            <a:avLst/>
          </a:prstGeom>
          <a:ln w="0">
            <a:noFill/>
          </a:ln>
        </p:spPr>
      </p:pic>
      <p:pic>
        <p:nvPicPr>
          <p:cNvPr id="2533" name="图片 5" descr="17.png"/>
          <p:cNvPicPr/>
          <p:nvPr/>
        </p:nvPicPr>
        <p:blipFill>
          <a:blip r:embed="rId3"/>
          <a:stretch/>
        </p:blipFill>
        <p:spPr>
          <a:xfrm>
            <a:off x="642960" y="2730600"/>
            <a:ext cx="2406600" cy="1668240"/>
          </a:xfrm>
          <a:prstGeom prst="rect">
            <a:avLst/>
          </a:prstGeom>
          <a:ln w="0">
            <a:noFill/>
          </a:ln>
        </p:spPr>
      </p:pic>
      <p:pic>
        <p:nvPicPr>
          <p:cNvPr id="2534" name="图片 6" descr="18.png"/>
          <p:cNvPicPr/>
          <p:nvPr/>
        </p:nvPicPr>
        <p:blipFill>
          <a:blip r:embed="rId4"/>
          <a:stretch/>
        </p:blipFill>
        <p:spPr>
          <a:xfrm>
            <a:off x="3378240" y="2857680"/>
            <a:ext cx="2336760" cy="151128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7" descr="19.png"/>
          <p:cNvPicPr/>
          <p:nvPr/>
        </p:nvPicPr>
        <p:blipFill>
          <a:blip r:embed="rId5"/>
          <a:stretch/>
        </p:blipFill>
        <p:spPr>
          <a:xfrm>
            <a:off x="5959440" y="2736720"/>
            <a:ext cx="2755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6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537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9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540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90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1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93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96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7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5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600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600000" fill="hold"/>
                                        <p:tgtEl>
                                          <p:spTgt spid="2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43200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602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4" name="组合 4"/>
          <p:cNvGrpSpPr/>
          <p:nvPr/>
        </p:nvGrpSpPr>
        <p:grpSpPr>
          <a:xfrm>
            <a:off x="4616280" y="2155680"/>
            <a:ext cx="812880" cy="696600"/>
            <a:chOff x="4616280" y="2155680"/>
            <a:chExt cx="812880" cy="696600"/>
          </a:xfrm>
        </p:grpSpPr>
        <p:sp>
          <p:nvSpPr>
            <p:cNvPr id="2605" name="矩形 2"/>
            <p:cNvSpPr/>
            <p:nvPr/>
          </p:nvSpPr>
          <p:spPr>
            <a:xfrm>
              <a:off x="4616280" y="2155680"/>
              <a:ext cx="72252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文本框 3"/>
            <p:cNvSpPr/>
            <p:nvPr/>
          </p:nvSpPr>
          <p:spPr>
            <a:xfrm>
              <a:off x="4616280" y="226800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组合 7"/>
          <p:cNvGrpSpPr/>
          <p:nvPr/>
        </p:nvGrpSpPr>
        <p:grpSpPr>
          <a:xfrm>
            <a:off x="627120" y="3076560"/>
            <a:ext cx="958680" cy="696600"/>
            <a:chOff x="627120" y="3076560"/>
            <a:chExt cx="958680" cy="696600"/>
          </a:xfrm>
        </p:grpSpPr>
        <p:sp>
          <p:nvSpPr>
            <p:cNvPr id="2608" name="矩形 8"/>
            <p:cNvSpPr/>
            <p:nvPr/>
          </p:nvSpPr>
          <p:spPr>
            <a:xfrm>
              <a:off x="627120" y="3076560"/>
              <a:ext cx="72180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文本框 9"/>
            <p:cNvSpPr/>
            <p:nvPr/>
          </p:nvSpPr>
          <p:spPr>
            <a:xfrm>
              <a:off x="773640" y="3188880"/>
              <a:ext cx="8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0" name="组合 10"/>
          <p:cNvGrpSpPr/>
          <p:nvPr/>
        </p:nvGrpSpPr>
        <p:grpSpPr>
          <a:xfrm>
            <a:off x="4249800" y="3132000"/>
            <a:ext cx="852480" cy="581400"/>
            <a:chOff x="4249800" y="3132000"/>
            <a:chExt cx="852480" cy="581400"/>
          </a:xfrm>
        </p:grpSpPr>
        <p:sp>
          <p:nvSpPr>
            <p:cNvPr id="2611" name="矩形 11"/>
            <p:cNvSpPr/>
            <p:nvPr/>
          </p:nvSpPr>
          <p:spPr>
            <a:xfrm>
              <a:off x="4249800" y="3208680"/>
              <a:ext cx="722880" cy="43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文本框 12"/>
            <p:cNvSpPr/>
            <p:nvPr/>
          </p:nvSpPr>
          <p:spPr>
            <a:xfrm>
              <a:off x="4320360" y="3132000"/>
              <a:ext cx="78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3" name="组合 16"/>
          <p:cNvGrpSpPr/>
          <p:nvPr/>
        </p:nvGrpSpPr>
        <p:grpSpPr>
          <a:xfrm>
            <a:off x="4249800" y="3681360"/>
            <a:ext cx="722160" cy="520560"/>
            <a:chOff x="4249800" y="3681360"/>
            <a:chExt cx="722160" cy="520560"/>
          </a:xfrm>
        </p:grpSpPr>
        <p:sp>
          <p:nvSpPr>
            <p:cNvPr id="2614" name="矩形 5"/>
            <p:cNvSpPr/>
            <p:nvPr/>
          </p:nvSpPr>
          <p:spPr>
            <a:xfrm>
              <a:off x="4249800" y="3773520"/>
              <a:ext cx="722160" cy="3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文本框 6"/>
            <p:cNvSpPr/>
            <p:nvPr/>
          </p:nvSpPr>
          <p:spPr>
            <a:xfrm>
              <a:off x="4320000" y="3681360"/>
              <a:ext cx="65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组合 18"/>
          <p:cNvGrpSpPr/>
          <p:nvPr/>
        </p:nvGrpSpPr>
        <p:grpSpPr>
          <a:xfrm>
            <a:off x="7089840" y="3635280"/>
            <a:ext cx="722160" cy="696960"/>
            <a:chOff x="7089840" y="3635280"/>
            <a:chExt cx="722160" cy="696960"/>
          </a:xfrm>
        </p:grpSpPr>
        <p:sp>
          <p:nvSpPr>
            <p:cNvPr id="2617" name="矩形 19"/>
            <p:cNvSpPr/>
            <p:nvPr/>
          </p:nvSpPr>
          <p:spPr>
            <a:xfrm>
              <a:off x="7089840" y="3635280"/>
              <a:ext cx="72216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文本框 20"/>
            <p:cNvSpPr/>
            <p:nvPr/>
          </p:nvSpPr>
          <p:spPr>
            <a:xfrm>
              <a:off x="7089840" y="37476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组合 17"/>
          <p:cNvGrpSpPr/>
          <p:nvPr/>
        </p:nvGrpSpPr>
        <p:grpSpPr>
          <a:xfrm>
            <a:off x="3290760" y="3990960"/>
            <a:ext cx="722520" cy="696960"/>
            <a:chOff x="3290760" y="3990960"/>
            <a:chExt cx="722520" cy="696960"/>
          </a:xfrm>
        </p:grpSpPr>
        <p:sp>
          <p:nvSpPr>
            <p:cNvPr id="2620" name="矩形 21"/>
            <p:cNvSpPr/>
            <p:nvPr/>
          </p:nvSpPr>
          <p:spPr>
            <a:xfrm>
              <a:off x="3290760" y="3990960"/>
              <a:ext cx="72252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文本框 22"/>
            <p:cNvSpPr/>
            <p:nvPr/>
          </p:nvSpPr>
          <p:spPr>
            <a:xfrm>
              <a:off x="3290760" y="410328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6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6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6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9" name="Text Box 29" descr=""/>
          <p:cNvPicPr/>
          <p:nvPr/>
        </p:nvPicPr>
        <p:blipFill>
          <a:blip r:embed="rId3"/>
          <a:stretch/>
        </p:blipFill>
        <p:spPr>
          <a:xfrm rot="206400">
            <a:off x="87480" y="1362240"/>
            <a:ext cx="7778520" cy="3171600"/>
          </a:xfrm>
          <a:prstGeom prst="rect">
            <a:avLst/>
          </a:prstGeom>
          <a:ln w="0">
            <a:noFill/>
          </a:ln>
        </p:spPr>
      </p:pic>
      <p:pic>
        <p:nvPicPr>
          <p:cNvPr id="2650" name="图片 1" descr=""/>
          <p:cNvPicPr/>
          <p:nvPr/>
        </p:nvPicPr>
        <p:blipFill>
          <a:blip r:embed="rId4"/>
          <a:stretch/>
        </p:blipFill>
        <p:spPr>
          <a:xfrm>
            <a:off x="2340000" y="3986280"/>
            <a:ext cx="4579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6" name="Picture 4" descr=""/>
          <p:cNvPicPr/>
          <p:nvPr/>
        </p:nvPicPr>
        <p:blipFill>
          <a:blip r:embed="rId1"/>
          <a:stretch/>
        </p:blipFill>
        <p:spPr>
          <a:xfrm>
            <a:off x="701640" y="746280"/>
            <a:ext cx="39816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2167" name="Group 5"/>
          <p:cNvGrpSpPr/>
          <p:nvPr/>
        </p:nvGrpSpPr>
        <p:grpSpPr>
          <a:xfrm>
            <a:off x="2413800" y="2562120"/>
            <a:ext cx="1163520" cy="994320"/>
            <a:chOff x="2413800" y="2562120"/>
            <a:chExt cx="1163520" cy="994320"/>
          </a:xfrm>
        </p:grpSpPr>
        <p:sp>
          <p:nvSpPr>
            <p:cNvPr id="2168" name="Oval 6"/>
            <p:cNvSpPr/>
            <p:nvPr/>
          </p:nvSpPr>
          <p:spPr>
            <a:xfrm rot="13179000">
              <a:off x="2413080" y="2645640"/>
              <a:ext cx="301680" cy="1072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Group 7"/>
            <p:cNvGrpSpPr/>
            <p:nvPr/>
          </p:nvGrpSpPr>
          <p:grpSpPr>
            <a:xfrm>
              <a:off x="2556000" y="2675520"/>
              <a:ext cx="1021320" cy="880920"/>
              <a:chOff x="2556000" y="2675520"/>
              <a:chExt cx="1021320" cy="880920"/>
            </a:xfrm>
          </p:grpSpPr>
          <p:sp>
            <p:nvSpPr>
              <p:cNvPr id="2170" name="AutoShape 8"/>
              <p:cNvSpPr/>
              <p:nvPr/>
            </p:nvSpPr>
            <p:spPr>
              <a:xfrm rot="13179000">
                <a:off x="2462400" y="3044160"/>
                <a:ext cx="1208160" cy="142920"/>
              </a:xfrm>
              <a:prstGeom prst="leftArrow">
                <a:avLst>
                  <a:gd name="adj1" fmla="val 50000"/>
                  <a:gd name="adj2" fmla="val 211335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9"/>
              <p:cNvSpPr/>
              <p:nvPr/>
            </p:nvSpPr>
            <p:spPr>
              <a:xfrm rot="13179000">
                <a:off x="2543400" y="2855520"/>
                <a:ext cx="503640" cy="7128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2" name="Group 10"/>
          <p:cNvGrpSpPr/>
          <p:nvPr/>
        </p:nvGrpSpPr>
        <p:grpSpPr>
          <a:xfrm>
            <a:off x="1472760" y="2514240"/>
            <a:ext cx="1168200" cy="608760"/>
            <a:chOff x="1472760" y="2514240"/>
            <a:chExt cx="1168200" cy="608760"/>
          </a:xfrm>
        </p:grpSpPr>
        <p:sp>
          <p:nvSpPr>
            <p:cNvPr id="2173" name="Oval 11"/>
            <p:cNvSpPr/>
            <p:nvPr/>
          </p:nvSpPr>
          <p:spPr>
            <a:xfrm rot="20458800">
              <a:off x="2366640" y="2548440"/>
              <a:ext cx="246600" cy="2116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12"/>
            <p:cNvGrpSpPr/>
            <p:nvPr/>
          </p:nvGrpSpPr>
          <p:grpSpPr>
            <a:xfrm>
              <a:off x="1472760" y="2534040"/>
              <a:ext cx="1025640" cy="588960"/>
              <a:chOff x="1472760" y="2534040"/>
              <a:chExt cx="1025640" cy="588960"/>
            </a:xfrm>
          </p:grpSpPr>
          <p:sp>
            <p:nvSpPr>
              <p:cNvPr id="2175" name="AutoShape 13"/>
              <p:cNvSpPr/>
              <p:nvPr/>
            </p:nvSpPr>
            <p:spPr>
              <a:xfrm rot="20458800">
                <a:off x="1491840" y="2687040"/>
                <a:ext cx="987480" cy="282600"/>
              </a:xfrm>
              <a:prstGeom prst="leftArrow">
                <a:avLst>
                  <a:gd name="adj1" fmla="val 50000"/>
                  <a:gd name="adj2" fmla="val 87357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4"/>
              <p:cNvSpPr/>
              <p:nvPr/>
            </p:nvSpPr>
            <p:spPr>
              <a:xfrm rot="20458800">
                <a:off x="2051640" y="2664000"/>
                <a:ext cx="411480" cy="14076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7" name="Group 18"/>
          <p:cNvGrpSpPr/>
          <p:nvPr/>
        </p:nvGrpSpPr>
        <p:grpSpPr>
          <a:xfrm>
            <a:off x="2503440" y="1035000"/>
            <a:ext cx="69840" cy="1657080"/>
            <a:chOff x="2503440" y="1035000"/>
            <a:chExt cx="69840" cy="1657080"/>
          </a:xfrm>
        </p:grpSpPr>
        <p:sp>
          <p:nvSpPr>
            <p:cNvPr id="2178" name="AutoShape 15"/>
            <p:cNvSpPr/>
            <p:nvPr/>
          </p:nvSpPr>
          <p:spPr>
            <a:xfrm>
              <a:off x="2503440" y="1035000"/>
              <a:ext cx="69840" cy="1441440"/>
            </a:xfrm>
            <a:prstGeom prst="upArrow">
              <a:avLst>
                <a:gd name="adj1" fmla="val 50000"/>
                <a:gd name="adj2" fmla="val 515693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7"/>
            <p:cNvSpPr/>
            <p:nvPr/>
          </p:nvSpPr>
          <p:spPr>
            <a:xfrm>
              <a:off x="2513160" y="2331360"/>
              <a:ext cx="49680" cy="36072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Group 21"/>
          <p:cNvGrpSpPr/>
          <p:nvPr/>
        </p:nvGrpSpPr>
        <p:grpSpPr>
          <a:xfrm>
            <a:off x="2644920" y="1467000"/>
            <a:ext cx="2827080" cy="459720"/>
            <a:chOff x="2644920" y="1467000"/>
            <a:chExt cx="2827080" cy="459720"/>
          </a:xfrm>
        </p:grpSpPr>
        <p:sp>
          <p:nvSpPr>
            <p:cNvPr id="2181" name="Line 22"/>
            <p:cNvSpPr/>
            <p:nvPr/>
          </p:nvSpPr>
          <p:spPr>
            <a:xfrm>
              <a:off x="2644920" y="1830600"/>
              <a:ext cx="163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Text Box 23"/>
            <p:cNvSpPr/>
            <p:nvPr/>
          </p:nvSpPr>
          <p:spPr>
            <a:xfrm>
              <a:off x="4361400" y="14670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秒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24"/>
          <p:cNvGrpSpPr/>
          <p:nvPr/>
        </p:nvGrpSpPr>
        <p:grpSpPr>
          <a:xfrm>
            <a:off x="2502000" y="1108080"/>
            <a:ext cx="69840" cy="1653840"/>
            <a:chOff x="2502000" y="1108080"/>
            <a:chExt cx="69840" cy="1653840"/>
          </a:xfrm>
        </p:grpSpPr>
        <p:sp>
          <p:nvSpPr>
            <p:cNvPr id="2184" name="AutoShape 25"/>
            <p:cNvSpPr/>
            <p:nvPr/>
          </p:nvSpPr>
          <p:spPr>
            <a:xfrm>
              <a:off x="2502000" y="1108080"/>
              <a:ext cx="69840" cy="1438560"/>
            </a:xfrm>
            <a:prstGeom prst="upArrow">
              <a:avLst>
                <a:gd name="adj1" fmla="val 50000"/>
                <a:gd name="adj2" fmla="val 514662"/>
              </a:avLst>
            </a:prstGeom>
            <a:solidFill>
              <a:srgbClr val="ffff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26"/>
            <p:cNvSpPr/>
            <p:nvPr/>
          </p:nvSpPr>
          <p:spPr>
            <a:xfrm>
              <a:off x="2511720" y="2401920"/>
              <a:ext cx="49680" cy="36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Group 27"/>
          <p:cNvGrpSpPr/>
          <p:nvPr/>
        </p:nvGrpSpPr>
        <p:grpSpPr>
          <a:xfrm>
            <a:off x="2502000" y="1108080"/>
            <a:ext cx="71280" cy="1653840"/>
            <a:chOff x="2502000" y="1108080"/>
            <a:chExt cx="71280" cy="1653840"/>
          </a:xfrm>
        </p:grpSpPr>
        <p:sp>
          <p:nvSpPr>
            <p:cNvPr id="2187" name="AutoShape 28"/>
            <p:cNvSpPr/>
            <p:nvPr/>
          </p:nvSpPr>
          <p:spPr>
            <a:xfrm>
              <a:off x="2502000" y="1108080"/>
              <a:ext cx="71280" cy="1438560"/>
            </a:xfrm>
            <a:prstGeom prst="upArrow">
              <a:avLst>
                <a:gd name="adj1" fmla="val 50000"/>
                <a:gd name="adj2" fmla="val 504265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29"/>
            <p:cNvSpPr/>
            <p:nvPr/>
          </p:nvSpPr>
          <p:spPr>
            <a:xfrm>
              <a:off x="2512080" y="2401920"/>
              <a:ext cx="50760" cy="36000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55"/>
          <p:cNvGrpSpPr/>
          <p:nvPr/>
        </p:nvGrpSpPr>
        <p:grpSpPr>
          <a:xfrm>
            <a:off x="4683240" y="1581120"/>
            <a:ext cx="4890600" cy="3212640"/>
            <a:chOff x="4683240" y="1581120"/>
            <a:chExt cx="4890600" cy="3212640"/>
          </a:xfrm>
        </p:grpSpPr>
        <p:pic>
          <p:nvPicPr>
            <p:cNvPr id="2190" name="Picture 67" descr="002"/>
            <p:cNvPicPr/>
            <p:nvPr/>
          </p:nvPicPr>
          <p:blipFill>
            <a:blip r:embed="rId2"/>
            <a:stretch/>
          </p:blipFill>
          <p:spPr>
            <a:xfrm flipH="1">
              <a:off x="4683240" y="1581120"/>
              <a:ext cx="4461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1" name="Rectangle 65"/>
            <p:cNvSpPr/>
            <p:nvPr/>
          </p:nvSpPr>
          <p:spPr>
            <a:xfrm>
              <a:off x="4683240" y="1909800"/>
              <a:ext cx="48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钟表上除了有时针，分针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还有秒针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Picture 66" descr="小精灵-04"/>
            <p:cNvPicPr/>
            <p:nvPr/>
          </p:nvPicPr>
          <p:blipFill>
            <a:blip r:embed="rId3"/>
            <a:stretch/>
          </p:blipFill>
          <p:spPr>
            <a:xfrm>
              <a:off x="7298640" y="2881800"/>
              <a:ext cx="1331640" cy="191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Picture 53" descr="u=1269048324,2278151910&amp;fm=23&amp;gp=0"/>
          <p:cNvPicPr/>
          <p:nvPr/>
        </p:nvPicPr>
        <p:blipFill>
          <a:blip r:embed="rId4"/>
          <a:stretch/>
        </p:blipFill>
        <p:spPr>
          <a:xfrm>
            <a:off x="449280" y="127080"/>
            <a:ext cx="817560" cy="1050840"/>
          </a:xfrm>
          <a:prstGeom prst="rect">
            <a:avLst/>
          </a:prstGeom>
          <a:ln w="0">
            <a:noFill/>
          </a:ln>
        </p:spPr>
      </p:pic>
      <p:sp>
        <p:nvSpPr>
          <p:cNvPr id="2194" name="WordArt 54"/>
          <p:cNvSpPr txBox="1"/>
          <p:nvPr/>
        </p:nvSpPr>
        <p:spPr>
          <a:xfrm>
            <a:off x="1278000" y="31428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5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196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246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7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249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252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WordArt 54"/>
          <p:cNvSpPr txBox="1"/>
          <p:nvPr/>
        </p:nvSpPr>
        <p:spPr>
          <a:xfrm>
            <a:off x="204840" y="385920"/>
            <a:ext cx="191772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257" name="Group 45"/>
          <p:cNvGrpSpPr/>
          <p:nvPr/>
        </p:nvGrpSpPr>
        <p:grpSpPr>
          <a:xfrm>
            <a:off x="-198360" y="4368960"/>
            <a:ext cx="8057160" cy="1694880"/>
            <a:chOff x="-198360" y="4368960"/>
            <a:chExt cx="8057160" cy="1694880"/>
          </a:xfrm>
        </p:grpSpPr>
        <p:pic>
          <p:nvPicPr>
            <p:cNvPr id="2258" name="Picture 55" descr="小精灵-013"/>
            <p:cNvPicPr/>
            <p:nvPr/>
          </p:nvPicPr>
          <p:blipFill>
            <a:blip r:embed="rId5"/>
            <a:stretch/>
          </p:blipFill>
          <p:spPr>
            <a:xfrm>
              <a:off x="-198360" y="4368960"/>
              <a:ext cx="2763720" cy="16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Group 44"/>
            <p:cNvGrpSpPr/>
            <p:nvPr/>
          </p:nvGrpSpPr>
          <p:grpSpPr>
            <a:xfrm>
              <a:off x="2373120" y="4422960"/>
              <a:ext cx="5485680" cy="1097280"/>
              <a:chOff x="2373120" y="4422960"/>
              <a:chExt cx="5485680" cy="1097280"/>
            </a:xfrm>
          </p:grpSpPr>
          <p:pic>
            <p:nvPicPr>
              <p:cNvPr id="2260" name="Picture 56" descr="015"/>
              <p:cNvPicPr/>
              <p:nvPr/>
            </p:nvPicPr>
            <p:blipFill>
              <a:blip r:embed="rId6"/>
              <a:stretch/>
            </p:blipFill>
            <p:spPr>
              <a:xfrm>
                <a:off x="2373120" y="4422960"/>
                <a:ext cx="5485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1" name="Rectangle 65"/>
              <p:cNvSpPr/>
              <p:nvPr/>
            </p:nvSpPr>
            <p:spPr>
              <a:xfrm>
                <a:off x="3065400" y="4573080"/>
                <a:ext cx="4198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秒针最细最长，走得最快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2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3600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43200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圆角矩形标注 62"/>
          <p:cNvSpPr/>
          <p:nvPr/>
        </p:nvSpPr>
        <p:spPr>
          <a:xfrm>
            <a:off x="5276880" y="3222720"/>
            <a:ext cx="3254400" cy="4903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小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3" name="图片 11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2521080" cy="2519280"/>
          </a:xfrm>
          <a:prstGeom prst="rect">
            <a:avLst/>
          </a:prstGeom>
          <a:ln w="0">
            <a:noFill/>
          </a:ln>
        </p:spPr>
      </p:pic>
      <p:sp>
        <p:nvSpPr>
          <p:cNvPr id="2264" name="菱形 24"/>
          <p:cNvSpPr/>
          <p:nvPr/>
        </p:nvSpPr>
        <p:spPr>
          <a:xfrm rot="5400000">
            <a:off x="3343320" y="346392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饼形 25"/>
          <p:cNvSpPr/>
          <p:nvPr/>
        </p:nvSpPr>
        <p:spPr>
          <a:xfrm rot="16200000">
            <a:off x="2504160" y="2527920"/>
            <a:ext cx="2287440" cy="2282760"/>
          </a:xfrm>
          <a:custGeom>
            <a:avLst/>
            <a:gdLst/>
            <a:ahLst/>
            <a:rect l="l" t="t" r="r" b="b"/>
            <a:pathLst>
              <a:path w="2287587" h="2282825">
                <a:moveTo>
                  <a:pt x="2287493" y="1126805"/>
                </a:moveTo>
                <a:cubicBezTo>
                  <a:pt x="2287462" y="1117058"/>
                  <a:pt x="2287493" y="1121928"/>
                  <a:pt x="2287493" y="1126805"/>
                </a:cubicBezTo>
                <a:cubicBezTo>
                  <a:pt x="2287493" y="1174488"/>
                  <a:pt x="2284563" y="1221487"/>
                  <a:pt x="2278917" y="1267281"/>
                </a:cubicBezTo>
                <a:lnTo>
                  <a:pt x="1143793" y="1141412"/>
                </a:lnTo>
                <a:close/>
              </a:path>
            </a:pathLst>
          </a:cu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组合 29"/>
          <p:cNvGrpSpPr/>
          <p:nvPr/>
        </p:nvGrpSpPr>
        <p:grpSpPr>
          <a:xfrm>
            <a:off x="3649680" y="2779560"/>
            <a:ext cx="11160" cy="1884600"/>
            <a:chOff x="3649680" y="2779560"/>
            <a:chExt cx="11160" cy="1884600"/>
          </a:xfrm>
        </p:grpSpPr>
        <p:sp>
          <p:nvSpPr>
            <p:cNvPr id="2267" name="矩形 30"/>
            <p:cNvSpPr/>
            <p:nvPr/>
          </p:nvSpPr>
          <p:spPr>
            <a:xfrm>
              <a:off x="3649680" y="277956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矩形 31"/>
            <p:cNvSpPr/>
            <p:nvPr/>
          </p:nvSpPr>
          <p:spPr>
            <a:xfrm>
              <a:off x="3649680" y="372888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9" name="圆角矩形标注 33"/>
          <p:cNvSpPr/>
          <p:nvPr/>
        </p:nvSpPr>
        <p:spPr>
          <a:xfrm>
            <a:off x="4572000" y="2182680"/>
            <a:ext cx="1008000" cy="358920"/>
          </a:xfrm>
          <a:prstGeom prst="wedgeRoundRectCallout">
            <a:avLst>
              <a:gd name="adj1" fmla="val -130435"/>
              <a:gd name="adj2" fmla="val 139222"/>
              <a:gd name="adj3" fmla="val 16667"/>
            </a:avLst>
          </a:prstGeom>
          <a:noFill/>
          <a:ln w="12600">
            <a:solidFill>
              <a:srgbClr val="8a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Box 19"/>
          <p:cNvSpPr/>
          <p:nvPr/>
        </p:nvSpPr>
        <p:spPr>
          <a:xfrm>
            <a:off x="824040" y="140976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圆角矩形标注 39"/>
          <p:cNvSpPr/>
          <p:nvPr/>
        </p:nvSpPr>
        <p:spPr>
          <a:xfrm>
            <a:off x="5262480" y="4073400"/>
            <a:ext cx="3440160" cy="4921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2" name="组合 11"/>
          <p:cNvGrpSpPr/>
          <p:nvPr/>
        </p:nvGrpSpPr>
        <p:grpSpPr>
          <a:xfrm>
            <a:off x="3648240" y="2774880"/>
            <a:ext cx="10800" cy="1884600"/>
            <a:chOff x="3648240" y="2774880"/>
            <a:chExt cx="10800" cy="1884600"/>
          </a:xfrm>
        </p:grpSpPr>
        <p:sp>
          <p:nvSpPr>
            <p:cNvPr id="2273" name="矩形 12"/>
            <p:cNvSpPr/>
            <p:nvPr/>
          </p:nvSpPr>
          <p:spPr>
            <a:xfrm>
              <a:off x="3648240" y="2774880"/>
              <a:ext cx="1080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3"/>
            <p:cNvSpPr/>
            <p:nvPr/>
          </p:nvSpPr>
          <p:spPr>
            <a:xfrm>
              <a:off x="3648240" y="3724200"/>
              <a:ext cx="108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圆角矩形标注 1"/>
          <p:cNvSpPr/>
          <p:nvPr/>
        </p:nvSpPr>
        <p:spPr>
          <a:xfrm>
            <a:off x="5327640" y="4751280"/>
            <a:ext cx="3254400" cy="49068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29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">
                                      <p:cBhvr>
                                        <p:cTn id="148" dur="2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圆角矩形标注 64"/>
          <p:cNvSpPr/>
          <p:nvPr/>
        </p:nvSpPr>
        <p:spPr>
          <a:xfrm>
            <a:off x="5389560" y="4156200"/>
            <a:ext cx="2825640" cy="492120"/>
          </a:xfrm>
          <a:prstGeom prst="wedgeRoundRectCallout">
            <a:avLst>
              <a:gd name="adj1" fmla="val -58162"/>
              <a:gd name="adj2" fmla="val 3796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7" name="图片 11" descr=""/>
          <p:cNvPicPr/>
          <p:nvPr/>
        </p:nvPicPr>
        <p:blipFill>
          <a:blip r:embed="rId1"/>
          <a:stretch/>
        </p:blipFill>
        <p:spPr>
          <a:xfrm>
            <a:off x="1859040" y="2425680"/>
            <a:ext cx="2520720" cy="2519280"/>
          </a:xfrm>
          <a:prstGeom prst="rect">
            <a:avLst/>
          </a:prstGeom>
          <a:ln w="0">
            <a:noFill/>
          </a:ln>
        </p:spPr>
      </p:pic>
      <p:sp>
        <p:nvSpPr>
          <p:cNvPr id="2278" name="菱形 24"/>
          <p:cNvSpPr/>
          <p:nvPr/>
        </p:nvSpPr>
        <p:spPr>
          <a:xfrm rot="5400000">
            <a:off x="2813040" y="346716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9" name="组合 26"/>
          <p:cNvGrpSpPr/>
          <p:nvPr/>
        </p:nvGrpSpPr>
        <p:grpSpPr>
          <a:xfrm>
            <a:off x="3094200" y="2954160"/>
            <a:ext cx="55440" cy="1687680"/>
            <a:chOff x="3094200" y="2954160"/>
            <a:chExt cx="55440" cy="1687680"/>
          </a:xfrm>
        </p:grpSpPr>
        <p:sp>
          <p:nvSpPr>
            <p:cNvPr id="2280" name="菱形 27"/>
            <p:cNvSpPr/>
            <p:nvPr/>
          </p:nvSpPr>
          <p:spPr>
            <a:xfrm flipH="1">
              <a:off x="3094200" y="2954160"/>
              <a:ext cx="55440" cy="766800"/>
            </a:xfrm>
            <a:prstGeom prst="diamond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菱形 28"/>
            <p:cNvSpPr/>
            <p:nvPr/>
          </p:nvSpPr>
          <p:spPr>
            <a:xfrm flipH="1">
              <a:off x="3094200" y="3738600"/>
              <a:ext cx="55440" cy="903240"/>
            </a:xfrm>
            <a:prstGeom prst="diamond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组合 34"/>
          <p:cNvGrpSpPr/>
          <p:nvPr/>
        </p:nvGrpSpPr>
        <p:grpSpPr>
          <a:xfrm>
            <a:off x="3117960" y="2774880"/>
            <a:ext cx="11160" cy="1884600"/>
            <a:chOff x="3117960" y="2774880"/>
            <a:chExt cx="11160" cy="1884600"/>
          </a:xfrm>
        </p:grpSpPr>
        <p:sp>
          <p:nvSpPr>
            <p:cNvPr id="2283" name="矩形 35"/>
            <p:cNvSpPr/>
            <p:nvPr/>
          </p:nvSpPr>
          <p:spPr>
            <a:xfrm>
              <a:off x="3117960" y="277488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矩形 36"/>
            <p:cNvSpPr/>
            <p:nvPr/>
          </p:nvSpPr>
          <p:spPr>
            <a:xfrm>
              <a:off x="3117960" y="372420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5" name="圆角矩形标注 32"/>
          <p:cNvSpPr/>
          <p:nvPr/>
        </p:nvSpPr>
        <p:spPr>
          <a:xfrm>
            <a:off x="4867200" y="3363840"/>
            <a:ext cx="4491000" cy="492120"/>
          </a:xfrm>
          <a:prstGeom prst="wedgeRoundRectCallout">
            <a:avLst>
              <a:gd name="adj1" fmla="val -58162"/>
              <a:gd name="adj2" fmla="val 50268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分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25"/>
          <p:cNvSpPr/>
          <p:nvPr/>
        </p:nvSpPr>
        <p:spPr>
          <a:xfrm>
            <a:off x="755640" y="1484280"/>
            <a:ext cx="15843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684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与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70" dur="2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288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9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338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9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341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344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6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34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60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3600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43200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矩形 29697"/>
          <p:cNvSpPr/>
          <p:nvPr/>
        </p:nvSpPr>
        <p:spPr>
          <a:xfrm>
            <a:off x="2922480" y="1268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秒钟能做些什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698"/>
          <p:cNvSpPr/>
          <p:nvPr/>
        </p:nvSpPr>
        <p:spPr>
          <a:xfrm>
            <a:off x="1547640" y="1989000"/>
            <a:ext cx="7108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飞机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火车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喷气式飞机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卫星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9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有的电脑          每秒可以完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万亿次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1" name="内容占位符 29699" descr="si"/>
          <p:cNvPicPr/>
          <p:nvPr/>
        </p:nvPicPr>
        <p:blipFill>
          <a:blip r:embed="rId1"/>
          <a:stretch/>
        </p:blipFill>
        <p:spPr>
          <a:xfrm>
            <a:off x="8058240" y="404640"/>
            <a:ext cx="1085760" cy="1090800"/>
          </a:xfrm>
          <a:prstGeom prst="rect">
            <a:avLst/>
          </a:prstGeom>
          <a:ln w="0">
            <a:noFill/>
          </a:ln>
        </p:spPr>
      </p:pic>
      <p:pic>
        <p:nvPicPr>
          <p:cNvPr id="2352" name="内容占位符 29700" descr="slide0001_image005"/>
          <p:cNvPicPr/>
          <p:nvPr/>
        </p:nvPicPr>
        <p:blipFill>
          <a:blip r:embed="rId2"/>
          <a:stretch/>
        </p:blipFill>
        <p:spPr>
          <a:xfrm>
            <a:off x="6842160" y="515772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文本框 36871"/>
          <p:cNvSpPr/>
          <p:nvPr/>
        </p:nvSpPr>
        <p:spPr>
          <a:xfrm>
            <a:off x="395280" y="2421000"/>
            <a:ext cx="85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铅笔厂可生产铅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银行点钞机可以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张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人民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核潜艇水下航行可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计算机计算量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不停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年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组合 36872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55" name="椭圆 36873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文本框 36874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6-05T15:18:49Z</dcterms:created>
  <dc:creator/>
  <dc:description/>
  <dc:language>en-US</dc:language>
  <cp:lastModifiedBy>踢飞了我的靴子</cp:lastModifiedBy>
  <dcterms:modified xsi:type="dcterms:W3CDTF">2024-06-06T00:32:38Z</dcterms:modified>
  <cp:revision>29</cp:revision>
  <dc:subject/>
  <dc:title>一分有多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344C288E2E2402591AB05412042C39C_12</vt:lpwstr>
  </property>
  <property fmtid="{D5CDD505-2E9C-101B-9397-08002B2CF9AE}" pid="3" name="KSOProductBuildVer">
    <vt:lpwstr>2052-12.1.0.16929</vt:lpwstr>
  </property>
</Properties>
</file>