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26.jpeg" ContentType="image/jpeg"/>
  <Override PartName="/ppt/media/image19.png" ContentType="image/png"/>
  <Override PartName="/ppt/media/type.wav" ContentType="audio/x-wav"/>
  <Override PartName="/ppt/media/image25.gif" ContentType="image/gif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29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42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50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51.png" ContentType="image/png"/>
  <Override PartName="/ppt/media/%E8%B4%9D%E5%A4%9A%E8%8A%AC%E3%80%81%E8%BD%BB%E9%9F%B3%E4%B9%90%E9%92%A2%E7%90%B4%E6%9B%B2%20-%20%E8%87%B4%E7%88%B1%E4%B8%BD%E4%B8%9D.wav" ContentType="audio/x-wav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EE3-B2CE-4BEB-98E5-D07737CA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F45-79E7-4F36-A73C-CA469C1C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86ECD-400E-48AC-B6CC-72C6DEEB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F881B-4477-4EFD-B8DF-A4A263DB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F8290-6239-4EFA-ACB1-81E4A6B2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AC24D-7209-4B14-A1DA-AC777963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A9822-6AE9-46C4-8115-F49EB7FB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695A9-D495-4848-910F-9ACB25F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387F-10C5-462A-B589-3066C67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D2651-4155-4B89-A826-D609F3AD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49B84-020B-4F28-89EC-EE1603FF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9989E-04CE-4DC7-9610-8AC917BA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75A-C428-4564-A56D-5E537944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F1447-D24A-4454-9661-5D31A9CB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9983A-B290-4362-BA79-61ADF57B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86E9F-6F8D-4A46-8E27-AB72DABC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60525-E6EB-4E32-8739-344AA527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17339-3486-4850-9E4C-653A366C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DB800-B307-4559-B256-ABCCA490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54E81-0825-407C-8863-8710BEE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8DC57-E98E-4D3D-A031-F866D7C6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1EC2B-586B-4A45-B73F-870D9231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12D6D-A418-4476-A7C8-E373BB08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F7F-0AF7-4E42-9B8C-7D570D53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134E8-4E6F-4131-85C4-D78FBE1D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281C2-6F4C-4A8F-8692-01D2BAE7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D8235-E981-4A87-A1C0-995C3599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32E38-E744-4F23-B5C0-7E0E698B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35F44-9A75-4ED4-86B9-15C64DB9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E9AEC-7576-4E08-8E80-5FE4F115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1282C-4873-49D6-A926-36511BDD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F4C06-12B2-4A0F-9A59-63AA3B58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EE0E2-F546-4E0E-9884-101404C2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440A8-387E-4878-8380-A668CE8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0E97-5DF3-4F4C-92D0-97D1B276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D633B-5F0C-4E1C-B810-FC59A435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6ACB3-D872-4564-BC24-F365F292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445E0-8852-47DB-92B1-5F5F966F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3FBDE-10DC-4566-ACE1-02089197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9BC44-249D-491B-A009-9DC9661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AEAEE-F318-4FD9-BC38-ECFFA32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AA07A-FA32-4705-BA35-C316EFCE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C5C07-5666-470E-8BE5-29283278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AAF7D-5C1B-4CC3-8693-DD21CAF5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D3CED-EFEB-4DA7-BED5-E2BD0D2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A2BA-DA28-411C-B9AA-7C00BF19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D94F2-DC72-44ED-9098-95891B30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2B04F-4673-41ED-853E-442933D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C8DAC-0FDF-4F91-9DE3-39E6930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3A532-50F1-4866-BAD9-5E9A964D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19E3F-6E4D-4332-BA8A-8FF9CBF4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4B34B-EDF7-4C21-934D-910E0B2E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168FB-2DB7-475D-8D1E-D10CD34E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32271-53C5-429B-943A-8A1B1EFC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6EB6E-CAD5-4FC0-AFA3-BB4D4993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CEA8C-058F-4615-AD61-08F66D4F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BB5D-2E3A-46E5-8AE0-DD34FD57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66ACF-9908-4228-BF34-867F226C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98EEC-42C3-4966-B68F-CBE7CB71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BD8A8-2A37-43E4-B0FB-1A07D204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9E8BC-E9CF-4E43-92C2-1E36B7BA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C95A2-4666-485F-8CE6-A99A928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D71D8-1DFB-4774-AAF4-EB5FEA3D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18FDB-6B66-4A0E-9022-1D6A48FD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0FF5D-6F78-4209-A24E-42D2BF1C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77B25-DD1C-4432-B45D-E2BD10EA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08D74-9C1A-4489-AB86-AB5AD154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AD34-F842-414B-882E-F2E4A3F7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7F534-01C2-4C18-9381-989F9A76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D363E-EB96-4EC1-8872-96AA7573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5073E-7154-4033-BF54-1A0C6164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31252-C255-4C4B-8B57-C296C746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F7583-8EA7-4387-AD37-3F494B7F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FCAB5-33F6-40E3-AFF8-03555DA8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FE33D-D48B-4BB5-9B5F-C0814624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7188D-F0F0-4CF1-820C-696BDA70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E8597-FB75-477A-9F53-5985B328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BF971-E891-4E8A-874C-4C14C118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D0F6-075D-4602-BDA5-0AF3F1E7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D912B-C90D-47C0-92B9-9694B24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F8186-C86F-4E56-BDD6-0746307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FCFC3-A1CA-447E-AC77-B62552D0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A0A7D-D9E8-46F7-A37F-FC28CEBA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BC87A-A315-4BC6-A186-ECEA7B82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8CA3E6-A2A2-4192-A2CE-8B021F99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0DE996-4ABD-4994-8899-716F508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E9763-6A3F-4095-BC6D-37BF1174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9351B-7E4D-4A6F-8F2A-F32F1A06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D01B7-9179-497C-8300-DC3DB2B6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4C3E-C00A-438F-93EB-0B2E661E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644B4-D703-4CEE-B177-D6DD559A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DA30C-FA6C-4B78-BE6E-0F53A56D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A6509-D435-4073-961E-19CD52E6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2AC8C-CFDE-4E72-BBEC-3EDC3B84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941FE-B1F7-4C3E-A129-5F355E45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0EB9C-51CC-4054-9FB9-52D9F040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1560C-C996-4B2B-9CD4-56AEC42D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30209-818F-49DC-AD62-BA6AFFC8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86043-EB8F-4A81-9DD0-6F2E150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A3FBE-14D1-4CE6-95BD-AF75237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585B-8BD3-4B34-B908-0A85EEB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1F8DC-3B43-418D-AAED-2E632387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7F490-6F95-44B0-976C-CB4BB4A6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36775-9271-46FB-ACE3-44B5C464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055E4-3C26-4348-ABE7-0F078463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D5108-5759-4C22-9BBC-C20FEFF7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DC2F1-67BF-4E35-8CB8-96DAD847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9F7A2-3B12-4DF6-9ED7-C27D779B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9C8DD-DD5A-41A4-8890-5CEDAD95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B15BA-2CF2-45AD-965F-F2EC0A84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D2585-E042-4C1B-B39E-3F9BE29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19D-DC5B-4C99-B9A5-B4537163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9035-A278-4FC9-9222-C5FF08FC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5B4E32-9DD6-4C11-A5A8-35C1184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2AC0C-3497-4EB7-BA38-F5DF97E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BC974-588F-4C1C-9B8E-68A153D2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39904-D6ED-40C5-A83D-934C0F80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C7AB9-A4EF-4F69-95E0-3B7D9D42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1CD6D-218D-4657-BCB3-4BE4294D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76011A-37A1-4F4F-88C6-539F8D98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5EF93-A937-4419-A66E-DE0ABF7F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04D59-D5C0-4CC0-BA1E-A3E093DE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E3B89-3A1C-4DF0-94F8-56100F86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EF6C-8CF6-4212-8C52-FB9491E8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D2F79-BFBE-4BBE-A13A-CFBCDBFE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92BE2-12C2-4BD1-9545-25E353B8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17B92-33FD-4B23-928B-D2ED93B8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8AED20-406B-4E29-83A6-02936A88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A15F38-3C58-4753-BC57-C53DEA1B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4663B-613A-4BD3-8031-BFB9AC81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A7718-6ABE-4A13-BD6E-ECDF3B72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0F072-5423-4BCB-8AFB-3C8893E0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4C5E1-33F5-47A0-B5C7-62A5789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8E1F5D-3E08-4D9F-AB1E-5F950563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B98D-C794-4469-B7CC-152684E7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3B1B2-35C5-4E13-9786-CE560D88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38D61-5575-44AE-999B-65FEBB4F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54905-C36B-4D24-8032-9679ECC8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16BD7-2D06-427C-998A-70470DC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CA368-CD37-407D-9DA4-9495CD21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8582E-D3BA-4280-8D3F-057BAB4E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1E7FC-976B-459C-8DEF-607E98AB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B5997-A348-4DB2-AC31-B4D2AD7A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3D5CF-0416-40B1-A06E-35BB801F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E87D4-ECD5-4464-B7A6-B8133244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029B-37BE-4490-86FA-EA4398A8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FF730-95AB-423F-8EFE-BF248807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D0666-6C63-47A4-9FCE-7C1C990A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E18BB-D69C-44C9-A296-8C189324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A1E23B-2B66-474A-9800-E8E1E49D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C879E-EF5C-46BC-80A2-1D46FD89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355CE-D1B0-4A88-822B-08D8FB02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9D507-3D8F-456D-95F1-19C49F3C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EE72E6-60BF-42AA-AD63-E50985AD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06F74-5618-499B-882A-65B60A41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AE3B7-8184-48BC-AAC1-9EFE69B0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4311-2EDD-48A7-B1E2-7CF14C23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05009-939B-40D7-B1DA-6A31C3DC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28CB0F-994F-4689-9C1F-43410CE2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9B0FC-186D-44D9-B4E5-2C4EA477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CCA4A4-788E-4EBC-812B-C2BBE7C7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1AAC50-448B-4432-9290-85B5F8B9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D232C-0657-4CB3-A04E-71AA5DDF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412C4-3E68-4173-A631-C784BEF5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09CEA0-BCAF-4BCE-9F74-C5C36D08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B2758-66D8-491A-997D-81CE1246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B7F6D-E0E4-4DD9-9156-B3B42916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2417-49EA-4A51-941D-5B85300E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535BA-9085-48DD-B9B3-208DD985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D650B7-7409-4336-A428-E303CCCD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A479CA-2939-4F7C-A327-21B8A578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C48D1-E48E-4C49-84C2-CED37F4C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B33134-0BAD-4B53-86C7-0E3DB0C7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8428E8-9A6E-46A3-98DD-A292207F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742920-F1DE-4E49-8085-BF26675D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21181C-BEB7-4F67-9EDB-D2D1DC54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A3F3BD-0417-484B-84DD-3130BAC1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E8A709-2847-48BF-B375-969890B4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8993-B387-4739-A33F-B283AF80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471AB0-8D15-463B-93C6-EC926A2E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429803-7365-4411-8927-231C9A82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9F7C7-31F8-4339-88D6-D39D092F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63CD86-39A5-46F2-8FDA-4199159D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4954B4-27CA-41E8-88D4-ABBB94C7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9976B4-821B-4D17-8992-5FFEA06B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C65721-5E30-49F2-A227-45F9FC17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C7DB93-98A0-42B5-ADE8-5FC7DF03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26D3BE-65D7-4FBC-9D8B-233BA453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E74F79-7BF1-4226-ADD1-FAE6FF91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22F3-FCEE-4C3F-90A8-6F49043A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30838F-84F1-4639-8850-360D7F5A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777192-EDB2-4D7F-B9BE-B5CE105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9A9F15-10F9-4F98-837E-1059492B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75817-F512-4F07-80B5-4217F05C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DC705A-94C5-4816-AB54-A05EAE8F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4A6145-DE77-460A-98E1-266A8FAC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F5A9B6-9B87-4389-98D0-FA4B2FE8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AFFC38-5976-4CDF-B18D-296F5FE2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162D22-FDEC-4D29-A8B4-D7BC2486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0EC43A-AEE2-433C-999B-25DA0636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4A6C-73BE-47BA-96C5-060D4A3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8F254C-547E-42BF-A9A9-98119CF5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B3A916-A170-458F-A832-B05CBB9E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A9C27A-BFB3-4EE8-8CFA-F56CB3C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0F1DE2-E9EB-484F-9D53-341BDDD9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C7A171-46C1-4883-9276-89E6399E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1AED35-62B8-4398-9B34-98E8281E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FB91C1-ECC3-4E3E-9D8A-DF8DC83B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BE986F-3DB6-4669-ACAD-6DA2707C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7B1A25-55E2-4F1F-BA1F-E45281E4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5097A8-7BF1-48CC-A698-AC63B652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A2F20-757A-4613-86D3-FCA2C3DC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9B6A1F-9E92-4B36-8C84-36FE00B0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98C120-FB13-4D26-9352-530A764C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0307D1-BEBD-4157-BA77-B2A605F1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19A2BD-CC56-4356-A546-94CEFF06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83042E-ADD0-4203-B9C7-B7076AC9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42F1E0-23A3-4029-B0A2-56AC2DE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5730DD-0A97-4527-BC3B-7DB2BF9A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77E0A0-FBC7-471E-B06E-C5BCCE96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C556D8-9BA4-4C37-8B28-CD33931A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4DE643-81D0-48A2-8B5C-057D3310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B98-CDD0-48AE-950B-1BCD429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2727-AEA8-4E18-8C0F-EE2AED26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884A83-3EEE-4653-8361-DA681D48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82B83E-EE14-48B2-9CF7-07EA23E6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3A2ADD-D2E0-4CC0-9DC2-C4CA6094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B8B615-7E6D-48EA-B16D-7DBE054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086CF7-05A0-4C67-85EC-824A7D1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62363B-AA20-4FF6-8064-32C62263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8C3B7B-5C04-4219-9DB4-6DD145C9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FB9FC9-F1E0-42B1-AFAC-38487923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4ECDC9-1823-460E-A171-C7220F58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1F81FD-2173-4D7B-9C53-0B632D42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77AD-21E7-4200-B172-A078C09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FC47CB-2363-4F06-90D4-E9ED9F2B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5B292F-C176-4482-8F59-A28DEAF4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2D2ABE-B041-4438-BB31-E169B1B6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0A38F5-F51B-4B15-ABEF-6E1C7677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F35AB1-1941-41C8-B270-92D2B1D6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9C67DA-2447-443C-B9FA-535BA283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EF37E7-2DF2-4B88-BCA4-02D8E95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A2D8FF-6FC2-402D-AA97-C5401DD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2E1E54-DAF1-438F-9637-A622B649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4B60FE-C940-4EBC-82E8-B6374076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0A7F-5970-48E5-8E49-DBA81F23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E43184-BB8E-4CC9-9A7E-453313D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8AE02C-D729-4BD9-A09D-36960B0A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3F7705-2C0E-4ABC-B43C-B03A9C99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665553-F15D-47F7-8FC5-AD951280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44EC59-047A-4BDE-8879-BBD14C3B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617FFB-E0BD-4FA8-8ACC-005D9636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74EFA3-C27C-42C3-AA24-B1D0F223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24937E-140C-42F3-A924-C5C9B640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ACAE42-090C-477C-AB3B-7741F38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568EC7-A3FC-4C29-80FA-57D23EC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1C45A-BD26-4B73-8DF4-7D4A8FEB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D2A12-94CB-4875-AE10-90CDBB3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ACABC8-2715-4268-B59B-62ACD795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F7EF1A-9D88-44BB-9261-9CD91B85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DFBE54-85A6-4510-BCED-2C9E67F7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1AB854-54AF-4A94-9D38-355B02FA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213904-926E-4FE3-9EA5-89D06A14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E9C065-9BB4-49BB-904E-D19CC8D0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6F2888-9628-454A-9FE8-520ECFB5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894F33-1E48-40D6-B5FA-F5D5943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A269F4-93F5-419E-B6B4-5FF7DDDD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D320-5432-4A58-BFFC-D4E7ABC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0FEEA0-E90D-482D-A053-85EFE483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A5EABF-72FC-46B4-9408-9542457F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83CBC5-E781-4441-BEB8-A473319D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1F0EFC-7980-477C-901D-2471FC0E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A319F1-6613-43B3-9076-847A481D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8ADB55-818F-49A2-84F6-22B65F63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7BF8EB-DAD7-4B2E-B670-F81FE81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1F844D-44D2-4D82-9E66-15EC447E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778279-09FF-487E-87A3-6C93F19D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8CC940-18E9-480A-BF99-C0F253A1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02A40-84A3-44A4-BC3B-584555AA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B8FD3D-F7C3-490D-B3C8-47ABC7AF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514BB0-8E0B-4C54-A811-6149A295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202F47-6860-4C2F-B0E8-C97A1CD7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284337-C3C5-4E02-AF29-B7BFD3C5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A3FEBB-8AA7-47FC-A052-BBEF8C9F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670086-B9FE-4C3B-B398-1CEF7A2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F46A03-20B4-4B8D-880D-AEDE581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E26146-1AD9-498E-A350-8E6C579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5035A5-8413-4E5A-8747-A58F5E92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72AA53-F873-4A01-95FC-B3AC0D43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5276-F41D-49E1-B906-FADD6AB8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D72846-E3A8-41EA-BC87-D5955017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CBEED5-9FC0-4C37-9BEA-2F2A0420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A33EF3-1F0F-43BE-88EC-65DB6A3C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768ED0-10E0-4401-867B-0F786F3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A06ED8-580F-46D4-A395-A2C2A9B9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48633E-7779-417D-B56B-E24B672A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E4A146-7681-48DE-8EB4-606A0762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DC5084-8E29-4F6C-9C60-952625F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899FBD-F953-4A9A-9E98-5AF9F338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085098-0D3D-4ADC-B629-0E8290D9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9855-8E64-429A-B637-F74C2089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2A2771-2833-4EBF-AEF2-7F850C8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3A3A37-E492-4C49-867F-CF185FEF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2372DE-5023-438A-BCD2-4CD31E3D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F4A6F7-EBA9-44F3-8DF8-FD9A2070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0226BB-088B-4142-8EE9-F12CA03E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4992A3-9AA1-4D24-8B1F-17708F2E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44FAA2-82A6-4433-B991-F308B12A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9DDBDB-0D28-4837-902B-CB92C479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C02993-5FA8-4AF7-908F-CB68116B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7DA095-F27E-484E-92E1-297D772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8C73-AFFF-4FE5-9559-B70A36B8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B94405-77B3-4B52-8877-1490FF2C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6215EA-90BE-4A41-ABF7-938A59E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A53502-4197-4B56-A534-7FD20342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23C3C2-2D20-47A0-90D2-7768A1A1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D2AABE-C2D2-435D-8FBE-2682EE39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E2C665-0E12-42C0-927F-0D1F5AE8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3D4FA0-ACD3-4227-B387-021886B4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C3268A-2C4E-4735-BBE0-87D4BEC0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5B264F-239E-4132-BB53-1D3EA73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DEE209-4954-4437-9595-F896E79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B20CD-C9A5-43C2-809F-5D5D7658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50CAF5-1C8C-45EB-BBCA-D8F66EC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95948E-976B-4779-AD47-C98C81A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6486AB-7653-41CB-B40F-C9B944F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97F3DE-6ED0-4C71-86D5-6D4D643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9106A4-CCA9-4541-BA51-C772349A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418DA9-6BE7-4DCF-9F63-1EC5771E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30B633-E97E-434A-971D-DEED1C65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739779-7225-48C4-AE5E-57513923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1EE43F-DECC-4910-B54D-E51555E6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425808-29D8-4171-A14D-9C6CF29A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13E-67BC-42A9-A669-4C5E4FF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1D94-2B81-4F94-B2D0-D1014974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C129F1-B043-42FF-9532-2DFB1559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8F13AE-2A6A-4F8B-92B5-8A1BBDCE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5A2C6D-C4B3-43E0-8CFE-8426F121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EEB8A9-A61B-4CFD-B161-0BD3DF4D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9ED1F1-D847-4D04-8078-24C1BD2B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5EEF83-FC24-4F8E-BA65-35267151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30529A-4CA1-4DCF-B4F5-6C91C2A2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C9A58C-43C9-4283-A655-D76CEABD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216DBA-0A6A-4F50-8326-FC842189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74465E-0971-468D-A006-1A8981B0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A52B-43DA-4DAC-B1FC-99ADC016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3B491C-851B-445C-AC19-3BFBB5C7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23838E-97E6-4A0B-9E82-1BD24DC5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9B82F4-020A-4ECD-B29F-327FB3F2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FFB144-5309-4CBB-944D-3D81796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C94666-2F2A-46EF-87BE-6BA57D12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90B2B3-D065-4E77-8206-19181D1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8240A7-D5BB-496E-9609-D07D985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92D33B-6CD2-4842-98E2-34504AC8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3EB5E9-830D-4316-A0EF-973190E2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2D846A-1A4B-4974-BEAB-3C66F1D2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14BC-5835-4847-83E3-579B1212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BDB287-EAD8-45F2-A753-EEECD1DE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C8EFAC-0C2D-474B-92BE-EBC4F59B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A3D220-B29D-48BC-A9D2-99DA4CF2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FA8151-C25F-43E3-8FD1-3280BBC2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8298A8-85C0-424F-83E1-77B3849E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527AD8-1250-4CD8-A56D-E3CE5AFC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02BF1B-3F2A-40D1-8FAA-868A70D5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24A407-2523-4945-B863-FF3BEA02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510BD0-A4E0-4891-B957-569A0C9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7C2875-0B3A-48F3-82F8-183BBFD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EA2F-37A0-4684-88B1-C5ADFDEB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DE3038-1DD2-4CD0-8508-D75FF4DD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8B1458-B0CE-451D-80EA-02E940D9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78406B-A1AD-443A-BCAA-079B88F8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6CCA6B-6ECC-41F0-9F06-79606A10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711530-449F-452F-8C6D-18D93E2C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463B0C-6B86-4EB3-A494-CD73896F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ED35A6-FF45-467C-80FF-D7ADDA27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AD846B-1682-4F86-97E7-D14D8BFE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3EC0FD-5FD3-4430-86B8-762944FD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1D93F8-7F17-4EF5-B4AC-B99FDB41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10CC-F391-4C73-8529-B6A7FB8B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F322DD-754B-40F8-A4E1-A81412DC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54090D-F988-4F3B-A935-841BA07E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6F23C2-0548-4CE0-9D49-A934E87B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9A32797-3E03-41CD-A711-D0B61305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6D5446-218E-4FC6-AADF-321F2BE8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58E2FA-748A-4C6E-83C0-B2314ABE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62918D-8B0E-4B92-A3BD-409217FB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FE50A5-1D1B-45BE-949C-AE7FA97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1DBB95-BEE3-4637-AE2F-50E4E0A9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B6BD1B-74BC-429A-843D-984CE63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185E-16F2-4E3D-B7C0-7A6ABA5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AB9B02-A654-4B0D-90C9-2614D1A9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5E5BF4-AD56-4846-B77A-82134230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07514E-F78C-439A-BBD0-A02B95C6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8AFA07-4705-4069-846B-A1F94C9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18281C-001C-49C9-A87B-F13FE261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9911E6-72D9-4587-9EF7-67C5AA21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781751-F3D5-4401-9855-4C4816CC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ABC2E1-1B25-433D-94B5-8FA245FC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9731A8-3B26-4F38-A1AD-F8A637F6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C310DAF-A261-45CC-B02B-B6FF18D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1EA3-4E94-4531-B0A6-C917C3CC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E48EF0-6F55-40E6-9670-A73A8BB5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0B4923-A966-446C-AEA0-7E5BE609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F9FCEB-A0E5-4B9E-94F9-0932C229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DB97C3-4EA8-4883-9620-C283D8D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6E4BE9-FB21-4E2C-B45D-F08876E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645E560-B188-474E-8BB0-F9274E71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B4782E3-902C-4E83-9481-307AB95C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CA792C-1CDD-4BCA-8559-0A883399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CA90D1-60E6-458B-97FA-60ED9BCC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FE2AA5-4EB8-4768-9DE6-3101B53D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36ECC-89AC-42F2-A47B-E427652B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7D93D32-9569-4B2C-8E85-76C6A686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176AD1-AC82-48C8-BF8C-AA0B9A61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A05EFB-A474-4F5B-9D07-942154FE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B7F99A0-E1EB-40F4-B114-2ADD384F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D01360-8452-4254-8308-41C1C7CC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8DC619-7E06-43BE-B281-6A0CD057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E0F34E-50D8-4E85-AEC0-4836CB51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9B0A0D-CCA7-4697-9F44-8B2E7C9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880C43-55F9-44F4-A5AB-0AAE8C91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4CE42F-0141-4066-8EA4-27EA4C0D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4E9D-564A-44B2-B7FF-C460582B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7C1259-D718-4A31-B51A-EBCCAA91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B11733B-9EF1-4BE3-B35B-1D36694B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F872ACA-9DF0-4AF4-8CCE-CD9BA0FC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9B7896-CC41-474C-8ACB-DBE18C0A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3F1E76-C4D1-47B4-9E62-025417E6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F46A01-F2E6-4E5D-AA15-DAD3C4BF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C8ADC5-D7AB-4711-99B8-FE0B234F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55B07A-8283-415E-933A-950221AD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1C5F9C-AC23-46B2-B728-6EE2427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B794B8-CC67-4E27-B6F0-D29484D7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39F0D-1785-4D14-B09D-8977589A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DE22A4-2FAC-4E0B-9484-041E8CEC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D591C8A-5DE3-4599-9AF0-AE3E8A19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B1CADE-8169-43EA-BB83-32A4A2B0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33B3EAD-E0CF-4161-8DD1-0516F7E2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98693AC-BD86-41DD-912A-487EBE03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46F4C79-CF03-4323-9330-E1F32921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69688FB-C6DE-4AC1-BBA8-44DAFEF8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BB5E31-BC90-4EFA-9EAE-9D51B993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4EFEB32-D086-48C7-B20E-3532EDA6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F4715A-94C0-4294-86BD-F45AA3BD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9D5-2A23-4467-BB32-F0FA740D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1555E-B749-40E8-B3CC-FCF5698D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7E8ABF-55E3-4752-95DE-3E9F4490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E3F5ED-F300-4357-89DD-C33A315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3E9E288-4397-44D6-842B-E3FC1B8F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D09EEF-F4AD-4C60-8BD4-701A195B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F5CAEB5-D6D8-4232-9CFF-9686694B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DFFF6E-7AFE-4BDD-8D2E-410BE867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C010DA-CEC9-4389-83C7-C8024EA6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59694C-7760-4E8B-97C3-009B8BDD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27B1E5F-84D5-4AB0-8AD0-5A399300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91D475-EB32-49CB-A273-4748B9F2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29E1-44A6-4CEE-B344-403C5709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93C9D5-733A-4816-B6C5-C0354BB9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DD6A94-8C13-4A20-A164-01A3218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DEEB4F-BC0B-439D-B441-99E669E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BAB369-B676-495A-AD94-913AF38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0722AE-8639-4742-9FDF-A8556798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34EF5C7-1716-49AE-B21E-3EB55C19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6C47BB-57B3-4ED7-84AA-C6E9A92E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489BAB7-E972-4ED3-9005-0DD9DEF9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BE5099E-B28D-4B47-BD37-27DEE72F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9AF432-DCD1-42DF-95DD-AC61C9FC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81187-9077-4A3F-BB94-5969764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F15D39E-7C30-4328-A065-2622F354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8C52C7-CDF5-4D10-9EA0-3B9BAEC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371EB3-0375-4FFF-8B5C-BD34001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B156FA-AE85-4E3A-B8CD-ECEF028A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533F7D-B5C4-4397-9EE3-54F006FD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60342D-A3B2-44C3-8F63-6E80D0C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C8E5F3-5095-4752-8428-E89E132C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BBFF58-5E84-4D02-A8D0-47D617B9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5270337-86FF-405C-9B1D-9A5F4440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97BCA2-60A0-476F-A4BE-44E82C65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B87DC-4127-4551-A45E-2AA4A327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77AF1DF-47C8-4145-8DDE-1A5F7FB5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2D81E3-0D14-478B-B097-59A6243E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80D89A-52CA-48F1-935A-C7B32DFF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8508296-58BA-47BE-9DDD-ECE771D7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B70C4E-4FB3-4213-A5AE-A9EADB53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D91C3A3-787C-48BE-89BE-B0D5EC5B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58C7488-99E4-4A42-BB3E-FED96B56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888397-D7CD-435B-ACD3-C118200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6E42B0-D8C2-4AFD-813B-65605F18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EDEB49-227E-402D-989C-56A258A4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C2C51-D521-4E41-BDD2-C09555F8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DB253D7-B7BB-4023-B540-EB527E99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C6845A9-FC5F-4F1C-91D1-C41E73C4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5294B1-8178-4B13-9819-1BB65A42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28F66C-C761-4CFB-8AE3-5081F1EB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774ED5-569D-4E6E-9606-59522F4A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580DCE3-20A1-4514-9B2B-951EFB1D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D0604FF-8761-41AC-B238-DE7632D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1942A0-0ACA-48EF-A7DD-950C4135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E053BF5-91C0-4F8A-92FA-710C60B3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BB27CE-83F6-4015-8E82-AA3C487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08E56-6EB7-45BF-B31D-CFE8B44B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5F8AB23-CCA9-4BFF-8CD7-EA23A9F0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78B7B3-1EAA-4173-8FC7-FCF7A103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719D8A-C8FD-4F84-95E1-E45920EC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4DAB68-91F1-46C4-B97F-413D591F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1A248C-49F3-446C-AC29-306A711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25D8CD-D7EB-4C14-8DFB-41C5DAAC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E5EEBEC-A6B1-4A7D-8D1A-41DA1E6F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635600-4DD0-4E86-B387-9A40264A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3BF1951-1383-4521-9D5F-2DA810A9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E138305-1D0E-41D1-9BB4-C2C982A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8034F-4A7D-411B-82A0-F0B2A4CA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5360CC-27A2-4CB3-9F72-5C0A6A7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DA8930-0C4F-483F-9022-4747A594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FE36658-F435-4981-8BAF-0E6E250B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BDD4E8-3809-4817-BCA0-5D9AD56B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D2F1EB-7854-410B-8CAB-187EF42D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03DE9E6-8BD0-40AC-805F-15822250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B4CA002-765E-4B5D-8F9A-6633E90F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431A1B-0EAC-4866-ADA8-3C7D5EB1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7E1D011-A72E-47DE-B92B-41B964EB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D108FE-7225-4D8C-A505-B72714BF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F020B-89C9-4E28-9E19-71A5EC4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261531-EF10-4EBD-B9CA-BDD179C7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E14DEA4-E380-42E1-B7D6-0CF571D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314D763-2E53-4EBF-A76F-02E8749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BC5675-0DF3-4B31-B950-B7829839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9A34302-5EDA-43A4-ACD5-14FD2B56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5EF85F-E649-412B-B742-862856F9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219A2E8-BD41-4538-B683-41D352F3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9A9F9B-C0A7-4EB7-955E-FE743306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7DDC341-1A25-4BC1-9616-F9337B29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042C832-C0EA-4863-88CA-E3391392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A2E66-87DE-4975-9DA4-B8296120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C30EF2-D93C-4332-A2F7-6C1971F8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5256361-F0A7-4E37-9221-763D9BFE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91960CF-78D3-42AE-99CF-8FD6A1C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807EC9-2917-42CA-8066-236CBDDD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E15321-78D2-4C3D-B049-2E8B78E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41A0EE6-280F-4E46-9A38-01B3A6D8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1AD720B-D4B7-42DD-ACC2-C3927D09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8EB2E9D-D62C-4B1C-AF6A-011ADB5F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BEA89BA-950B-4556-8012-77B2B64C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A00B9AC-7A6E-4A96-998F-C9303258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BB09-940B-416F-88C5-51611D4F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A252364-8D93-4147-A28F-98F25937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9D607F-8775-4533-9C58-F6BD6F6D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8FE5073-24E7-4964-97C6-47E7C5EB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F02AF29-CF2F-4DB2-93F8-C210AF70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FB1478-5BB7-4B70-B018-6A1EBC38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BC7A745-3D3F-46D6-9501-88D31C4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EC70EED-B84C-48A8-ABF5-083BC786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3DEE523-57C0-4650-B4E6-644FF46C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FAEA7E7-C08F-4F1D-B978-4D8FED4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48C1CA7-972C-47DE-9849-4001C1DD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086-6FF5-4D18-A67D-DE8CEB3D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1E617-362E-4CEC-84AA-0B0EB10C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ADF4C2F-0AE0-4363-BBCB-C164EFAF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F8274-502B-4B2C-84F4-91393FFD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CF15-9472-485A-8ACF-1CBD5703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64202-7744-469B-89A8-3428E154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7115-C4C2-4B86-B3D1-0C227CB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42A14-8823-4390-9125-BEA1B76D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79910-60DE-4993-A1F9-AD5F1BC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7344A-3DD1-412A-8977-88CFE77C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96905-9D9A-493C-8037-1EB04D4C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4AB6F-8B4F-466E-8900-6F810DB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F2A-2644-4C9D-8C9C-A3640A4B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5673-7B3F-4233-935A-D9304D72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642B-E84C-4062-A753-97E29B0F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71D9-725A-409D-9B62-6FFC9B30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A6AAA-1701-437A-A752-4D9D65F1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99417-0E87-42B2-B097-566B4A2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D0957-4F07-4238-8C58-A7169A9E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3149-40E4-4FC1-8026-3B305605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363A1-4E8F-4326-A2ED-0D222C7D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CF18A-5EF7-4FEC-AE21-7D4D796A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19868-E13A-421D-ACCB-2F21ACA7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464-83CF-4878-AAF4-0DBBB3C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3A90C-6762-4F58-8B7C-E6E445F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21D28-D6B7-4585-ADDC-643FC6C3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2F84-8A0A-4045-AA53-FAD96A7F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B144-B3CA-459E-8746-A4E748FD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19B1E-D942-48E3-97C1-0A667C4B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EDB1F-92D6-42F6-A298-D1582FC2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5D157-FB69-475E-9C6D-FE3656F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18E9D-8F7B-4935-B34A-2D6963D4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953B3-5874-4261-B50C-E8684F80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FCCAA-DC45-4CEF-ACBF-8D259A7F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B1E-A44C-41E2-B88C-7EAF3236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BA867-37DD-43AA-BFC4-1A4473CB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F12B8-B110-4885-937A-E0DF1ED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FA9EA-96A5-4BD1-8FF4-97B5C3A1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F0284-334D-4FBF-B4A0-539760FA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A794A-E6B4-4FB8-B086-8110E84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5EB35-B7D1-4D28-908A-2BDC54C4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51058-9838-4BFC-8A16-9A61A1F2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D3D51-265A-4F4D-B5CD-C0DE933B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68AD3-0780-42C3-AC13-B1CC0E03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1F3D7-F457-4704-965D-ADC8496B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F828-6EBF-4A73-9A53-4FC6218D7E7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E1E-9427-429A-8092-A0351D68C6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7459-7C58-4B1C-BCCD-156D9F2922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9835-47D9-4215-BCAD-D6881495D4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18A3-215A-4820-B2F4-6084DB3363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AC1D-D56A-4B43-8508-30F3D05795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6A50-1EEC-49FE-9118-F00DEA8D4F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41F9-CC2C-4427-AE2A-8306AA1049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FD59-1E6A-44D4-AF21-A24EE9535B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5A5F-C8AD-42FA-A7AC-B2481FD71B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3F62-9E74-460F-A9A7-8146854405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1D13-3873-498F-82B4-4AD676FC64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E271-DBEB-46C4-85FE-41978FB1630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045E-D06A-4138-81FC-7A02755D80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7" descr=""/>
          <p:cNvPicPr/>
          <p:nvPr/>
        </p:nvPicPr>
        <p:blipFill>
          <a:blip r:embed="rId2"/>
          <a:srcRect l="400" t="1911" r="0" b="0"/>
          <a:stretch/>
        </p:blipFill>
        <p:spPr>
          <a:xfrm>
            <a:off x="0" y="0"/>
            <a:ext cx="9142560" cy="68436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713D-06B2-4403-B70F-90A72EC819D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F01B-A507-4D95-A748-045AE4F3844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E10-E448-4EEB-81DC-74922CAACE94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F202-4A82-48CB-B072-11F74F85C32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D034-615A-4A41-AAA9-D66D104E4196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4274-1D3F-47D8-88F1-32F91577FCCF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7EA-9AA3-438A-8DCA-143A827911AA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3A1A-A4FB-452D-BE0F-3E179C79912B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41EE-554C-4E8E-A6A4-949F3E16CD5C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FDE-5877-4FB0-BDB2-DC15594A5287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73C-18F4-49F6-9296-26FD93C3FD16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DEE4-3E34-4B88-93C8-F883E92EA201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81AE-B702-4D7F-9541-E41807F8F01A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627E-E22A-4CAE-9E92-D8B4CAAD6A38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82BE-8920-4F16-BF0D-CA44325B324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4E76-760B-4455-B2F5-477DD703072B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010F-A0A8-4630-937F-8F34ED56F02A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8297-C1FF-4AE0-8396-3A560098093D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B5F9-051F-41CD-9854-4C23558155CD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FC98-2864-4414-A1BE-3FB77B5A0A38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3CF7-F395-422A-9C7D-676808DA5070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5CE5-7630-4412-83A7-34FA7B02F5CF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B59D-B072-4AAA-8E87-2F3D508BB811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C3AD-FAB9-4136-8A12-46CD94473A5D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08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DEAA-779F-48A9-972B-94FF68938F8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8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8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CA44-DB65-49EF-B556-74188CC0103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8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1FC0-0A89-402E-8641-B237447411F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8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8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29A8-41C9-47B8-B8FB-C61B6055A94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7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FD9A-CFF2-49C8-81AC-7FED49FF645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0D3D-64F4-44C4-B912-4B16FAE5DB0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1E7D-7A70-4155-9E04-14EB83DCF60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1AE3-D768-4435-BB1A-F939BB93E68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8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4901-B7FB-45C0-BBB4-C79F816020A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9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90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64FB-6C83-441A-9D9A-911929A04E6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91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FDF1-D7D0-40AB-B7B8-D93CFE5AF54E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92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93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C6A5-3B02-4EFB-9698-1424A5DD187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4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CD55-FAB6-4994-84CF-E2E3B6D18CD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5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6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855C-265A-4E6F-A23D-96263263BC8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8396-764A-4AFB-86E5-F580EDAA779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3052-77E9-4DC1-B10D-4936D811721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9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6D49-9340-4070-A692-4B96AB03A20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F349-05C5-4296-B287-90A095C1048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4455-163B-4556-A477-6EFC78A03E9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57B4-1EEA-4E6E-A399-3412EC3CCF4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6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72B7-D741-41C3-8833-E76865558D1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7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3A09-6A25-4BD0-90CA-95F8D471E47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10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A209-9ECE-4BC7-88FC-C11128C2128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11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E091-7E56-45BA-9629-73C02B11F0A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1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B56E-5B31-49D5-B305-4E920FC88F6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1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1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FD4E-3519-478A-81C5-201441FCA44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61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FFA-DA3F-41E0-92E3-2C843A72D50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5A3E-A1CF-4FCC-86A5-97864E51821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FCA2-DB59-40D2-B2B3-1E9711C7A71E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823F-9425-47F6-B0D5-FE6CF6E6A14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002F-D200-4813-8812-CE9F66E45F3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2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F951-C164-40C6-8D9C-5286FAA66D0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0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21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4ECE-475F-4852-A161-AE64AA67881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22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23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E133-1B8F-40CF-A90D-6379CDE5F0F4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dt" idx="124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0926-8A3D-45D0-8BB8-AE4D927D78B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ftr" idx="125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sldNum" idx="126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9906-4BB5-48D4-976A-D54CE4D1A4A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27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1F96-EB44-4B8A-B4AF-AEB65B5DD97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28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9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847-B8B0-4454-94F1-35341DB72E1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3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dt" idx="13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BDF5-1746-4F63-9A0E-A171CC7CA4E0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ftr" idx="13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 type="sldNum" idx="13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E730-74B5-4F95-B3F7-2C0A68BE405C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3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6834-1EF9-4585-B536-AD5B9703311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3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3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14B5-6940-4215-A79C-3899EBF8276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2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36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5DFE-0DE8-41EC-904A-3CFEAC2C13BE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37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38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86CB-C9EC-4A71-A09E-EDE8F58EEA7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DC53-EBF9-47D4-B63D-F816FE40674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B609-5E12-4CA6-8FAE-8D38DF803F4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dt" idx="142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0667-885E-43D3-8547-1167349E66B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ftr" idx="143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637A-A890-46AF-B1D9-F0187EB40D7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14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7B5E-E79B-4428-B402-21DB06D735E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14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1C31-2ADE-4F0F-8EE8-BAE1DACD020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FBE-C509-4E67-BC12-48EDDA2ACD5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7CBC-DE37-4F1D-B584-FE422F4313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14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9037-E5F8-4530-8FD2-BE12314F49C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14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15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598A-8C49-4D4E-99D8-5522A1F3F97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961E-0A0D-4FF4-9C03-BC3292F5B7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E85C-607E-4BDA-8CAA-B6E8476D85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CC97-D017-4010-90BD-CCA71EBB9C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680F-0D5C-4DBC-8AEC-549452B95A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E09-C6B8-48C7-88E9-EC7674C6F9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08E2-089D-4089-9C7E-B5CFDD31E5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CB1-A66B-4949-A10F-1183F93480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17B0-918B-4335-9B19-D3F27FC50C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44" descr=""/>
          <p:cNvPicPr/>
          <p:nvPr/>
        </p:nvPicPr>
        <p:blipFill>
          <a:blip r:embed="rId1"/>
          <a:stretch/>
        </p:blipFill>
        <p:spPr>
          <a:xfrm>
            <a:off x="2328840" y="2428920"/>
            <a:ext cx="4486320" cy="157176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4"/>
          <p:cNvSpPr/>
          <p:nvPr/>
        </p:nvSpPr>
        <p:spPr>
          <a:xfrm>
            <a:off x="1225440" y="135720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七单元  时、分、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1300320" y="492588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成都棠外附小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方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内容占位符 37895" descr="ANI_023"/>
          <p:cNvPicPr/>
          <p:nvPr/>
        </p:nvPicPr>
        <p:blipFill>
          <a:blip r:embed="rId1"/>
          <a:stretch/>
        </p:blipFill>
        <p:spPr>
          <a:xfrm>
            <a:off x="744480" y="2133720"/>
            <a:ext cx="1743120" cy="2506680"/>
          </a:xfrm>
          <a:prstGeom prst="rect">
            <a:avLst/>
          </a:prstGeom>
          <a:ln w="0">
            <a:noFill/>
          </a:ln>
        </p:spPr>
      </p:pic>
      <p:pic>
        <p:nvPicPr>
          <p:cNvPr id="2358" name="内容占位符 37896" descr=""/>
          <p:cNvPicPr/>
          <p:nvPr/>
        </p:nvPicPr>
        <p:blipFill>
          <a:blip r:embed="rId2"/>
          <a:stretch/>
        </p:blipFill>
        <p:spPr>
          <a:xfrm>
            <a:off x="2940120" y="2413080"/>
            <a:ext cx="2400120" cy="1679400"/>
          </a:xfrm>
          <a:prstGeom prst="rect">
            <a:avLst/>
          </a:prstGeom>
          <a:ln w="0">
            <a:noFill/>
          </a:ln>
        </p:spPr>
      </p:pic>
      <p:pic>
        <p:nvPicPr>
          <p:cNvPr id="2359" name="内容占位符 37897" descr="ANI_022"/>
          <p:cNvPicPr/>
          <p:nvPr/>
        </p:nvPicPr>
        <p:blipFill>
          <a:blip r:embed="rId3"/>
          <a:stretch/>
        </p:blipFill>
        <p:spPr>
          <a:xfrm>
            <a:off x="5794200" y="2763720"/>
            <a:ext cx="2711520" cy="1735200"/>
          </a:xfrm>
          <a:prstGeom prst="rect">
            <a:avLst/>
          </a:prstGeom>
          <a:ln w="0">
            <a:noFill/>
          </a:ln>
        </p:spPr>
      </p:pic>
      <p:sp>
        <p:nvSpPr>
          <p:cNvPr id="2360" name="文本框 37898"/>
          <p:cNvSpPr/>
          <p:nvPr/>
        </p:nvSpPr>
        <p:spPr>
          <a:xfrm>
            <a:off x="1041840" y="51958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文本框 37899"/>
          <p:cNvSpPr/>
          <p:nvPr/>
        </p:nvSpPr>
        <p:spPr>
          <a:xfrm>
            <a:off x="3348360" y="45813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文本框 37900"/>
          <p:cNvSpPr/>
          <p:nvPr/>
        </p:nvSpPr>
        <p:spPr>
          <a:xfrm>
            <a:off x="6173640" y="51195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游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3" name="组合 37901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64" name="椭圆 37902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文本框 37903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3847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中央电视台播音员大约可以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字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7" name="Picture 4" descr="新闻"/>
          <p:cNvPicPr/>
          <p:nvPr/>
        </p:nvPicPr>
        <p:blipFill>
          <a:blip r:embed="rId1"/>
          <a:stretch/>
        </p:blipFill>
        <p:spPr>
          <a:xfrm>
            <a:off x="4500720" y="765000"/>
            <a:ext cx="4262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831680" y="5536800"/>
            <a:ext cx="66056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汽车大约可以跑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br>
              <a:rPr sz="3200"/>
            </a:b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9" name="Picture 4" descr="汽车"/>
          <p:cNvPicPr/>
          <p:nvPr/>
        </p:nvPicPr>
        <p:blipFill>
          <a:blip r:embed="rId1"/>
          <a:stretch/>
        </p:blipFill>
        <p:spPr>
          <a:xfrm>
            <a:off x="1579680" y="9968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076360" y="1052280"/>
            <a:ext cx="3529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激光大约可以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千米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71" name="Picture 4" descr="激光"/>
          <p:cNvPicPr/>
          <p:nvPr/>
        </p:nvPicPr>
        <p:blipFill>
          <a:blip r:embed="rId1"/>
          <a:stretch/>
        </p:blipFill>
        <p:spPr>
          <a:xfrm>
            <a:off x="468360" y="1341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Picture 9" descr="u=788106986,66757298&amp;fm=0&amp;gp=0"/>
          <p:cNvPicPr/>
          <p:nvPr/>
        </p:nvPicPr>
        <p:blipFill>
          <a:blip r:embed="rId1"/>
          <a:stretch/>
        </p:blipFill>
        <p:spPr>
          <a:xfrm>
            <a:off x="1501920" y="1089000"/>
            <a:ext cx="5734080" cy="4140360"/>
          </a:xfrm>
          <a:prstGeom prst="rect">
            <a:avLst/>
          </a:prstGeom>
          <a:ln w="0">
            <a:noFill/>
          </a:ln>
        </p:spPr>
      </p:pic>
      <p:sp>
        <p:nvSpPr>
          <p:cNvPr id="2373" name="Rectangle 10"/>
          <p:cNvSpPr/>
          <p:nvPr/>
        </p:nvSpPr>
        <p:spPr>
          <a:xfrm>
            <a:off x="2334240" y="522936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猎豹</a:t>
            </a:r>
            <a:r>
              <a:rPr b="1" lang="en-US" sz="4000" spc="-1" strike="noStrike">
                <a:solidFill>
                  <a:srgbClr val="d72f0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d72f0d"/>
                </a:solidFill>
                <a:latin typeface="Arial"/>
                <a:ea typeface="宋体"/>
              </a:rPr>
              <a:t>分钟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大约能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3" descr=""/>
          <p:cNvPicPr/>
          <p:nvPr/>
        </p:nvPicPr>
        <p:blipFill>
          <a:blip r:embed="rId1"/>
          <a:stretch/>
        </p:blipFill>
        <p:spPr>
          <a:xfrm>
            <a:off x="-1440" y="1166760"/>
            <a:ext cx="8883360" cy="41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流程图: 可选过程 34818"/>
          <p:cNvSpPr/>
          <p:nvPr/>
        </p:nvSpPr>
        <p:spPr>
          <a:xfrm>
            <a:off x="5364000" y="2050200"/>
            <a:ext cx="2519640" cy="132876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你可以背诵几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乘法口诀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b4b75c"/>
                </a:solidFill>
                <a:latin typeface="Arial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圆角矩形 34819"/>
          <p:cNvSpPr/>
          <p:nvPr/>
        </p:nvSpPr>
        <p:spPr>
          <a:xfrm>
            <a:off x="4648320" y="2971800"/>
            <a:ext cx="3809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圆角矩形 34820"/>
          <p:cNvSpPr/>
          <p:nvPr/>
        </p:nvSpPr>
        <p:spPr>
          <a:xfrm>
            <a:off x="3886200" y="1676520"/>
            <a:ext cx="48006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组合 34821"/>
          <p:cNvGrpSpPr/>
          <p:nvPr/>
        </p:nvGrpSpPr>
        <p:grpSpPr>
          <a:xfrm>
            <a:off x="5076720" y="4221000"/>
            <a:ext cx="3342960" cy="1009800"/>
            <a:chOff x="5076720" y="4221000"/>
            <a:chExt cx="3342960" cy="1009800"/>
          </a:xfrm>
        </p:grpSpPr>
        <p:sp>
          <p:nvSpPr>
            <p:cNvPr id="2379" name="圆角矩形 34822"/>
            <p:cNvSpPr/>
            <p:nvPr/>
          </p:nvSpPr>
          <p:spPr>
            <a:xfrm>
              <a:off x="5220000" y="4221000"/>
              <a:ext cx="3199680" cy="100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fd9"/>
                </a:gs>
                <a:gs pos="100000">
                  <a:srgbClr val="ccff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文本框 34823"/>
            <p:cNvSpPr/>
            <p:nvPr/>
          </p:nvSpPr>
          <p:spPr>
            <a:xfrm>
              <a:off x="5076720" y="4437360"/>
              <a:ext cx="22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你能画几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笑脸 34824"/>
            <p:cNvSpPr/>
            <p:nvPr/>
          </p:nvSpPr>
          <p:spPr>
            <a:xfrm>
              <a:off x="7380000" y="4365720"/>
              <a:ext cx="791640" cy="770400"/>
            </a:xfrm>
            <a:prstGeom prst="smileyFace">
              <a:avLst>
                <a:gd name="adj" fmla="val 4653"/>
              </a:avLst>
            </a:prstGeom>
            <a:solidFill>
              <a:srgbClr val="ffcccc"/>
            </a:solidFill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组合 34825"/>
          <p:cNvGrpSpPr/>
          <p:nvPr/>
        </p:nvGrpSpPr>
        <p:grpSpPr>
          <a:xfrm>
            <a:off x="1070280" y="3530160"/>
            <a:ext cx="3688560" cy="2285640"/>
            <a:chOff x="1070280" y="3530160"/>
            <a:chExt cx="3688560" cy="2285640"/>
          </a:xfrm>
        </p:grpSpPr>
        <p:sp>
          <p:nvSpPr>
            <p:cNvPr id="2383" name="爆炸形 2 34826"/>
            <p:cNvSpPr/>
            <p:nvPr/>
          </p:nvSpPr>
          <p:spPr>
            <a:xfrm rot="540000">
              <a:off x="1187280" y="3789360"/>
              <a:ext cx="3454560" cy="1766880"/>
            </a:xfrm>
            <a:prstGeom prst="irregularSeal2">
              <a:avLst/>
            </a:prstGeom>
            <a:gradFill rotWithShape="0">
              <a:gsLst>
                <a:gs pos="0">
                  <a:srgbClr val="fff9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文本框 34827"/>
            <p:cNvSpPr/>
            <p:nvPr/>
          </p:nvSpPr>
          <p:spPr>
            <a:xfrm>
              <a:off x="1556280" y="4449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写几个字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34828"/>
          <p:cNvGrpSpPr/>
          <p:nvPr/>
        </p:nvGrpSpPr>
        <p:grpSpPr>
          <a:xfrm>
            <a:off x="1403280" y="2421000"/>
            <a:ext cx="3313080" cy="790560"/>
            <a:chOff x="1403280" y="2421000"/>
            <a:chExt cx="3313080" cy="790560"/>
          </a:xfrm>
        </p:grpSpPr>
        <p:sp>
          <p:nvSpPr>
            <p:cNvPr id="2386" name="双波形 34829"/>
            <p:cNvSpPr/>
            <p:nvPr/>
          </p:nvSpPr>
          <p:spPr>
            <a:xfrm>
              <a:off x="1403280" y="2421000"/>
              <a:ext cx="3024720" cy="790560"/>
            </a:xfrm>
            <a:custGeom>
              <a:avLst/>
              <a:gdLst>
                <a:gd name="textAreaLeft" fmla="*/ 0 w 3024720"/>
                <a:gd name="textAreaRight" fmla="*/ 3025080 w 3024720"/>
                <a:gd name="textAreaTop" fmla="*/ 102600 h 790560"/>
                <a:gd name="textAreaBottom" fmla="*/ 68796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文本框 34830"/>
            <p:cNvSpPr/>
            <p:nvPr/>
          </p:nvSpPr>
          <p:spPr>
            <a:xfrm>
              <a:off x="1475640" y="2565000"/>
              <a:ext cx="32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数多少个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组合 34831"/>
          <p:cNvGrpSpPr/>
          <p:nvPr/>
        </p:nvGrpSpPr>
        <p:grpSpPr>
          <a:xfrm>
            <a:off x="971640" y="117360"/>
            <a:ext cx="5587560" cy="1663920"/>
            <a:chOff x="971640" y="117360"/>
            <a:chExt cx="5587560" cy="1663920"/>
          </a:xfrm>
        </p:grpSpPr>
        <p:pic>
          <p:nvPicPr>
            <p:cNvPr id="2389" name="图片 34832" descr="仙女"/>
            <p:cNvPicPr/>
            <p:nvPr/>
          </p:nvPicPr>
          <p:blipFill>
            <a:blip r:embed="rId2"/>
            <a:stretch/>
          </p:blipFill>
          <p:spPr>
            <a:xfrm>
              <a:off x="971640" y="117360"/>
              <a:ext cx="1944360" cy="16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0" name="组合 34833"/>
            <p:cNvGrpSpPr/>
            <p:nvPr/>
          </p:nvGrpSpPr>
          <p:grpSpPr>
            <a:xfrm>
              <a:off x="3046680" y="578520"/>
              <a:ext cx="3512520" cy="791280"/>
              <a:chOff x="3046680" y="578520"/>
              <a:chExt cx="3512520" cy="791280"/>
            </a:xfrm>
          </p:grpSpPr>
          <p:sp>
            <p:nvSpPr>
              <p:cNvPr id="2391" name="云形标注 34834"/>
              <p:cNvSpPr/>
              <p:nvPr/>
            </p:nvSpPr>
            <p:spPr>
              <a:xfrm>
                <a:off x="3046680" y="578520"/>
                <a:ext cx="3512520" cy="791280"/>
              </a:xfrm>
              <a:prstGeom prst="cloudCallout">
                <a:avLst>
                  <a:gd name="adj1" fmla="val -54981"/>
                  <a:gd name="adj2" fmla="val 3075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4b4b4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2" name="矩形 34835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9720" y="642240"/>
                <a:ext cx="2754360" cy="59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93" name="轻音乐 - 一帘幽梦 - 古筝_trans.wav" descr=""/>
          <p:cNvPicPr/>
          <p:nvPr/>
        </p:nvPicPr>
        <p:blipFill>
          <a:blip r:embed="rId5"/>
          <a:stretch/>
        </p:blipFill>
        <p:spPr>
          <a:xfrm>
            <a:off x="684360" y="5896080"/>
            <a:ext cx="358560" cy="35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61048" fill="hold"/>
                                        <p:tgtEl>
                                          <p:spTgt spid="2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5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6" name="组合 32769"/>
          <p:cNvGrpSpPr/>
          <p:nvPr/>
        </p:nvGrpSpPr>
        <p:grpSpPr>
          <a:xfrm>
            <a:off x="1763640" y="1050840"/>
            <a:ext cx="5522760" cy="5338800"/>
            <a:chOff x="1763640" y="1050840"/>
            <a:chExt cx="5522760" cy="5338800"/>
          </a:xfrm>
        </p:grpSpPr>
        <p:pic>
          <p:nvPicPr>
            <p:cNvPr id="2397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52276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直接连接符 32771"/>
            <p:cNvSpPr/>
            <p:nvPr/>
          </p:nvSpPr>
          <p:spPr>
            <a:xfrm flipH="1">
              <a:off x="4263840" y="5822280"/>
              <a:ext cx="756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直接连接符 32772"/>
            <p:cNvSpPr/>
            <p:nvPr/>
          </p:nvSpPr>
          <p:spPr>
            <a:xfrm flipH="1">
              <a:off x="4057200" y="57952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直接连接符 32773"/>
            <p:cNvSpPr/>
            <p:nvPr/>
          </p:nvSpPr>
          <p:spPr>
            <a:xfrm flipH="1">
              <a:off x="3831840" y="574920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直接连接符 32774"/>
            <p:cNvSpPr/>
            <p:nvPr/>
          </p:nvSpPr>
          <p:spPr>
            <a:xfrm flipH="1">
              <a:off x="3628800" y="565992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直接连接符 32775"/>
            <p:cNvSpPr/>
            <p:nvPr/>
          </p:nvSpPr>
          <p:spPr>
            <a:xfrm flipH="1">
              <a:off x="3174120" y="543456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直接连接符 32776"/>
            <p:cNvSpPr/>
            <p:nvPr/>
          </p:nvSpPr>
          <p:spPr>
            <a:xfrm flipH="1">
              <a:off x="3009600" y="53125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直接连接符 32777"/>
            <p:cNvSpPr/>
            <p:nvPr/>
          </p:nvSpPr>
          <p:spPr>
            <a:xfrm flipH="1">
              <a:off x="2811240" y="5144760"/>
              <a:ext cx="58320" cy="42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直接连接符 32778"/>
            <p:cNvSpPr/>
            <p:nvPr/>
          </p:nvSpPr>
          <p:spPr>
            <a:xfrm flipH="1">
              <a:off x="2683440" y="4970160"/>
              <a:ext cx="60120" cy="39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直接连接符 32779"/>
            <p:cNvSpPr/>
            <p:nvPr/>
          </p:nvSpPr>
          <p:spPr>
            <a:xfrm flipH="1">
              <a:off x="2404080" y="45378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直接连接符 32780"/>
            <p:cNvSpPr/>
            <p:nvPr/>
          </p:nvSpPr>
          <p:spPr>
            <a:xfrm flipH="1">
              <a:off x="2325960" y="435564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直接连接符 32781"/>
            <p:cNvSpPr/>
            <p:nvPr/>
          </p:nvSpPr>
          <p:spPr>
            <a:xfrm flipH="1">
              <a:off x="2258640" y="41569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直接连接符 32782"/>
            <p:cNvSpPr/>
            <p:nvPr/>
          </p:nvSpPr>
          <p:spPr>
            <a:xfrm flipH="1">
              <a:off x="2238840" y="39459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直接连接符 32783"/>
            <p:cNvSpPr/>
            <p:nvPr/>
          </p:nvSpPr>
          <p:spPr>
            <a:xfrm flipH="1" flipV="1">
              <a:off x="2229840" y="344088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直接连接符 32784"/>
            <p:cNvSpPr/>
            <p:nvPr/>
          </p:nvSpPr>
          <p:spPr>
            <a:xfrm flipH="1" flipV="1">
              <a:off x="2259000" y="324072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直接连接符 32785"/>
            <p:cNvSpPr/>
            <p:nvPr/>
          </p:nvSpPr>
          <p:spPr>
            <a:xfrm flipH="1" flipV="1">
              <a:off x="2311200" y="302256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直接连接符 32786"/>
            <p:cNvSpPr/>
            <p:nvPr/>
          </p:nvSpPr>
          <p:spPr>
            <a:xfrm flipH="1" flipV="1">
              <a:off x="2404800" y="2826360"/>
              <a:ext cx="6444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直接连接符 32787"/>
            <p:cNvSpPr/>
            <p:nvPr/>
          </p:nvSpPr>
          <p:spPr>
            <a:xfrm flipH="1" flipV="1">
              <a:off x="2667240" y="236772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直接连接符 32788"/>
            <p:cNvSpPr/>
            <p:nvPr/>
          </p:nvSpPr>
          <p:spPr>
            <a:xfrm flipH="1" flipV="1">
              <a:off x="2797200" y="2208960"/>
              <a:ext cx="5472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直接连接符 32789"/>
            <p:cNvSpPr/>
            <p:nvPr/>
          </p:nvSpPr>
          <p:spPr>
            <a:xfrm flipH="1" flipV="1">
              <a:off x="2984400" y="207144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直接连接符 32790"/>
            <p:cNvSpPr/>
            <p:nvPr/>
          </p:nvSpPr>
          <p:spPr>
            <a:xfrm flipH="1" flipV="1">
              <a:off x="3166200" y="1948320"/>
              <a:ext cx="37440" cy="583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直接连接符 32791"/>
            <p:cNvSpPr/>
            <p:nvPr/>
          </p:nvSpPr>
          <p:spPr>
            <a:xfrm flipH="1" flipV="1">
              <a:off x="3619800" y="169560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直接连接符 32792"/>
            <p:cNvSpPr/>
            <p:nvPr/>
          </p:nvSpPr>
          <p:spPr>
            <a:xfrm flipH="1" flipV="1">
              <a:off x="3815280" y="1620720"/>
              <a:ext cx="23040" cy="66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直接连接符 32793"/>
            <p:cNvSpPr/>
            <p:nvPr/>
          </p:nvSpPr>
          <p:spPr>
            <a:xfrm flipH="1" flipV="1">
              <a:off x="4035960" y="155556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直接连接符 32794"/>
            <p:cNvSpPr/>
            <p:nvPr/>
          </p:nvSpPr>
          <p:spPr>
            <a:xfrm flipH="1" flipV="1">
              <a:off x="4256280" y="153648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直接连接符 32795"/>
            <p:cNvSpPr/>
            <p:nvPr/>
          </p:nvSpPr>
          <p:spPr>
            <a:xfrm flipV="1">
              <a:off x="4776840" y="15260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直接连接符 32796"/>
            <p:cNvSpPr/>
            <p:nvPr/>
          </p:nvSpPr>
          <p:spPr>
            <a:xfrm flipV="1">
              <a:off x="4979520" y="15544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直接连接符 32797"/>
            <p:cNvSpPr/>
            <p:nvPr/>
          </p:nvSpPr>
          <p:spPr>
            <a:xfrm flipV="1">
              <a:off x="5190120" y="160452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直接连接符 32798"/>
            <p:cNvSpPr/>
            <p:nvPr/>
          </p:nvSpPr>
          <p:spPr>
            <a:xfrm flipV="1">
              <a:off x="5388120" y="169488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直接连接符 32799"/>
            <p:cNvSpPr/>
            <p:nvPr/>
          </p:nvSpPr>
          <p:spPr>
            <a:xfrm flipV="1">
              <a:off x="5845680" y="1941120"/>
              <a:ext cx="4140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直接连接符 32800"/>
            <p:cNvSpPr/>
            <p:nvPr/>
          </p:nvSpPr>
          <p:spPr>
            <a:xfrm flipV="1">
              <a:off x="6008040" y="20671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直接连接符 32801"/>
            <p:cNvSpPr/>
            <p:nvPr/>
          </p:nvSpPr>
          <p:spPr>
            <a:xfrm flipV="1">
              <a:off x="6136920" y="219384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直接连接符 32802"/>
            <p:cNvSpPr/>
            <p:nvPr/>
          </p:nvSpPr>
          <p:spPr>
            <a:xfrm flipV="1">
              <a:off x="6262560" y="2369160"/>
              <a:ext cx="6012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直接连接符 32803"/>
            <p:cNvSpPr/>
            <p:nvPr/>
          </p:nvSpPr>
          <p:spPr>
            <a:xfrm flipV="1">
              <a:off x="6527520" y="28072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直接连接符 32804"/>
            <p:cNvSpPr/>
            <p:nvPr/>
          </p:nvSpPr>
          <p:spPr>
            <a:xfrm flipV="1">
              <a:off x="6602760" y="299736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直接连接符 32805"/>
            <p:cNvSpPr/>
            <p:nvPr/>
          </p:nvSpPr>
          <p:spPr>
            <a:xfrm flipV="1">
              <a:off x="6666840" y="321120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直接连接符 32806"/>
            <p:cNvSpPr/>
            <p:nvPr/>
          </p:nvSpPr>
          <p:spPr>
            <a:xfrm flipV="1">
              <a:off x="6685920" y="3423960"/>
              <a:ext cx="7200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直接连接符 32807"/>
            <p:cNvSpPr/>
            <p:nvPr/>
          </p:nvSpPr>
          <p:spPr>
            <a:xfrm>
              <a:off x="6687360" y="3929760"/>
              <a:ext cx="7164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直接连接符 32808"/>
            <p:cNvSpPr/>
            <p:nvPr/>
          </p:nvSpPr>
          <p:spPr>
            <a:xfrm>
              <a:off x="6659280" y="4126680"/>
              <a:ext cx="7056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直接连接符 32809"/>
            <p:cNvSpPr/>
            <p:nvPr/>
          </p:nvSpPr>
          <p:spPr>
            <a:xfrm>
              <a:off x="6612120" y="432900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直接连接符 32810"/>
            <p:cNvSpPr/>
            <p:nvPr/>
          </p:nvSpPr>
          <p:spPr>
            <a:xfrm>
              <a:off x="6519960" y="4520520"/>
              <a:ext cx="6372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直接连接符 32811"/>
            <p:cNvSpPr/>
            <p:nvPr/>
          </p:nvSpPr>
          <p:spPr>
            <a:xfrm>
              <a:off x="6256800" y="494064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直接连接符 32812"/>
            <p:cNvSpPr/>
            <p:nvPr/>
          </p:nvSpPr>
          <p:spPr>
            <a:xfrm>
              <a:off x="6130800" y="50979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直接连接符 32813"/>
            <p:cNvSpPr/>
            <p:nvPr/>
          </p:nvSpPr>
          <p:spPr>
            <a:xfrm>
              <a:off x="6013080" y="527652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直接连接符 32814"/>
            <p:cNvSpPr/>
            <p:nvPr/>
          </p:nvSpPr>
          <p:spPr>
            <a:xfrm>
              <a:off x="5833440" y="5397480"/>
              <a:ext cx="3780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直接连接符 32815"/>
            <p:cNvSpPr/>
            <p:nvPr/>
          </p:nvSpPr>
          <p:spPr>
            <a:xfrm>
              <a:off x="5398920" y="5653440"/>
              <a:ext cx="27720" cy="640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直接连接符 32816"/>
            <p:cNvSpPr/>
            <p:nvPr/>
          </p:nvSpPr>
          <p:spPr>
            <a:xfrm>
              <a:off x="5210280" y="572616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直接连接符 32817"/>
            <p:cNvSpPr/>
            <p:nvPr/>
          </p:nvSpPr>
          <p:spPr>
            <a:xfrm>
              <a:off x="5005080" y="57884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直接连接符 32818"/>
            <p:cNvSpPr/>
            <p:nvPr/>
          </p:nvSpPr>
          <p:spPr>
            <a:xfrm>
              <a:off x="4786920" y="580644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447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8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450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1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2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453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4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5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5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600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6000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432000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对象 8193" descr=""/>
          <p:cNvPicPr/>
          <p:nvPr/>
        </p:nvPicPr>
        <p:blipFill>
          <a:blip r:embed="rId1"/>
          <a:stretch/>
        </p:blipFill>
        <p:spPr>
          <a:xfrm>
            <a:off x="185760" y="404640"/>
            <a:ext cx="4352760" cy="428328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3" descr="CJ3738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2147" name="Text Box 4"/>
          <p:cNvSpPr/>
          <p:nvPr/>
        </p:nvSpPr>
        <p:spPr>
          <a:xfrm>
            <a:off x="4648320" y="69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钟面上有（    ）个大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）个小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5"/>
          <p:cNvSpPr/>
          <p:nvPr/>
        </p:nvSpPr>
        <p:spPr>
          <a:xfrm>
            <a:off x="480060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大格是（  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6"/>
          <p:cNvSpPr/>
          <p:nvPr/>
        </p:nvSpPr>
        <p:spPr>
          <a:xfrm>
            <a:off x="4800600" y="2971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分针走一小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走一大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7"/>
          <p:cNvSpPr/>
          <p:nvPr/>
        </p:nvSpPr>
        <p:spPr>
          <a:xfrm>
            <a:off x="20574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大格，分针正好走（   ）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 rot="5400000">
            <a:off x="3009600" y="4686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6707"/>
                </a:lnTo>
                <a:cubicBezTo>
                  <a:pt x="10800" y="7606"/>
                  <a:pt x="16200" y="8504"/>
                  <a:pt x="21600" y="8504"/>
                </a:cubicBezTo>
                <a:cubicBezTo>
                  <a:pt x="16200" y="8504"/>
                  <a:pt x="10800" y="9403"/>
                  <a:pt x="10800" y="103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9"/>
          <p:cNvSpPr/>
          <p:nvPr/>
        </p:nvSpPr>
        <p:spPr>
          <a:xfrm rot="5400000">
            <a:off x="5981400" y="415296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12007"/>
                </a:lnTo>
                <a:cubicBezTo>
                  <a:pt x="10800" y="12906"/>
                  <a:pt x="16200" y="13804"/>
                  <a:pt x="21600" y="13804"/>
                </a:cubicBezTo>
                <a:cubicBezTo>
                  <a:pt x="16200" y="13804"/>
                  <a:pt x="10800" y="14703"/>
                  <a:pt x="10800" y="156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0"/>
          <p:cNvSpPr/>
          <p:nvPr/>
        </p:nvSpPr>
        <p:spPr>
          <a:xfrm>
            <a:off x="2819520" y="5638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1"/>
          <p:cNvSpPr/>
          <p:nvPr/>
        </p:nvSpPr>
        <p:spPr>
          <a:xfrm>
            <a:off x="51814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12"/>
          <p:cNvGrpSpPr/>
          <p:nvPr/>
        </p:nvGrpSpPr>
        <p:grpSpPr>
          <a:xfrm>
            <a:off x="4191120" y="5867280"/>
            <a:ext cx="380880" cy="152280"/>
            <a:chOff x="4191120" y="5867280"/>
            <a:chExt cx="380880" cy="152280"/>
          </a:xfrm>
        </p:grpSpPr>
        <p:sp>
          <p:nvSpPr>
            <p:cNvPr id="2156" name="Line 13"/>
            <p:cNvSpPr/>
            <p:nvPr/>
          </p:nvSpPr>
          <p:spPr>
            <a:xfrm>
              <a:off x="4191120" y="58672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4"/>
            <p:cNvSpPr/>
            <p:nvPr/>
          </p:nvSpPr>
          <p:spPr>
            <a:xfrm>
              <a:off x="4191120" y="6019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Rectangle 15"/>
          <p:cNvSpPr/>
          <p:nvPr/>
        </p:nvSpPr>
        <p:spPr>
          <a:xfrm>
            <a:off x="6478200" y="6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16"/>
          <p:cNvSpPr/>
          <p:nvPr/>
        </p:nvSpPr>
        <p:spPr>
          <a:xfrm>
            <a:off x="6477120" y="110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7"/>
          <p:cNvSpPr/>
          <p:nvPr/>
        </p:nvSpPr>
        <p:spPr>
          <a:xfrm>
            <a:off x="7393320" y="175248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8"/>
          <p:cNvSpPr/>
          <p:nvPr/>
        </p:nvSpPr>
        <p:spPr>
          <a:xfrm>
            <a:off x="7716600" y="29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9"/>
          <p:cNvSpPr/>
          <p:nvPr/>
        </p:nvSpPr>
        <p:spPr>
          <a:xfrm>
            <a:off x="7773840" y="34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20"/>
          <p:cNvSpPr/>
          <p:nvPr/>
        </p:nvSpPr>
        <p:spPr>
          <a:xfrm>
            <a:off x="655452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1"/>
          <p:cNvSpPr/>
          <p:nvPr/>
        </p:nvSpPr>
        <p:spPr>
          <a:xfrm>
            <a:off x="5076720" y="0"/>
            <a:ext cx="406728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1"/>
          <p:cNvSpPr/>
          <p:nvPr/>
        </p:nvSpPr>
        <p:spPr>
          <a:xfrm>
            <a:off x="-33480" y="6453360"/>
            <a:ext cx="765036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TextBox 19"/>
          <p:cNvSpPr/>
          <p:nvPr/>
        </p:nvSpPr>
        <p:spPr>
          <a:xfrm>
            <a:off x="888840" y="517680"/>
            <a:ext cx="82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谁用的时间最接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1" name="图片 1" descr=""/>
          <p:cNvPicPr/>
          <p:nvPr/>
        </p:nvPicPr>
        <p:blipFill>
          <a:blip r:embed="rId1"/>
          <a:stretch/>
        </p:blipFill>
        <p:spPr>
          <a:xfrm>
            <a:off x="5775480" y="3452760"/>
            <a:ext cx="2571480" cy="278136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9" descr="C:\Users\12556\AppData\Roaming\Seewo\EasiNote5\Temp\6248-24.05.26,20-46-08,7591598\1481aa0e-f793-4ee7-a238-6eef70e85855\Resources\c03dced7724da8b6535aa1e7658817cf.png"/>
          <p:cNvPicPr/>
          <p:nvPr/>
        </p:nvPicPr>
        <p:blipFill>
          <a:blip r:embed="rId2"/>
          <a:stretch/>
        </p:blipFill>
        <p:spPr>
          <a:xfrm>
            <a:off x="339840" y="1359000"/>
            <a:ext cx="3144600" cy="71892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0" descr="C:\Users\12556\AppData\Roaming\Seewo\EasiNote5\Temp\6248-24.05.26,20-46-08,7591598\1481aa0e-f793-4ee7-a238-6eef70e85855\Resources\f8fbdf9791a0da3945f99438e4a12313.png"/>
          <p:cNvPicPr/>
          <p:nvPr/>
        </p:nvPicPr>
        <p:blipFill>
          <a:blip r:embed="rId3"/>
          <a:stretch/>
        </p:blipFill>
        <p:spPr>
          <a:xfrm>
            <a:off x="339840" y="1994040"/>
            <a:ext cx="845316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4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465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15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18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9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0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21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3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25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60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600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43200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27" name="图片 13" descr="14.png"/>
          <p:cNvPicPr/>
          <p:nvPr/>
        </p:nvPicPr>
        <p:blipFill>
          <a:blip r:embed="rId2"/>
          <a:stretch/>
        </p:blipFill>
        <p:spPr>
          <a:xfrm>
            <a:off x="785880" y="1785960"/>
            <a:ext cx="3541680" cy="39528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4" descr="C:\Users\12556\Documents\WeChat Files\wxid_833aj0flutox22\FileStorage\Temp\abdd0080b59b13622c63249ed1c655c.jpg"/>
          <p:cNvPicPr/>
          <p:nvPr/>
        </p:nvPicPr>
        <p:blipFill>
          <a:blip r:embed="rId3"/>
          <a:stretch/>
        </p:blipFill>
        <p:spPr>
          <a:xfrm>
            <a:off x="684360" y="2535120"/>
            <a:ext cx="7775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23840" y="848880"/>
            <a:ext cx="9020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刘翔在雅典奥运会以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秒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91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破当时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10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米栏世界纪录的成绩夺冠。</a:t>
            </a:r>
            <a:br>
              <a:rPr sz="3600"/>
            </a:b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530" name="Picture 4" descr="刘翔"/>
          <p:cNvPicPr/>
          <p:nvPr/>
        </p:nvPicPr>
        <p:blipFill>
          <a:blip r:embed="rId1"/>
          <a:stretch/>
        </p:blipFill>
        <p:spPr>
          <a:xfrm>
            <a:off x="2003400" y="1695600"/>
            <a:ext cx="5184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32" name="图片 4" descr="16.png"/>
          <p:cNvPicPr/>
          <p:nvPr/>
        </p:nvPicPr>
        <p:blipFill>
          <a:blip r:embed="rId2"/>
          <a:stretch/>
        </p:blipFill>
        <p:spPr>
          <a:xfrm>
            <a:off x="857160" y="1890720"/>
            <a:ext cx="3191040" cy="395280"/>
          </a:xfrm>
          <a:prstGeom prst="rect">
            <a:avLst/>
          </a:prstGeom>
          <a:ln w="0">
            <a:noFill/>
          </a:ln>
        </p:spPr>
      </p:pic>
      <p:pic>
        <p:nvPicPr>
          <p:cNvPr id="2533" name="图片 5" descr="17.png"/>
          <p:cNvPicPr/>
          <p:nvPr/>
        </p:nvPicPr>
        <p:blipFill>
          <a:blip r:embed="rId3"/>
          <a:stretch/>
        </p:blipFill>
        <p:spPr>
          <a:xfrm>
            <a:off x="642960" y="2730600"/>
            <a:ext cx="2406600" cy="1668240"/>
          </a:xfrm>
          <a:prstGeom prst="rect">
            <a:avLst/>
          </a:prstGeom>
          <a:ln w="0">
            <a:noFill/>
          </a:ln>
        </p:spPr>
      </p:pic>
      <p:pic>
        <p:nvPicPr>
          <p:cNvPr id="2534" name="图片 6" descr="18.png"/>
          <p:cNvPicPr/>
          <p:nvPr/>
        </p:nvPicPr>
        <p:blipFill>
          <a:blip r:embed="rId4"/>
          <a:stretch/>
        </p:blipFill>
        <p:spPr>
          <a:xfrm>
            <a:off x="3378240" y="2857680"/>
            <a:ext cx="2336760" cy="151128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7" descr="19.png"/>
          <p:cNvPicPr/>
          <p:nvPr/>
        </p:nvPicPr>
        <p:blipFill>
          <a:blip r:embed="rId5"/>
          <a:stretch/>
        </p:blipFill>
        <p:spPr>
          <a:xfrm>
            <a:off x="5959440" y="2736720"/>
            <a:ext cx="2755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6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537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9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540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90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1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93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96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7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5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600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600000" fill="hold"/>
                                        <p:tgtEl>
                                          <p:spTgt spid="2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43200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602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4" name="组合 4"/>
          <p:cNvGrpSpPr/>
          <p:nvPr/>
        </p:nvGrpSpPr>
        <p:grpSpPr>
          <a:xfrm>
            <a:off x="4616280" y="2155680"/>
            <a:ext cx="812880" cy="696600"/>
            <a:chOff x="4616280" y="2155680"/>
            <a:chExt cx="812880" cy="696600"/>
          </a:xfrm>
        </p:grpSpPr>
        <p:sp>
          <p:nvSpPr>
            <p:cNvPr id="2605" name="矩形 2"/>
            <p:cNvSpPr/>
            <p:nvPr/>
          </p:nvSpPr>
          <p:spPr>
            <a:xfrm>
              <a:off x="4616280" y="2155680"/>
              <a:ext cx="72252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文本框 3"/>
            <p:cNvSpPr/>
            <p:nvPr/>
          </p:nvSpPr>
          <p:spPr>
            <a:xfrm>
              <a:off x="4616280" y="226800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组合 7"/>
          <p:cNvGrpSpPr/>
          <p:nvPr/>
        </p:nvGrpSpPr>
        <p:grpSpPr>
          <a:xfrm>
            <a:off x="627120" y="3076560"/>
            <a:ext cx="958680" cy="696600"/>
            <a:chOff x="627120" y="3076560"/>
            <a:chExt cx="958680" cy="696600"/>
          </a:xfrm>
        </p:grpSpPr>
        <p:sp>
          <p:nvSpPr>
            <p:cNvPr id="2608" name="矩形 8"/>
            <p:cNvSpPr/>
            <p:nvPr/>
          </p:nvSpPr>
          <p:spPr>
            <a:xfrm>
              <a:off x="627120" y="3076560"/>
              <a:ext cx="72180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文本框 9"/>
            <p:cNvSpPr/>
            <p:nvPr/>
          </p:nvSpPr>
          <p:spPr>
            <a:xfrm>
              <a:off x="773640" y="3188880"/>
              <a:ext cx="8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0" name="组合 10"/>
          <p:cNvGrpSpPr/>
          <p:nvPr/>
        </p:nvGrpSpPr>
        <p:grpSpPr>
          <a:xfrm>
            <a:off x="4249800" y="3132000"/>
            <a:ext cx="852480" cy="581400"/>
            <a:chOff x="4249800" y="3132000"/>
            <a:chExt cx="852480" cy="581400"/>
          </a:xfrm>
        </p:grpSpPr>
        <p:sp>
          <p:nvSpPr>
            <p:cNvPr id="2611" name="矩形 11"/>
            <p:cNvSpPr/>
            <p:nvPr/>
          </p:nvSpPr>
          <p:spPr>
            <a:xfrm>
              <a:off x="4249800" y="3208680"/>
              <a:ext cx="722880" cy="43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文本框 12"/>
            <p:cNvSpPr/>
            <p:nvPr/>
          </p:nvSpPr>
          <p:spPr>
            <a:xfrm>
              <a:off x="4320360" y="3132000"/>
              <a:ext cx="78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3" name="组合 16"/>
          <p:cNvGrpSpPr/>
          <p:nvPr/>
        </p:nvGrpSpPr>
        <p:grpSpPr>
          <a:xfrm>
            <a:off x="4249800" y="3681360"/>
            <a:ext cx="722160" cy="520560"/>
            <a:chOff x="4249800" y="3681360"/>
            <a:chExt cx="722160" cy="520560"/>
          </a:xfrm>
        </p:grpSpPr>
        <p:sp>
          <p:nvSpPr>
            <p:cNvPr id="2614" name="矩形 5"/>
            <p:cNvSpPr/>
            <p:nvPr/>
          </p:nvSpPr>
          <p:spPr>
            <a:xfrm>
              <a:off x="4249800" y="3773520"/>
              <a:ext cx="722160" cy="3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文本框 6"/>
            <p:cNvSpPr/>
            <p:nvPr/>
          </p:nvSpPr>
          <p:spPr>
            <a:xfrm>
              <a:off x="4320000" y="3681360"/>
              <a:ext cx="65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组合 18"/>
          <p:cNvGrpSpPr/>
          <p:nvPr/>
        </p:nvGrpSpPr>
        <p:grpSpPr>
          <a:xfrm>
            <a:off x="7089840" y="3635280"/>
            <a:ext cx="722160" cy="696960"/>
            <a:chOff x="7089840" y="3635280"/>
            <a:chExt cx="722160" cy="696960"/>
          </a:xfrm>
        </p:grpSpPr>
        <p:sp>
          <p:nvSpPr>
            <p:cNvPr id="2617" name="矩形 19"/>
            <p:cNvSpPr/>
            <p:nvPr/>
          </p:nvSpPr>
          <p:spPr>
            <a:xfrm>
              <a:off x="7089840" y="3635280"/>
              <a:ext cx="72216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文本框 20"/>
            <p:cNvSpPr/>
            <p:nvPr/>
          </p:nvSpPr>
          <p:spPr>
            <a:xfrm>
              <a:off x="7089840" y="37476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组合 17"/>
          <p:cNvGrpSpPr/>
          <p:nvPr/>
        </p:nvGrpSpPr>
        <p:grpSpPr>
          <a:xfrm>
            <a:off x="3290760" y="3990960"/>
            <a:ext cx="722520" cy="696960"/>
            <a:chOff x="3290760" y="3990960"/>
            <a:chExt cx="722520" cy="696960"/>
          </a:xfrm>
        </p:grpSpPr>
        <p:sp>
          <p:nvSpPr>
            <p:cNvPr id="2620" name="矩形 21"/>
            <p:cNvSpPr/>
            <p:nvPr/>
          </p:nvSpPr>
          <p:spPr>
            <a:xfrm>
              <a:off x="3290760" y="3990960"/>
              <a:ext cx="72252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文本框 22"/>
            <p:cNvSpPr/>
            <p:nvPr/>
          </p:nvSpPr>
          <p:spPr>
            <a:xfrm>
              <a:off x="3290760" y="410328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6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6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6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9" name="Text Box 29" descr=""/>
          <p:cNvPicPr/>
          <p:nvPr/>
        </p:nvPicPr>
        <p:blipFill>
          <a:blip r:embed="rId3"/>
          <a:stretch/>
        </p:blipFill>
        <p:spPr>
          <a:xfrm rot="206400">
            <a:off x="87480" y="1362240"/>
            <a:ext cx="7778520" cy="3171600"/>
          </a:xfrm>
          <a:prstGeom prst="rect">
            <a:avLst/>
          </a:prstGeom>
          <a:ln w="0">
            <a:noFill/>
          </a:ln>
        </p:spPr>
      </p:pic>
      <p:pic>
        <p:nvPicPr>
          <p:cNvPr id="2650" name="图片 1" descr=""/>
          <p:cNvPicPr/>
          <p:nvPr/>
        </p:nvPicPr>
        <p:blipFill>
          <a:blip r:embed="rId4"/>
          <a:stretch/>
        </p:blipFill>
        <p:spPr>
          <a:xfrm>
            <a:off x="2340000" y="3986280"/>
            <a:ext cx="4579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6" name="Picture 4" descr=""/>
          <p:cNvPicPr/>
          <p:nvPr/>
        </p:nvPicPr>
        <p:blipFill>
          <a:blip r:embed="rId1"/>
          <a:stretch/>
        </p:blipFill>
        <p:spPr>
          <a:xfrm>
            <a:off x="701640" y="746280"/>
            <a:ext cx="39816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2167" name="Group 5"/>
          <p:cNvGrpSpPr/>
          <p:nvPr/>
        </p:nvGrpSpPr>
        <p:grpSpPr>
          <a:xfrm>
            <a:off x="2413800" y="2562120"/>
            <a:ext cx="1163520" cy="994320"/>
            <a:chOff x="2413800" y="2562120"/>
            <a:chExt cx="1163520" cy="994320"/>
          </a:xfrm>
        </p:grpSpPr>
        <p:sp>
          <p:nvSpPr>
            <p:cNvPr id="2168" name="Oval 6"/>
            <p:cNvSpPr/>
            <p:nvPr/>
          </p:nvSpPr>
          <p:spPr>
            <a:xfrm rot="13179000">
              <a:off x="2413080" y="2645640"/>
              <a:ext cx="301680" cy="1072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Group 7"/>
            <p:cNvGrpSpPr/>
            <p:nvPr/>
          </p:nvGrpSpPr>
          <p:grpSpPr>
            <a:xfrm>
              <a:off x="2556000" y="2675520"/>
              <a:ext cx="1021320" cy="880920"/>
              <a:chOff x="2556000" y="2675520"/>
              <a:chExt cx="1021320" cy="880920"/>
            </a:xfrm>
          </p:grpSpPr>
          <p:sp>
            <p:nvSpPr>
              <p:cNvPr id="2170" name="AutoShape 8"/>
              <p:cNvSpPr/>
              <p:nvPr/>
            </p:nvSpPr>
            <p:spPr>
              <a:xfrm rot="13179000">
                <a:off x="2462400" y="3044160"/>
                <a:ext cx="1208160" cy="142920"/>
              </a:xfrm>
              <a:prstGeom prst="leftArrow">
                <a:avLst>
                  <a:gd name="adj1" fmla="val 50000"/>
                  <a:gd name="adj2" fmla="val 211335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9"/>
              <p:cNvSpPr/>
              <p:nvPr/>
            </p:nvSpPr>
            <p:spPr>
              <a:xfrm rot="13179000">
                <a:off x="2543400" y="2855520"/>
                <a:ext cx="503640" cy="7128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2" name="Group 10"/>
          <p:cNvGrpSpPr/>
          <p:nvPr/>
        </p:nvGrpSpPr>
        <p:grpSpPr>
          <a:xfrm>
            <a:off x="1472760" y="2514240"/>
            <a:ext cx="1168200" cy="608760"/>
            <a:chOff x="1472760" y="2514240"/>
            <a:chExt cx="1168200" cy="608760"/>
          </a:xfrm>
        </p:grpSpPr>
        <p:sp>
          <p:nvSpPr>
            <p:cNvPr id="2173" name="Oval 11"/>
            <p:cNvSpPr/>
            <p:nvPr/>
          </p:nvSpPr>
          <p:spPr>
            <a:xfrm rot="20458800">
              <a:off x="2366640" y="2548440"/>
              <a:ext cx="246600" cy="2116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12"/>
            <p:cNvGrpSpPr/>
            <p:nvPr/>
          </p:nvGrpSpPr>
          <p:grpSpPr>
            <a:xfrm>
              <a:off x="1472760" y="2534040"/>
              <a:ext cx="1025640" cy="588960"/>
              <a:chOff x="1472760" y="2534040"/>
              <a:chExt cx="1025640" cy="588960"/>
            </a:xfrm>
          </p:grpSpPr>
          <p:sp>
            <p:nvSpPr>
              <p:cNvPr id="2175" name="AutoShape 13"/>
              <p:cNvSpPr/>
              <p:nvPr/>
            </p:nvSpPr>
            <p:spPr>
              <a:xfrm rot="20458800">
                <a:off x="1491840" y="2687040"/>
                <a:ext cx="987480" cy="282600"/>
              </a:xfrm>
              <a:prstGeom prst="leftArrow">
                <a:avLst>
                  <a:gd name="adj1" fmla="val 50000"/>
                  <a:gd name="adj2" fmla="val 87357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4"/>
              <p:cNvSpPr/>
              <p:nvPr/>
            </p:nvSpPr>
            <p:spPr>
              <a:xfrm rot="20458800">
                <a:off x="2051640" y="2664000"/>
                <a:ext cx="411480" cy="14076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7" name="Group 18"/>
          <p:cNvGrpSpPr/>
          <p:nvPr/>
        </p:nvGrpSpPr>
        <p:grpSpPr>
          <a:xfrm>
            <a:off x="2503440" y="1035000"/>
            <a:ext cx="69840" cy="1657080"/>
            <a:chOff x="2503440" y="1035000"/>
            <a:chExt cx="69840" cy="1657080"/>
          </a:xfrm>
        </p:grpSpPr>
        <p:sp>
          <p:nvSpPr>
            <p:cNvPr id="2178" name="AutoShape 15"/>
            <p:cNvSpPr/>
            <p:nvPr/>
          </p:nvSpPr>
          <p:spPr>
            <a:xfrm>
              <a:off x="2503440" y="1035000"/>
              <a:ext cx="69840" cy="1441440"/>
            </a:xfrm>
            <a:prstGeom prst="upArrow">
              <a:avLst>
                <a:gd name="adj1" fmla="val 50000"/>
                <a:gd name="adj2" fmla="val 515693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7"/>
            <p:cNvSpPr/>
            <p:nvPr/>
          </p:nvSpPr>
          <p:spPr>
            <a:xfrm>
              <a:off x="2513160" y="2331360"/>
              <a:ext cx="49680" cy="36072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Group 21"/>
          <p:cNvGrpSpPr/>
          <p:nvPr/>
        </p:nvGrpSpPr>
        <p:grpSpPr>
          <a:xfrm>
            <a:off x="2644920" y="1467000"/>
            <a:ext cx="2827080" cy="459720"/>
            <a:chOff x="2644920" y="1467000"/>
            <a:chExt cx="2827080" cy="459720"/>
          </a:xfrm>
        </p:grpSpPr>
        <p:sp>
          <p:nvSpPr>
            <p:cNvPr id="2181" name="Line 22"/>
            <p:cNvSpPr/>
            <p:nvPr/>
          </p:nvSpPr>
          <p:spPr>
            <a:xfrm>
              <a:off x="2644920" y="1830600"/>
              <a:ext cx="163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Text Box 23"/>
            <p:cNvSpPr/>
            <p:nvPr/>
          </p:nvSpPr>
          <p:spPr>
            <a:xfrm>
              <a:off x="4361400" y="14670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秒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24"/>
          <p:cNvGrpSpPr/>
          <p:nvPr/>
        </p:nvGrpSpPr>
        <p:grpSpPr>
          <a:xfrm>
            <a:off x="2502000" y="1108080"/>
            <a:ext cx="69840" cy="1653840"/>
            <a:chOff x="2502000" y="1108080"/>
            <a:chExt cx="69840" cy="1653840"/>
          </a:xfrm>
        </p:grpSpPr>
        <p:sp>
          <p:nvSpPr>
            <p:cNvPr id="2184" name="AutoShape 25"/>
            <p:cNvSpPr/>
            <p:nvPr/>
          </p:nvSpPr>
          <p:spPr>
            <a:xfrm>
              <a:off x="2502000" y="1108080"/>
              <a:ext cx="69840" cy="1438560"/>
            </a:xfrm>
            <a:prstGeom prst="upArrow">
              <a:avLst>
                <a:gd name="adj1" fmla="val 50000"/>
                <a:gd name="adj2" fmla="val 514662"/>
              </a:avLst>
            </a:prstGeom>
            <a:solidFill>
              <a:srgbClr val="ffff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26"/>
            <p:cNvSpPr/>
            <p:nvPr/>
          </p:nvSpPr>
          <p:spPr>
            <a:xfrm>
              <a:off x="2511720" y="2401920"/>
              <a:ext cx="49680" cy="36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Group 27"/>
          <p:cNvGrpSpPr/>
          <p:nvPr/>
        </p:nvGrpSpPr>
        <p:grpSpPr>
          <a:xfrm>
            <a:off x="2502000" y="1108080"/>
            <a:ext cx="71280" cy="1653840"/>
            <a:chOff x="2502000" y="1108080"/>
            <a:chExt cx="71280" cy="1653840"/>
          </a:xfrm>
        </p:grpSpPr>
        <p:sp>
          <p:nvSpPr>
            <p:cNvPr id="2187" name="AutoShape 28"/>
            <p:cNvSpPr/>
            <p:nvPr/>
          </p:nvSpPr>
          <p:spPr>
            <a:xfrm>
              <a:off x="2502000" y="1108080"/>
              <a:ext cx="71280" cy="1438560"/>
            </a:xfrm>
            <a:prstGeom prst="upArrow">
              <a:avLst>
                <a:gd name="adj1" fmla="val 50000"/>
                <a:gd name="adj2" fmla="val 504265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29"/>
            <p:cNvSpPr/>
            <p:nvPr/>
          </p:nvSpPr>
          <p:spPr>
            <a:xfrm>
              <a:off x="2512080" y="2401920"/>
              <a:ext cx="50760" cy="36000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55"/>
          <p:cNvGrpSpPr/>
          <p:nvPr/>
        </p:nvGrpSpPr>
        <p:grpSpPr>
          <a:xfrm>
            <a:off x="4683240" y="1581120"/>
            <a:ext cx="4890600" cy="3212640"/>
            <a:chOff x="4683240" y="1581120"/>
            <a:chExt cx="4890600" cy="3212640"/>
          </a:xfrm>
        </p:grpSpPr>
        <p:pic>
          <p:nvPicPr>
            <p:cNvPr id="2190" name="Picture 67" descr="002"/>
            <p:cNvPicPr/>
            <p:nvPr/>
          </p:nvPicPr>
          <p:blipFill>
            <a:blip r:embed="rId2"/>
            <a:stretch/>
          </p:blipFill>
          <p:spPr>
            <a:xfrm flipH="1">
              <a:off x="4683240" y="1581120"/>
              <a:ext cx="4461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1" name="Rectangle 65"/>
            <p:cNvSpPr/>
            <p:nvPr/>
          </p:nvSpPr>
          <p:spPr>
            <a:xfrm>
              <a:off x="4683240" y="1909800"/>
              <a:ext cx="48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钟表上除了有时针，分针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还有秒针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Picture 66" descr="小精灵-04"/>
            <p:cNvPicPr/>
            <p:nvPr/>
          </p:nvPicPr>
          <p:blipFill>
            <a:blip r:embed="rId3"/>
            <a:stretch/>
          </p:blipFill>
          <p:spPr>
            <a:xfrm>
              <a:off x="7298640" y="2881800"/>
              <a:ext cx="1331640" cy="191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Picture 53" descr="u=1269048324,2278151910&amp;fm=23&amp;gp=0"/>
          <p:cNvPicPr/>
          <p:nvPr/>
        </p:nvPicPr>
        <p:blipFill>
          <a:blip r:embed="rId4"/>
          <a:stretch/>
        </p:blipFill>
        <p:spPr>
          <a:xfrm>
            <a:off x="449280" y="127080"/>
            <a:ext cx="817560" cy="1050840"/>
          </a:xfrm>
          <a:prstGeom prst="rect">
            <a:avLst/>
          </a:prstGeom>
          <a:ln w="0">
            <a:noFill/>
          </a:ln>
        </p:spPr>
      </p:pic>
      <p:sp>
        <p:nvSpPr>
          <p:cNvPr id="2194" name="WordArt 54"/>
          <p:cNvSpPr txBox="1"/>
          <p:nvPr/>
        </p:nvSpPr>
        <p:spPr>
          <a:xfrm>
            <a:off x="1278000" y="31428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5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196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246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7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249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252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WordArt 54"/>
          <p:cNvSpPr txBox="1"/>
          <p:nvPr/>
        </p:nvSpPr>
        <p:spPr>
          <a:xfrm>
            <a:off x="204840" y="385920"/>
            <a:ext cx="191772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257" name="Group 45"/>
          <p:cNvGrpSpPr/>
          <p:nvPr/>
        </p:nvGrpSpPr>
        <p:grpSpPr>
          <a:xfrm>
            <a:off x="-198360" y="4368960"/>
            <a:ext cx="8057160" cy="1694880"/>
            <a:chOff x="-198360" y="4368960"/>
            <a:chExt cx="8057160" cy="1694880"/>
          </a:xfrm>
        </p:grpSpPr>
        <p:pic>
          <p:nvPicPr>
            <p:cNvPr id="2258" name="Picture 55" descr="小精灵-013"/>
            <p:cNvPicPr/>
            <p:nvPr/>
          </p:nvPicPr>
          <p:blipFill>
            <a:blip r:embed="rId5"/>
            <a:stretch/>
          </p:blipFill>
          <p:spPr>
            <a:xfrm>
              <a:off x="-198360" y="4368960"/>
              <a:ext cx="2763720" cy="16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Group 44"/>
            <p:cNvGrpSpPr/>
            <p:nvPr/>
          </p:nvGrpSpPr>
          <p:grpSpPr>
            <a:xfrm>
              <a:off x="2373120" y="4422960"/>
              <a:ext cx="5485680" cy="1097280"/>
              <a:chOff x="2373120" y="4422960"/>
              <a:chExt cx="5485680" cy="1097280"/>
            </a:xfrm>
          </p:grpSpPr>
          <p:pic>
            <p:nvPicPr>
              <p:cNvPr id="2260" name="Picture 56" descr="015"/>
              <p:cNvPicPr/>
              <p:nvPr/>
            </p:nvPicPr>
            <p:blipFill>
              <a:blip r:embed="rId6"/>
              <a:stretch/>
            </p:blipFill>
            <p:spPr>
              <a:xfrm>
                <a:off x="2373120" y="4422960"/>
                <a:ext cx="5485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1" name="Rectangle 65"/>
              <p:cNvSpPr/>
              <p:nvPr/>
            </p:nvSpPr>
            <p:spPr>
              <a:xfrm>
                <a:off x="3065400" y="4573080"/>
                <a:ext cx="4198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秒针最细最长，走得最快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2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3600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43200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圆角矩形标注 62"/>
          <p:cNvSpPr/>
          <p:nvPr/>
        </p:nvSpPr>
        <p:spPr>
          <a:xfrm>
            <a:off x="5276880" y="3222720"/>
            <a:ext cx="3254400" cy="4903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小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3" name="图片 11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2521080" cy="2519280"/>
          </a:xfrm>
          <a:prstGeom prst="rect">
            <a:avLst/>
          </a:prstGeom>
          <a:ln w="0">
            <a:noFill/>
          </a:ln>
        </p:spPr>
      </p:pic>
      <p:sp>
        <p:nvSpPr>
          <p:cNvPr id="2264" name="菱形 24"/>
          <p:cNvSpPr/>
          <p:nvPr/>
        </p:nvSpPr>
        <p:spPr>
          <a:xfrm rot="5400000">
            <a:off x="3343320" y="346392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饼形 25"/>
          <p:cNvSpPr/>
          <p:nvPr/>
        </p:nvSpPr>
        <p:spPr>
          <a:xfrm rot="16200000">
            <a:off x="2504160" y="2527920"/>
            <a:ext cx="2287440" cy="2282760"/>
          </a:xfrm>
          <a:custGeom>
            <a:avLst/>
            <a:gdLst/>
            <a:ahLst/>
            <a:rect l="l" t="t" r="r" b="b"/>
            <a:pathLst>
              <a:path w="2287587" h="2282825">
                <a:moveTo>
                  <a:pt x="2287493" y="1126805"/>
                </a:moveTo>
                <a:cubicBezTo>
                  <a:pt x="2287462" y="1117058"/>
                  <a:pt x="2287493" y="1121928"/>
                  <a:pt x="2287493" y="1126805"/>
                </a:cubicBezTo>
                <a:cubicBezTo>
                  <a:pt x="2287493" y="1174488"/>
                  <a:pt x="2284563" y="1221487"/>
                  <a:pt x="2278917" y="1267281"/>
                </a:cubicBezTo>
                <a:lnTo>
                  <a:pt x="1143793" y="1141412"/>
                </a:lnTo>
                <a:close/>
              </a:path>
            </a:pathLst>
          </a:cu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组合 29"/>
          <p:cNvGrpSpPr/>
          <p:nvPr/>
        </p:nvGrpSpPr>
        <p:grpSpPr>
          <a:xfrm>
            <a:off x="3649680" y="2779560"/>
            <a:ext cx="11160" cy="1884600"/>
            <a:chOff x="3649680" y="2779560"/>
            <a:chExt cx="11160" cy="1884600"/>
          </a:xfrm>
        </p:grpSpPr>
        <p:sp>
          <p:nvSpPr>
            <p:cNvPr id="2267" name="矩形 30"/>
            <p:cNvSpPr/>
            <p:nvPr/>
          </p:nvSpPr>
          <p:spPr>
            <a:xfrm>
              <a:off x="3649680" y="277956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矩形 31"/>
            <p:cNvSpPr/>
            <p:nvPr/>
          </p:nvSpPr>
          <p:spPr>
            <a:xfrm>
              <a:off x="3649680" y="372888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9" name="圆角矩形标注 33"/>
          <p:cNvSpPr/>
          <p:nvPr/>
        </p:nvSpPr>
        <p:spPr>
          <a:xfrm>
            <a:off x="4572000" y="2182680"/>
            <a:ext cx="1008000" cy="358920"/>
          </a:xfrm>
          <a:prstGeom prst="wedgeRoundRectCallout">
            <a:avLst>
              <a:gd name="adj1" fmla="val -130435"/>
              <a:gd name="adj2" fmla="val 139222"/>
              <a:gd name="adj3" fmla="val 16667"/>
            </a:avLst>
          </a:prstGeom>
          <a:noFill/>
          <a:ln w="12600">
            <a:solidFill>
              <a:srgbClr val="8a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Box 19"/>
          <p:cNvSpPr/>
          <p:nvPr/>
        </p:nvSpPr>
        <p:spPr>
          <a:xfrm>
            <a:off x="824040" y="140976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圆角矩形标注 39"/>
          <p:cNvSpPr/>
          <p:nvPr/>
        </p:nvSpPr>
        <p:spPr>
          <a:xfrm>
            <a:off x="5262480" y="4073400"/>
            <a:ext cx="3440160" cy="4921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2" name="组合 11"/>
          <p:cNvGrpSpPr/>
          <p:nvPr/>
        </p:nvGrpSpPr>
        <p:grpSpPr>
          <a:xfrm>
            <a:off x="3648240" y="2774880"/>
            <a:ext cx="10800" cy="1884600"/>
            <a:chOff x="3648240" y="2774880"/>
            <a:chExt cx="10800" cy="1884600"/>
          </a:xfrm>
        </p:grpSpPr>
        <p:sp>
          <p:nvSpPr>
            <p:cNvPr id="2273" name="矩形 12"/>
            <p:cNvSpPr/>
            <p:nvPr/>
          </p:nvSpPr>
          <p:spPr>
            <a:xfrm>
              <a:off x="3648240" y="2774880"/>
              <a:ext cx="1080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3"/>
            <p:cNvSpPr/>
            <p:nvPr/>
          </p:nvSpPr>
          <p:spPr>
            <a:xfrm>
              <a:off x="3648240" y="3724200"/>
              <a:ext cx="108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圆角矩形标注 1"/>
          <p:cNvSpPr/>
          <p:nvPr/>
        </p:nvSpPr>
        <p:spPr>
          <a:xfrm>
            <a:off x="5327640" y="4751280"/>
            <a:ext cx="3254400" cy="49068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29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">
                                      <p:cBhvr>
                                        <p:cTn id="148" dur="2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圆角矩形标注 64"/>
          <p:cNvSpPr/>
          <p:nvPr/>
        </p:nvSpPr>
        <p:spPr>
          <a:xfrm>
            <a:off x="5389560" y="4156200"/>
            <a:ext cx="2825640" cy="492120"/>
          </a:xfrm>
          <a:prstGeom prst="wedgeRoundRectCallout">
            <a:avLst>
              <a:gd name="adj1" fmla="val -58162"/>
              <a:gd name="adj2" fmla="val 3796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7" name="图片 11" descr=""/>
          <p:cNvPicPr/>
          <p:nvPr/>
        </p:nvPicPr>
        <p:blipFill>
          <a:blip r:embed="rId1"/>
          <a:stretch/>
        </p:blipFill>
        <p:spPr>
          <a:xfrm>
            <a:off x="1859040" y="2425680"/>
            <a:ext cx="2520720" cy="2519280"/>
          </a:xfrm>
          <a:prstGeom prst="rect">
            <a:avLst/>
          </a:prstGeom>
          <a:ln w="0">
            <a:noFill/>
          </a:ln>
        </p:spPr>
      </p:pic>
      <p:sp>
        <p:nvSpPr>
          <p:cNvPr id="2278" name="菱形 24"/>
          <p:cNvSpPr/>
          <p:nvPr/>
        </p:nvSpPr>
        <p:spPr>
          <a:xfrm rot="5400000">
            <a:off x="2813040" y="346716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9" name="组合 26"/>
          <p:cNvGrpSpPr/>
          <p:nvPr/>
        </p:nvGrpSpPr>
        <p:grpSpPr>
          <a:xfrm>
            <a:off x="3094200" y="2954160"/>
            <a:ext cx="55440" cy="1687680"/>
            <a:chOff x="3094200" y="2954160"/>
            <a:chExt cx="55440" cy="1687680"/>
          </a:xfrm>
        </p:grpSpPr>
        <p:sp>
          <p:nvSpPr>
            <p:cNvPr id="2280" name="菱形 27"/>
            <p:cNvSpPr/>
            <p:nvPr/>
          </p:nvSpPr>
          <p:spPr>
            <a:xfrm flipH="1">
              <a:off x="3094200" y="2954160"/>
              <a:ext cx="55440" cy="766800"/>
            </a:xfrm>
            <a:prstGeom prst="diamond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菱形 28"/>
            <p:cNvSpPr/>
            <p:nvPr/>
          </p:nvSpPr>
          <p:spPr>
            <a:xfrm flipH="1">
              <a:off x="3094200" y="3738600"/>
              <a:ext cx="55440" cy="903240"/>
            </a:xfrm>
            <a:prstGeom prst="diamond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组合 34"/>
          <p:cNvGrpSpPr/>
          <p:nvPr/>
        </p:nvGrpSpPr>
        <p:grpSpPr>
          <a:xfrm>
            <a:off x="3117960" y="2774880"/>
            <a:ext cx="11160" cy="1884600"/>
            <a:chOff x="3117960" y="2774880"/>
            <a:chExt cx="11160" cy="1884600"/>
          </a:xfrm>
        </p:grpSpPr>
        <p:sp>
          <p:nvSpPr>
            <p:cNvPr id="2283" name="矩形 35"/>
            <p:cNvSpPr/>
            <p:nvPr/>
          </p:nvSpPr>
          <p:spPr>
            <a:xfrm>
              <a:off x="3117960" y="277488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矩形 36"/>
            <p:cNvSpPr/>
            <p:nvPr/>
          </p:nvSpPr>
          <p:spPr>
            <a:xfrm>
              <a:off x="3117960" y="372420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5" name="圆角矩形标注 32"/>
          <p:cNvSpPr/>
          <p:nvPr/>
        </p:nvSpPr>
        <p:spPr>
          <a:xfrm>
            <a:off x="4867200" y="3363840"/>
            <a:ext cx="4491000" cy="492120"/>
          </a:xfrm>
          <a:prstGeom prst="wedgeRoundRectCallout">
            <a:avLst>
              <a:gd name="adj1" fmla="val -58162"/>
              <a:gd name="adj2" fmla="val 50268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分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25"/>
          <p:cNvSpPr/>
          <p:nvPr/>
        </p:nvSpPr>
        <p:spPr>
          <a:xfrm>
            <a:off x="755640" y="1484280"/>
            <a:ext cx="15843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684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与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70" dur="2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288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9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338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9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341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344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6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34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60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3600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43200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矩形 29697"/>
          <p:cNvSpPr/>
          <p:nvPr/>
        </p:nvSpPr>
        <p:spPr>
          <a:xfrm>
            <a:off x="2922480" y="1268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秒钟能做些什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698"/>
          <p:cNvSpPr/>
          <p:nvPr/>
        </p:nvSpPr>
        <p:spPr>
          <a:xfrm>
            <a:off x="1547640" y="1989000"/>
            <a:ext cx="7108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飞机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火车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喷气式飞机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卫星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9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有的电脑          每秒可以完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万亿次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1" name="内容占位符 29699" descr="si"/>
          <p:cNvPicPr/>
          <p:nvPr/>
        </p:nvPicPr>
        <p:blipFill>
          <a:blip r:embed="rId1"/>
          <a:stretch/>
        </p:blipFill>
        <p:spPr>
          <a:xfrm>
            <a:off x="8058240" y="404640"/>
            <a:ext cx="1085760" cy="1090800"/>
          </a:xfrm>
          <a:prstGeom prst="rect">
            <a:avLst/>
          </a:prstGeom>
          <a:ln w="0">
            <a:noFill/>
          </a:ln>
        </p:spPr>
      </p:pic>
      <p:pic>
        <p:nvPicPr>
          <p:cNvPr id="2352" name="内容占位符 29700" descr="slide0001_image005"/>
          <p:cNvPicPr/>
          <p:nvPr/>
        </p:nvPicPr>
        <p:blipFill>
          <a:blip r:embed="rId2"/>
          <a:stretch/>
        </p:blipFill>
        <p:spPr>
          <a:xfrm>
            <a:off x="6842160" y="515772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文本框 36871"/>
          <p:cNvSpPr/>
          <p:nvPr/>
        </p:nvSpPr>
        <p:spPr>
          <a:xfrm>
            <a:off x="395280" y="2421000"/>
            <a:ext cx="85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铅笔厂可生产铅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银行点钞机可以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张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人民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核潜艇水下航行可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计算机计算量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不停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年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组合 36872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55" name="椭圆 36873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文本框 36874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6-05T15:18:49Z</dcterms:created>
  <dc:creator/>
  <dc:description/>
  <dc:language>en-US</dc:language>
  <cp:lastModifiedBy>踢飞了我的靴子</cp:lastModifiedBy>
  <dcterms:modified xsi:type="dcterms:W3CDTF">2024-06-06T00:32:38Z</dcterms:modified>
  <cp:revision>29</cp:revision>
  <dc:subject/>
  <dc:title>一分有多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344C288E2E2402591AB05412042C39C_12</vt:lpwstr>
  </property>
  <property fmtid="{D5CDD505-2E9C-101B-9397-08002B2CF9AE}" pid="3" name="KSOProductBuildVer">
    <vt:lpwstr>2052-12.1.0.16929</vt:lpwstr>
  </property>
</Properties>
</file>