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4.wmf" ContentType="image/x-wmf"/>
  <Override PartName="/ppt/media/suction.wav" ContentType="audio/x-wav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chimes.wav" ContentType="audio/x-wav"/>
  <Override PartName="/ppt/media/image21.jpeg" ContentType="image/jpeg"/>
  <Override PartName="/ppt/media/image29.png" ContentType="image/png"/>
  <Override PartName="/ppt/media/camera.wav" ContentType="audio/x-wav"/>
  <Override PartName="/ppt/media/image7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png" ContentType="image/png"/>
  <Override PartName="/ppt/media/image31.jpeg" ContentType="image/jpeg"/>
  <Override PartName="/ppt/media/image38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E37-914F-4FC5-A64D-C49ADDC5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CCF-1854-4B65-B530-CB27765B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386-896B-453F-92FC-353C8656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7BC-859C-4DA1-8EB2-E791CBB8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A932-5D4E-4CF5-B7E9-0C88E686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470F-4DD2-4C8E-8EBC-4901AE11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7EFA-A5A4-4FB8-8B26-E2B5BD79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F068-5D32-4716-9BDA-D05C9BF1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9056-B474-4453-8F9A-406B5E70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DE25-DEC4-4778-BDBA-A99E83DD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8B71-8001-4AAD-850B-D7A7419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C8F-0504-4712-9532-1DDA209E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FB4E-16B9-4C39-B845-CDA3A5A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14C4-C666-42F6-AEA4-39D2E6A7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D369-147B-438F-AF77-3BD5A259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6DF1-1CBA-4075-BBD3-F743651F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5439-ACD6-47CF-821D-BEC36BC5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2F95-AE5A-4879-86A5-5F0EBCDE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F5C79-7F5D-458B-BD88-CD325F70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BCA8-4260-4C8C-97AB-2C3C8B3D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B06A5-079F-4B53-A884-D9E1EBF8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24C42-75AF-464E-B31C-84FE03DE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B3E-8E6D-42F6-BFAF-7551FA7A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EFC1-D567-454B-993A-73B9C451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647F-3ADB-4F5E-8937-431E316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C748-D317-4851-8183-A7B25C57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E590-4ABC-4FFE-95A9-93FE8C76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1FE0B-3223-42C8-906F-B7FC325E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F32D-4E75-419F-B32C-BF80C31D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F5A0-5F29-4331-AFDC-BB7FFA19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148-81F4-4197-9CC5-CB5F677E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E08-2150-4F19-AF0E-14BD6C08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862-509E-45BF-9B85-3E410D29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23C-269F-49BF-9601-CDE00D80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264-98DC-498F-9D97-3A211B95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C67-8E32-4C0B-9CDF-7F906E38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63E2-F377-45B6-978C-875C76BF1C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FB23-4972-4EBE-A0DB-C6498C016EDA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44FC-65E2-4C81-807A-D6308A885CBC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5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20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6.jpe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16.jpe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271;&#24072;&#22823;&#29256;&#19968;&#24180;&#32423;&#35821;&#25991;&#19979;&#20876;&#12298;&#19968;&#31890;&#31181;&#23376;%201&#12299;PPT&#35838;&#20214;/&#21917;.SWF" TargetMode="External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6.png"/><Relationship Id="rId3" Type="http://schemas.openxmlformats.org/officeDocument/2006/relationships/image" Target="../media/image34.jpeg"/><Relationship Id="rId4" Type="http://schemas.openxmlformats.org/officeDocument/2006/relationships/image" Target="../media/image15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33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92360" y="256536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844640"/>
            <a:ext cx="907272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今天天气很暖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我和妈妈一起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园玩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98100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04000" y="134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3141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683160" y="3284640"/>
            <a:ext cx="142560" cy="14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198900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1908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908000" y="278136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95640" y="234936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2060640"/>
            <a:ext cx="1052640" cy="107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3059280" y="1844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35280" y="2421000"/>
            <a:ext cx="273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4788000" y="126828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92360" y="227664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挺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588000" y="184464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19640" y="2421000"/>
            <a:ext cx="288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渴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740720" y="2852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780000" y="2133720"/>
            <a:ext cx="2736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喝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1835280" y="2565360"/>
            <a:ext cx="907920" cy="936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835280" y="242100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35280" y="2421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钻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012000" y="1700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80000" y="234936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164360" y="2492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635280" y="2349360"/>
            <a:ext cx="29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41246" t="26655" r="41246" b="41662"/>
          <a:stretch/>
        </p:blipFill>
        <p:spPr>
          <a:xfrm>
            <a:off x="3132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2360" y="227664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rcRect l="41246" t="26655" r="41246" b="41662"/>
          <a:stretch/>
        </p:blipFill>
        <p:spPr>
          <a:xfrm>
            <a:off x="4572000" y="134136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08360" y="2349360"/>
            <a:ext cx="2879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1979640" y="1700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2124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08360" y="2205000"/>
            <a:ext cx="309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7020000" y="2924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8360" y="2205000"/>
            <a:ext cx="3024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2124000" y="443700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708360" y="2205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赶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84360" y="1847880"/>
            <a:ext cx="3384000" cy="3381120"/>
            <a:chOff x="684360" y="1847880"/>
            <a:chExt cx="3384000" cy="3381120"/>
          </a:xfrm>
        </p:grpSpPr>
        <p:sp>
          <p:nvSpPr>
            <p:cNvPr id="273" name=""/>
            <p:cNvSpPr/>
            <p:nvPr/>
          </p:nvSpPr>
          <p:spPr>
            <a:xfrm>
              <a:off x="684360" y="1847880"/>
              <a:ext cx="338112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4360" y="3536640"/>
              <a:ext cx="33840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7672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861080" y="1847880"/>
            <a:ext cx="3455640" cy="3381120"/>
            <a:chOff x="4861080" y="1847880"/>
            <a:chExt cx="3455640" cy="3381120"/>
          </a:xfrm>
        </p:grpSpPr>
        <p:sp>
          <p:nvSpPr>
            <p:cNvPr id="277" name=""/>
            <p:cNvSpPr/>
            <p:nvPr/>
          </p:nvSpPr>
          <p:spPr>
            <a:xfrm>
              <a:off x="4861080" y="184788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61080" y="353664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8908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116000" y="1820880"/>
            <a:ext cx="280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渴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5292720" y="1844640"/>
            <a:ext cx="2376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喝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55520" y="1773360"/>
            <a:ext cx="5214960" cy="3203280"/>
            <a:chOff x="1055520" y="1773360"/>
            <a:chExt cx="5214960" cy="3203280"/>
          </a:xfrm>
        </p:grpSpPr>
        <p:pic>
          <p:nvPicPr>
            <p:cNvPr id="283" name="" descr=""/>
            <p:cNvPicPr/>
            <p:nvPr/>
          </p:nvPicPr>
          <p:blipFill>
            <a:blip r:embed="rId3"/>
            <a:srcRect l="0" t="0" r="63500" b="30926"/>
            <a:stretch/>
          </p:blipFill>
          <p:spPr>
            <a:xfrm>
              <a:off x="5270400" y="1773360"/>
              <a:ext cx="1000080" cy="22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4"/>
            <a:srcRect l="0" t="0" r="69378" b="0"/>
            <a:stretch/>
          </p:blipFill>
          <p:spPr>
            <a:xfrm>
              <a:off x="1055520" y="1773360"/>
              <a:ext cx="917640" cy="32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" descr=""/>
          <p:cNvPicPr/>
          <p:nvPr/>
        </p:nvPicPr>
        <p:blipFill>
          <a:blip r:embed="rId5"/>
          <a:srcRect l="29402" t="21461" r="33841" b="25529"/>
          <a:stretch/>
        </p:blipFill>
        <p:spPr>
          <a:xfrm>
            <a:off x="0" y="508464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rcRect l="31225" t="15591" r="18806" b="21036"/>
          <a:stretch/>
        </p:blipFill>
        <p:spPr>
          <a:xfrm>
            <a:off x="6696000" y="0"/>
            <a:ext cx="2448000" cy="1700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9640" y="4653000"/>
            <a:ext cx="8317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粒种子睡在泥土里。他醒过来，觉得很暖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"/>
                            </p:stCondLst>
                            <p:childTnLst>
                              <p:par>
                                <p:cTn id="374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600"/>
                            </p:stCondLst>
                            <p:childTnLst>
                              <p:par>
                                <p:cTn id="380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400"/>
                            </p:stCondLst>
                            <p:childTnLst>
                              <p:par>
                                <p:cTn id="386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812000" cy="5084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50920" y="5118120"/>
            <a:ext cx="8604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有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口水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很舒服，又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189000"/>
            <a:ext cx="360360" cy="792000"/>
          </a:xfrm>
          <a:custGeom>
            <a:avLst/>
            <a:gdLst/>
            <a:ahLst/>
            <a:rect l="l" t="t" r="r" b="b"/>
            <a:pathLst>
              <a:path w="1096" h="2162">
                <a:moveTo>
                  <a:pt x="506" y="15"/>
                </a:moveTo>
                <a:cubicBezTo>
                  <a:pt x="325" y="0"/>
                  <a:pt x="0" y="1248"/>
                  <a:pt x="7" y="1603"/>
                </a:cubicBezTo>
                <a:cubicBezTo>
                  <a:pt x="14" y="1958"/>
                  <a:pt x="370" y="2132"/>
                  <a:pt x="551" y="2147"/>
                </a:cubicBezTo>
                <a:cubicBezTo>
                  <a:pt x="732" y="2162"/>
                  <a:pt x="1096" y="2056"/>
                  <a:pt x="1096" y="1693"/>
                </a:cubicBezTo>
                <a:cubicBezTo>
                  <a:pt x="1096" y="1330"/>
                  <a:pt x="687" y="30"/>
                  <a:pt x="506" y="15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1181 0.2993 E">
                                      <p:cBhvr>
                                        <p:cTn id="396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9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3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7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100"/>
                            </p:stCondLst>
                            <p:childTnLst>
                              <p:par>
                                <p:cTn id="419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900"/>
                            </p:stCondLst>
                            <p:childTnLst>
                              <p:par>
                                <p:cTn id="425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24207" t="12057" r="14627" b="206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30938" t="11806" r="13811" b="20360"/>
          <a:stretch/>
        </p:blipFill>
        <p:spPr>
          <a:xfrm>
            <a:off x="5580000" y="1557360"/>
            <a:ext cx="3564000" cy="3478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60280"/>
            <a:ext cx="3313080" cy="1511280"/>
          </a:xfrm>
          <a:prstGeom prst="wedgeEllipseCallout">
            <a:avLst>
              <a:gd name="adj1" fmla="val 29060"/>
              <a:gd name="adj2" fmla="val 88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是什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声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5445000"/>
            <a:ext cx="7777080" cy="1341720"/>
          </a:xfrm>
          <a:prstGeom prst="wedgeRectCallout">
            <a:avLst>
              <a:gd name="adj1" fmla="val 35120"/>
              <a:gd name="adj2" fmla="val -1085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是春风。春风在叫我们到外边去呢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0"/>
            <a:ext cx="5292720" cy="1773360"/>
          </a:xfrm>
          <a:prstGeom prst="wedgeEllipseCallout">
            <a:avLst>
              <a:gd name="adj1" fmla="val 6689"/>
              <a:gd name="adj2" fmla="val 768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什么样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这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445000"/>
            <a:ext cx="5327640" cy="863640"/>
          </a:xfrm>
          <a:prstGeom prst="wedgeRectCallout">
            <a:avLst>
              <a:gd name="adj1" fmla="val 46009"/>
              <a:gd name="adj2" fmla="val -133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，外面亮得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1280" y="260280"/>
            <a:ext cx="85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在唱歌，泉水在唱歌，小鸟在唱歌，小朋友也在唱歌。种子听见外面很热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连忙说：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啊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我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赶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出去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2060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连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4200" cy="754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7740720" y="6021360"/>
            <a:ext cx="1008000" cy="647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2324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36152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rcRect l="15042" t="8416" r="14083" b="21027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rcRect l="31456" t="24346" r="31543" b="31157"/>
          <a:stretch/>
        </p:blipFill>
        <p:spPr>
          <a:xfrm>
            <a:off x="2700360" y="4437000"/>
            <a:ext cx="1727280" cy="1773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rcRect l="15042" t="9694" r="14083" b="22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rcRect l="33729" t="23345" r="26324" b="36660"/>
          <a:stretch/>
        </p:blipFill>
        <p:spPr>
          <a:xfrm>
            <a:off x="2195640" y="3716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rcRect l="15978" t="10948" r="15042" b="22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rcRect l="15042" t="8416" r="13148" b="19748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rcRect l="15104" t="8831" r="13063" b="19364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9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"/>
                            </p:stCondLst>
                            <p:childTnLst>
                              <p:par>
                                <p:cTn id="506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1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4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7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3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8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300"/>
                            </p:stCondLst>
                            <p:childTnLst>
                              <p:par>
                                <p:cTn id="5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411280" y="5805360"/>
            <a:ext cx="39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3280" y="3141720"/>
            <a:ext cx="864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“</a:t>
            </a:r>
            <a:r>
              <a:rPr b="1" lang="zh-CN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啊，好一个光明的世界！”</a:t>
            </a:r>
            <a:endParaRPr b="1" lang="en-US" sz="4800" spc="1" strike="noStrike">
              <a:ln w="31680">
                <a:solidFill>
                  <a:srgbClr val="ffffff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908000" y="2349360"/>
            <a:ext cx="684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华文新魏"/>
              </a:rPr>
              <a:t>愿同学们快乐地成长！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口</a:t>
            </a: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91280" y="148428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k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99320" y="1557360"/>
            <a:ext cx="384120" cy="287280"/>
          </a:xfrm>
          <a:custGeom>
            <a:avLst/>
            <a:gdLst/>
            <a:ahLst/>
            <a:rect l="l" t="t" r="r" b="b"/>
            <a:pathLst>
              <a:path w="272" h="227">
                <a:moveTo>
                  <a:pt x="0" y="0"/>
                </a:moveTo>
                <a:cubicBezTo>
                  <a:pt x="45" y="113"/>
                  <a:pt x="91" y="227"/>
                  <a:pt x="136" y="227"/>
                </a:cubicBezTo>
                <a:cubicBezTo>
                  <a:pt x="181" y="227"/>
                  <a:pt x="249" y="38"/>
                  <a:pt x="272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喝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1628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8720" y="191628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暖</a:t>
            </a:r>
            <a:r>
              <a:rPr b="1" lang="zh-CN" sz="1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和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159228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4T08:19:24Z</dcterms:modified>
  <cp:revision>146</cp:revision>
  <dc:subject/>
  <dc:title>PowerPoint Presentation</dc:title>
</cp:coreProperties>
</file>