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wmf" ContentType="image/x-wmf"/>
  <Override PartName="/ppt/media/suction.wav" ContentType="audio/x-wav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chimes.wav" ContentType="audio/x-wav"/>
  <Override PartName="/ppt/media/image21.jpeg" ContentType="image/jpeg"/>
  <Override PartName="/ppt/media/image29.png" ContentType="image/png"/>
  <Override PartName="/ppt/media/camera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png" ContentType="image/png"/>
  <Override PartName="/ppt/media/image31.jpeg" ContentType="image/jpeg"/>
  <Override PartName="/ppt/media/image38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A4B-6196-4443-A708-18669953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8D1-3C48-445F-B367-3F4DD09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A2B-5DF0-4C19-BAB6-5F045915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AC9-559D-40F4-8CE9-D7062032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7134-0DAD-4E6E-A67D-B1F49742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231-94B3-4DE6-ABE3-3E2C7D2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F58-613F-4CBF-9411-7211884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B156-7155-4EEF-9FB3-B57E8C6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3C4-A57A-4AA3-A477-AEEB9915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75A9-C4CD-4580-A87B-0E5EC01E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41E-DF9E-4102-BDF3-90BD7E4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0B7-E6B6-4906-858A-D92EDFF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E595-43CB-477A-AAF1-1EE50F1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412D-EF79-4B00-B840-DCF4DA0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4C3-E1CE-4C6C-AA66-D16AA90C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EDC7-2A3E-4784-818C-00B99D54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690-9035-4401-84DF-97E79579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EEF8-15EC-4708-89D6-7278987F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F0A0-1ADA-443B-A87E-3F227EC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245A-C67C-4B7F-89A2-6306BBA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F920-FD85-44E2-BB17-A55B347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E81C-60B8-498A-932D-1529E6B6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514-0F6B-4710-A171-A775D453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E7F8-2A62-4073-9915-C1CE185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D9E4-8953-45F6-B89E-FCC02D0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C8D7-887F-4280-AA5D-8E9AFC76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DF6F-16BA-403A-BCF2-76D0DD89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5D8B-CE85-4E63-A792-942613DE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2A4C-DD95-4DCE-90C9-8E72615D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F033-3413-416D-8C75-073DF02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290-48FA-45C2-8512-1ED431BC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451-3760-4114-9FAD-6229FECF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757-8446-4809-B9DF-0E8AE708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B83-4620-406D-A327-E2D6AA02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8EE-FAB8-424F-9D1E-A7E3F35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DBA-7A41-46A4-A3B4-2D585B97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3333-BC07-44A9-9984-3F48F6C62C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FA4-AA73-498D-885F-34312A25524E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AE7-D226-40C6-A0C2-54D1479F4639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6.jpe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271;&#24072;&#22823;&#29256;&#19968;&#24180;&#32423;&#35821;&#25991;&#19979;&#20876;&#12298;&#19968;&#31890;&#31181;&#23376;%201&#12299;PPT&#35838;&#20214;/&#21917;.SWF" TargetMode="External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4.jpeg"/><Relationship Id="rId4" Type="http://schemas.openxmlformats.org/officeDocument/2006/relationships/image" Target="../media/image15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92360" y="256536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844640"/>
            <a:ext cx="9072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今天天气很暖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和妈妈一起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园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98100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3141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83160" y="3284640"/>
            <a:ext cx="142560" cy="14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198900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1908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908000" y="278136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95640" y="234936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3132000" y="2060640"/>
            <a:ext cx="1052640" cy="10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3059280" y="1844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2421000"/>
            <a:ext cx="27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4859280" y="148428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4788000" y="126828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92360" y="2276640"/>
            <a:ext cx="266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挺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6659640" y="2060640"/>
            <a:ext cx="105228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588000" y="1844640"/>
            <a:ext cx="111456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19640" y="2421000"/>
            <a:ext cx="28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516720" y="549360"/>
            <a:ext cx="23032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百花园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rcRect l="20348" t="8321" r="20311" b="10389"/>
          <a:stretch/>
        </p:blipFill>
        <p:spPr>
          <a:xfrm>
            <a:off x="7812000" y="3068640"/>
            <a:ext cx="105264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740720" y="2852640"/>
            <a:ext cx="1114200" cy="1511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80000" y="213372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喝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1835280" y="2565360"/>
            <a:ext cx="907920" cy="9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1835280" y="242100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2421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28814" t="9071" r="18609" b="18638"/>
          <a:stretch/>
        </p:blipFill>
        <p:spPr>
          <a:xfrm>
            <a:off x="6012000" y="1773360"/>
            <a:ext cx="907920" cy="93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rcRect l="41246" t="26655" r="41246" b="41662"/>
          <a:stretch/>
        </p:blipFill>
        <p:spPr>
          <a:xfrm>
            <a:off x="6012000" y="1700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234936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814" t="9071" r="18609" b="18638"/>
          <a:stretch/>
        </p:blipFill>
        <p:spPr>
          <a:xfrm>
            <a:off x="7164360" y="2565360"/>
            <a:ext cx="90792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41246" t="26655" r="41246" b="41662"/>
          <a:stretch/>
        </p:blipFill>
        <p:spPr>
          <a:xfrm>
            <a:off x="7164360" y="2492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635280" y="2349360"/>
            <a:ext cx="29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28814" t="9071" r="18609" b="18638"/>
          <a:stretch/>
        </p:blipFill>
        <p:spPr>
          <a:xfrm>
            <a:off x="3132000" y="1773360"/>
            <a:ext cx="908280" cy="93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41246" t="26655" r="41246" b="41662"/>
          <a:stretch/>
        </p:blipFill>
        <p:spPr>
          <a:xfrm>
            <a:off x="3132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2360" y="227664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28814" t="9071" r="18609" b="18638"/>
          <a:stretch/>
        </p:blipFill>
        <p:spPr>
          <a:xfrm>
            <a:off x="4643280" y="1484280"/>
            <a:ext cx="908280" cy="936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rcRect l="41246" t="26655" r="41246" b="41662"/>
          <a:stretch/>
        </p:blipFill>
        <p:spPr>
          <a:xfrm>
            <a:off x="4572000" y="134136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08360" y="2349360"/>
            <a:ext cx="2879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6560" y="46544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水果园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1979640" y="1700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rcRect l="41246" t="26655" r="41246" b="41662"/>
          <a:stretch/>
        </p:blipFill>
        <p:spPr>
          <a:xfrm>
            <a:off x="2124000" y="162864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08360" y="2205000"/>
            <a:ext cx="30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喊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rcRect l="8636" t="2717" r="2664" b="3490"/>
          <a:stretch/>
        </p:blipFill>
        <p:spPr>
          <a:xfrm>
            <a:off x="6732720" y="2852640"/>
            <a:ext cx="136836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rcRect l="41246" t="26655" r="41246" b="41662"/>
          <a:stretch/>
        </p:blipFill>
        <p:spPr>
          <a:xfrm>
            <a:off x="7020000" y="2924280"/>
            <a:ext cx="865080" cy="1224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8360" y="2205000"/>
            <a:ext cx="302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8636" t="2717" r="2664" b="3490"/>
          <a:stretch/>
        </p:blipFill>
        <p:spPr>
          <a:xfrm>
            <a:off x="1763640" y="292428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rcRect l="8636" t="2717" r="2664" b="3490"/>
          <a:stretch/>
        </p:blipFill>
        <p:spPr>
          <a:xfrm>
            <a:off x="183528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rcRect l="8636" t="2717" r="2664" b="3490"/>
          <a:stretch/>
        </p:blipFill>
        <p:spPr>
          <a:xfrm>
            <a:off x="6732720" y="4365720"/>
            <a:ext cx="1368360" cy="116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4593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rcRect l="41246" t="26655" r="41246" b="41662"/>
          <a:stretch/>
        </p:blipFill>
        <p:spPr>
          <a:xfrm>
            <a:off x="2124000" y="4437000"/>
            <a:ext cx="865440" cy="122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08360" y="2205000"/>
            <a:ext cx="24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03640" y="260280"/>
            <a:ext cx="25923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蔬菜园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84360" y="1847880"/>
            <a:ext cx="3384000" cy="3381120"/>
            <a:chOff x="684360" y="1847880"/>
            <a:chExt cx="3384000" cy="3381120"/>
          </a:xfrm>
        </p:grpSpPr>
        <p:sp>
          <p:nvSpPr>
            <p:cNvPr id="273" name=""/>
            <p:cNvSpPr/>
            <p:nvPr/>
          </p:nvSpPr>
          <p:spPr>
            <a:xfrm>
              <a:off x="684360" y="1847880"/>
              <a:ext cx="338112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4360" y="3536640"/>
              <a:ext cx="33840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72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861080" y="1847880"/>
            <a:ext cx="3455640" cy="3381120"/>
            <a:chOff x="4861080" y="1847880"/>
            <a:chExt cx="3455640" cy="3381120"/>
          </a:xfrm>
        </p:grpSpPr>
        <p:sp>
          <p:nvSpPr>
            <p:cNvPr id="277" name=""/>
            <p:cNvSpPr/>
            <p:nvPr/>
          </p:nvSpPr>
          <p:spPr>
            <a:xfrm>
              <a:off x="4861080" y="184788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1080" y="353664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89080" y="184788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116000" y="1820880"/>
            <a:ext cx="280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渴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5292720" y="1844640"/>
            <a:ext cx="237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喝</a:t>
            </a:r>
            <a:endParaRPr b="0" lang="en-US" sz="19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55520" y="1773360"/>
            <a:ext cx="5214960" cy="3203280"/>
            <a:chOff x="1055520" y="1773360"/>
            <a:chExt cx="5214960" cy="320328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rcRect l="0" t="0" r="63500" b="30926"/>
            <a:stretch/>
          </p:blipFill>
          <p:spPr>
            <a:xfrm>
              <a:off x="5270400" y="1773360"/>
              <a:ext cx="100008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rcRect l="0" t="0" r="69378" b="0"/>
            <a:stretch/>
          </p:blipFill>
          <p:spPr>
            <a:xfrm>
              <a:off x="1055520" y="1773360"/>
              <a:ext cx="917640" cy="32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" descr=""/>
          <p:cNvPicPr/>
          <p:nvPr/>
        </p:nvPicPr>
        <p:blipFill>
          <a:blip r:embed="rId5"/>
          <a:srcRect l="29402" t="21461" r="33841" b="25529"/>
          <a:stretch/>
        </p:blipFill>
        <p:spPr>
          <a:xfrm>
            <a:off x="0" y="5084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rcRect l="31225" t="15591" r="18806" b="21036"/>
          <a:stretch/>
        </p:blipFill>
        <p:spPr>
          <a:xfrm>
            <a:off x="6696000" y="0"/>
            <a:ext cx="2448000" cy="1700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700360" y="2852640"/>
            <a:ext cx="3384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一粒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3280" y="3284640"/>
            <a:ext cx="338472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种子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9640" y="4653000"/>
            <a:ext cx="831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400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5084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32468" t="24429" r="33779" b="30432"/>
          <a:stretch/>
        </p:blipFill>
        <p:spPr>
          <a:xfrm>
            <a:off x="3492360" y="1700280"/>
            <a:ext cx="2159280" cy="2087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0920" y="5118120"/>
            <a:ext cx="860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口水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很舒服，又把身子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挺一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189000"/>
            <a:ext cx="360360" cy="792000"/>
          </a:xfrm>
          <a:custGeom>
            <a:avLst/>
            <a:gdLst/>
            <a:ahLst/>
            <a:rect l="l" t="t" r="r" b="b"/>
            <a:pathLst>
              <a:path w="1096" h="2162">
                <a:moveTo>
                  <a:pt x="506" y="15"/>
                </a:moveTo>
                <a:cubicBezTo>
                  <a:pt x="325" y="0"/>
                  <a:pt x="0" y="1248"/>
                  <a:pt x="7" y="1603"/>
                </a:cubicBezTo>
                <a:cubicBezTo>
                  <a:pt x="14" y="1958"/>
                  <a:pt x="370" y="2132"/>
                  <a:pt x="551" y="2147"/>
                </a:cubicBezTo>
                <a:cubicBezTo>
                  <a:pt x="732" y="2162"/>
                  <a:pt x="1096" y="2056"/>
                  <a:pt x="1096" y="1693"/>
                </a:cubicBezTo>
                <a:cubicBezTo>
                  <a:pt x="1096" y="1330"/>
                  <a:pt x="687" y="30"/>
                  <a:pt x="506" y="15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1181 0.2993 E">
                                      <p:cBhvr>
                                        <p:cTn id="39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3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1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24207" t="12057" r="14627" b="20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30938" t="11806" r="13811" b="20360"/>
          <a:stretch/>
        </p:blipFill>
        <p:spPr>
          <a:xfrm>
            <a:off x="5580000" y="1557360"/>
            <a:ext cx="3564000" cy="347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60280"/>
            <a:ext cx="3313080" cy="1511280"/>
          </a:xfrm>
          <a:prstGeom prst="wedgeEllipseCallout">
            <a:avLst>
              <a:gd name="adj1" fmla="val 29060"/>
              <a:gd name="adj2" fmla="val 88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是什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445000"/>
            <a:ext cx="7777080" cy="1341720"/>
          </a:xfrm>
          <a:prstGeom prst="wedgeRectCallout">
            <a:avLst>
              <a:gd name="adj1" fmla="val 35120"/>
              <a:gd name="adj2" fmla="val -1085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春风。春风在叫我们到外边去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0"/>
            <a:ext cx="5292720" cy="1773360"/>
          </a:xfrm>
          <a:prstGeom prst="wedgeEllipseCallout">
            <a:avLst>
              <a:gd name="adj1" fmla="val 6689"/>
              <a:gd name="adj2" fmla="val 768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面什么样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5445000"/>
            <a:ext cx="5327640" cy="863640"/>
          </a:xfrm>
          <a:prstGeom prst="wedgeRectCallout">
            <a:avLst>
              <a:gd name="adj1" fmla="val 46009"/>
              <a:gd name="adj2" fmla="val -133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，外面亮得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260280"/>
            <a:ext cx="85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在唱歌，泉水在唱歌，小鸟在唱歌，小朋友也在唱歌。种子听见外面很热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连忙说：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赶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出去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2060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连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740720" y="602136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324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36152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rcRect l="15042" t="8416" r="14083" b="21027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rcRect l="31456" t="24346" r="31543" b="31157"/>
          <a:stretch/>
        </p:blipFill>
        <p:spPr>
          <a:xfrm>
            <a:off x="2700360" y="443700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rcRect l="15042" t="9694" r="14083" b="22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rcRect l="33729" t="23345" r="26324" b="36660"/>
          <a:stretch/>
        </p:blipFill>
        <p:spPr>
          <a:xfrm>
            <a:off x="2195640" y="371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rcRect l="15978" t="10948" r="15042" b="22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rcRect l="15042" t="8416" r="13148" b="19748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rcRect l="15104" t="8831" r="13063" b="19364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1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7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3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8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3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411280" y="5805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3141720"/>
            <a:ext cx="864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“</a:t>
            </a:r>
            <a:r>
              <a:rPr b="1" lang="zh-CN" sz="4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啊，好一个光明的世界！”</a:t>
            </a:r>
            <a:endParaRPr b="1" lang="en-US" sz="4800" spc="1" strike="noStrike">
              <a:ln w="31680">
                <a:solidFill>
                  <a:srgbClr val="ffffff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908000" y="2349360"/>
            <a:ext cx="684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华文新魏"/>
              </a:rPr>
              <a:t>愿同学们快乐地成长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</a:t>
            </a: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91280" y="1484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k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99320" y="1557360"/>
            <a:ext cx="384120" cy="287280"/>
          </a:xfrm>
          <a:custGeom>
            <a:avLst/>
            <a:gdLst/>
            <a:ahLst/>
            <a:rect l="l" t="t" r="r" b="b"/>
            <a:pathLst>
              <a:path w="272" h="227">
                <a:moveTo>
                  <a:pt x="0" y="0"/>
                </a:moveTo>
                <a:cubicBezTo>
                  <a:pt x="45" y="113"/>
                  <a:pt x="91" y="227"/>
                  <a:pt x="136" y="227"/>
                </a:cubicBezTo>
                <a:cubicBezTo>
                  <a:pt x="181" y="227"/>
                  <a:pt x="249" y="38"/>
                  <a:pt x="27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喝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628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Square721 BT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8720" y="191628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220500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暖</a:t>
            </a:r>
            <a:r>
              <a:rPr b="1" lang="zh-CN" sz="15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和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59228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Square721 BT"/>
              </a:rPr>
              <a:t>hu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4T08:19:24Z</dcterms:modified>
  <cp:revision>146</cp:revision>
  <dc:subject/>
  <dc:title>PowerPoint Presentation</dc:title>
</cp:coreProperties>
</file>