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6.png" ContentType="image/png"/>
  <Override PartName="/ppt/media/image24.wmf" ContentType="image/x-wmf"/>
  <Override PartName="/ppt/media/suction.wav" ContentType="audio/x-wav"/>
  <Override PartName="/ppt/media/image19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16.jpeg" ContentType="image/jpeg"/>
  <Override PartName="/ppt/media/chimes.wav" ContentType="audio/x-wav"/>
  <Override PartName="/ppt/media/image21.jpeg" ContentType="image/jpeg"/>
  <Override PartName="/ppt/media/image29.png" ContentType="image/png"/>
  <Override PartName="/ppt/media/camera.wav" ContentType="audio/x-wav"/>
  <Override PartName="/ppt/media/image7.jpeg" ContentType="image/jpeg"/>
  <Override PartName="/ppt/media/image28.jpeg" ContentType="image/jpeg"/>
  <Override PartName="/ppt/media/image34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5.png" ContentType="image/png"/>
  <Override PartName="/ppt/media/image8.jpeg" ContentType="image/jpeg"/>
  <Override PartName="/ppt/media/image30.jpeg" ContentType="image/jpeg"/>
  <Override PartName="/ppt/media/image32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12.png" ContentType="image/png"/>
  <Override PartName="/ppt/media/image31.jpeg" ContentType="image/jpeg"/>
  <Override PartName="/ppt/media/image38.gif" ContentType="image/gif"/>
  <Override PartName="/ppt/media/image13.jpeg" ContentType="image/jpeg"/>
  <Override PartName="/ppt/media/image23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3.jpeg" ContentType="image/jpeg"/>
  <Override PartName="/ppt/media/image37.jpeg" ContentType="image/jpeg"/>
  <Override PartName="/ppt/media/image20.png" ContentType="image/png"/>
  <Override PartName="/ppt/media/image36.jpeg" ContentType="image/jpeg"/>
  <Override PartName="/ppt/media/image2.jpeg" ContentType="image/jpeg"/>
  <Override PartName="/ppt/media/image25.wmf" ContentType="image/x-wmf"/>
  <Override PartName="/ppt/media/image10.jpeg" ContentType="image/jpeg"/>
  <Override PartName="/ppt/media/image1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BDF5-39C0-46F8-A20E-F25A32614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5E9A-A28E-4CB9-947B-8EE01C9FC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71E8-9A9A-4239-A914-8209037A1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28E7-6022-4C00-984E-A24605326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5D1AB-9D83-4810-AE61-A066E46C8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F5E9B-ACC9-4ECC-8455-F04D0F12C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614AD-E92C-4894-9FBA-C4B82ED47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DFF9A-E6F5-488B-AE31-B8305D5B7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B0CAE-CE4E-479B-8040-F5EC1D424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966C8-747C-4418-AD8F-E6E4C3A3A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DA206-CA0F-47A1-A0E1-567E724D2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3C80-DA64-4F18-89EA-50ED2324D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C7D58-1203-43F2-A9B3-E0605C998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49992-26AB-4469-A1BA-23E674FC4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A2A9D-C3B4-4FE7-ABF8-19527880F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FDDB9-C897-44C3-B3A3-A3B7B6DB9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0924D-0956-4101-8985-0D00A8382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7FFA1-F516-40AF-95E1-29CB4C172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CBB77-476F-47A6-B285-4E9DD73CB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AADC0-C059-4AE4-856D-E23ACE794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EAB3C-6FAA-4774-9C9B-976C4EEAC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80F2C-C4FB-4471-83A5-B1E6AF293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8EE4-031C-40D7-9310-971586761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E007B-2EE2-44EF-8DF4-CF353C2D9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4E5D0-3435-47C8-B74D-F69EFE09E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DEC72-05CA-4FA7-A642-99C6646BA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94242-3918-4391-9F03-9F36C2FB2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D6EC3-E958-4C24-AC06-BCCA41C00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BD581-A33F-431F-A5D7-3196A7528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8CFF3-0CFD-4E8E-A706-A2DBF2FFB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B1F8-5980-4E2B-83A1-BF34EC2D3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2232-104F-4F2E-80C6-2F7548AE3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F6AE-BD7C-4D1F-A1C0-7450FA30E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D540-0241-4D4E-B244-33A943D17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1288-F294-4A23-8A7B-1D4D648D9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AFC8-9CB8-4EAE-9359-6159B20C1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DF4A7-EC4C-4AF6-953E-EB8C60AEC1B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58EC1-9EBD-4AA8-B92E-E63A184B9F6F}" type="slidenum">
              <a:rPr b="0" lang="zh-CN" sz="14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BF685-659E-4667-8C05-7229D78D8FD5}" type="slidenum">
              <a:rPr b="0" lang="zh-CN" sz="14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image" Target="../media/image13.jpeg"/><Relationship Id="rId7" Type="http://schemas.openxmlformats.org/officeDocument/2006/relationships/image" Target="../media/image13.jpeg"/><Relationship Id="rId8" Type="http://schemas.openxmlformats.org/officeDocument/2006/relationships/image" Target="../media/image13.jpeg"/><Relationship Id="rId9" Type="http://schemas.openxmlformats.org/officeDocument/2006/relationships/image" Target="../media/image15.png"/><Relationship Id="rId10" Type="http://schemas.openxmlformats.org/officeDocument/2006/relationships/image" Target="../media/image5.png"/><Relationship Id="rId11" Type="http://schemas.openxmlformats.org/officeDocument/2006/relationships/audio" Target="../media/camera.wav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image" Target="../media/image13.jpeg"/><Relationship Id="rId8" Type="http://schemas.openxmlformats.org/officeDocument/2006/relationships/image" Target="../media/image16.jpeg"/><Relationship Id="rId9" Type="http://schemas.openxmlformats.org/officeDocument/2006/relationships/image" Target="../media/image5.png"/><Relationship Id="rId10" Type="http://schemas.openxmlformats.org/officeDocument/2006/relationships/audio" Target="../media/camera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image" Target="../media/image15.png"/><Relationship Id="rId8" Type="http://schemas.openxmlformats.org/officeDocument/2006/relationships/image" Target="../media/image5.png"/><Relationship Id="rId9" Type="http://schemas.openxmlformats.org/officeDocument/2006/relationships/audio" Target="../media/camera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15.png"/><Relationship Id="rId7" Type="http://schemas.openxmlformats.org/officeDocument/2006/relationships/image" Target="../media/image5.png"/><Relationship Id="rId8" Type="http://schemas.openxmlformats.org/officeDocument/2006/relationships/audio" Target="../media/camera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5.png"/><Relationship Id="rId6" Type="http://schemas.openxmlformats.org/officeDocument/2006/relationships/image" Target="../media/image5.png"/><Relationship Id="rId7" Type="http://schemas.openxmlformats.org/officeDocument/2006/relationships/audio" Target="../media/camera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8.jpeg"/><Relationship Id="rId6" Type="http://schemas.openxmlformats.org/officeDocument/2006/relationships/image" Target="../media/image18.jpeg"/><Relationship Id="rId7" Type="http://schemas.openxmlformats.org/officeDocument/2006/relationships/image" Target="../media/image18.jpeg"/><Relationship Id="rId8" Type="http://schemas.openxmlformats.org/officeDocument/2006/relationships/image" Target="../media/image20.png"/><Relationship Id="rId9" Type="http://schemas.openxmlformats.org/officeDocument/2006/relationships/image" Target="../media/image15.png"/><Relationship Id="rId10" Type="http://schemas.openxmlformats.org/officeDocument/2006/relationships/image" Target="../media/image5.png"/><Relationship Id="rId11" Type="http://schemas.openxmlformats.org/officeDocument/2006/relationships/audio" Target="../media/camera.wav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image" Target="../media/image18.jpeg"/><Relationship Id="rId6" Type="http://schemas.openxmlformats.org/officeDocument/2006/relationships/image" Target="../media/image16.jpe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5.png"/><Relationship Id="rId10" Type="http://schemas.openxmlformats.org/officeDocument/2006/relationships/audio" Target="../media/camera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image" Target="../media/image15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5.png"/><Relationship Id="rId9" Type="http://schemas.openxmlformats.org/officeDocument/2006/relationships/audio" Target="../media/camera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image" Target="../media/image15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5.png"/><Relationship Id="rId8" Type="http://schemas.openxmlformats.org/officeDocument/2006/relationships/audio" Target="../media/camera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6.jpe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5.png"/><Relationship Id="rId7" Type="http://schemas.openxmlformats.org/officeDocument/2006/relationships/audio" Target="../media/camera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2.jpeg"/><Relationship Id="rId4" Type="http://schemas.openxmlformats.org/officeDocument/2006/relationships/image" Target="../media/image22.jpeg"/><Relationship Id="rId5" Type="http://schemas.openxmlformats.org/officeDocument/2006/relationships/image" Target="../media/image22.jpe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15.png"/><Relationship Id="rId10" Type="http://schemas.openxmlformats.org/officeDocument/2006/relationships/image" Target="../media/image5.png"/><Relationship Id="rId11" Type="http://schemas.openxmlformats.org/officeDocument/2006/relationships/audio" Target="../media/camera.wav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2.jpeg"/><Relationship Id="rId4" Type="http://schemas.openxmlformats.org/officeDocument/2006/relationships/image" Target="../media/image22.jpeg"/><Relationship Id="rId5" Type="http://schemas.openxmlformats.org/officeDocument/2006/relationships/image" Target="../media/image22.jpe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16.jpeg"/><Relationship Id="rId9" Type="http://schemas.openxmlformats.org/officeDocument/2006/relationships/image" Target="../media/image5.png"/><Relationship Id="rId10" Type="http://schemas.openxmlformats.org/officeDocument/2006/relationships/audio" Target="../media/camera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2.jpeg"/><Relationship Id="rId4" Type="http://schemas.openxmlformats.org/officeDocument/2006/relationships/image" Target="../media/image22.jpe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16.jpeg"/><Relationship Id="rId8" Type="http://schemas.openxmlformats.org/officeDocument/2006/relationships/image" Target="../media/image5.png"/><Relationship Id="rId9" Type="http://schemas.openxmlformats.org/officeDocument/2006/relationships/audio" Target="../media/camera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21271;&#24072;&#22823;&#29256;&#19968;&#24180;&#32423;&#35821;&#25991;&#19979;&#20876;&#12298;&#19968;&#31890;&#31181;&#23376;%201&#12299;PPT&#35838;&#20214;/&#21917;.SWF" TargetMode="External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6.png"/><Relationship Id="rId3" Type="http://schemas.openxmlformats.org/officeDocument/2006/relationships/audio" Target="../media/chimes.wav"/><Relationship Id="rId4" Type="http://schemas.openxmlformats.org/officeDocument/2006/relationships/audio" Target="../media/suction.wav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6.png"/><Relationship Id="rId3" Type="http://schemas.openxmlformats.org/officeDocument/2006/relationships/image" Target="../media/image34.jpeg"/><Relationship Id="rId4" Type="http://schemas.openxmlformats.org/officeDocument/2006/relationships/image" Target="../media/image15.pn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image" Target="../media/image37.jpe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image" Target="../media/image3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2700360" y="2852640"/>
            <a:ext cx="3384360" cy="1584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一粒</a:t>
            </a:r>
            <a:endParaRPr b="1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43280" y="3284640"/>
            <a:ext cx="3384720" cy="1584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种子</a:t>
            </a:r>
            <a:endParaRPr b="1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25" name=""/>
          <p:cNvSpPr/>
          <p:nvPr/>
        </p:nvSpPr>
        <p:spPr>
          <a:xfrm>
            <a:off x="611280" y="333360"/>
            <a:ext cx="53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北师大版一年级语文下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7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692360" y="2565360"/>
            <a:ext cx="532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116000" y="1844640"/>
            <a:ext cx="9072720" cy="35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今天天气很暖和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我和妈妈一起去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公园玩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981000"/>
            <a:ext cx="86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04000" y="134136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Square721 BT"/>
              </a:rPr>
              <a:t>hu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203640" y="3141720"/>
            <a:ext cx="10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3683160" y="3284640"/>
            <a:ext cx="142560" cy="1443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 txBox="1"/>
          <p:nvPr/>
        </p:nvSpPr>
        <p:spPr>
          <a:xfrm>
            <a:off x="6516720" y="549360"/>
            <a:ext cx="2303280" cy="1008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百花园</a:t>
            </a:r>
            <a:endParaRPr b="1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4"/>
          <a:srcRect l="20348" t="8321" r="20311" b="10389"/>
          <a:stretch/>
        </p:blipFill>
        <p:spPr>
          <a:xfrm>
            <a:off x="3132000" y="1989000"/>
            <a:ext cx="1052640" cy="10796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5"/>
          <a:srcRect l="20348" t="8321" r="20311" b="10389"/>
          <a:stretch/>
        </p:blipFill>
        <p:spPr>
          <a:xfrm>
            <a:off x="1908000" y="3068640"/>
            <a:ext cx="1052640" cy="10796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6"/>
          <a:srcRect l="20348" t="8321" r="20311" b="10389"/>
          <a:stretch/>
        </p:blipFill>
        <p:spPr>
          <a:xfrm>
            <a:off x="4859280" y="1484280"/>
            <a:ext cx="1052640" cy="10796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7"/>
          <a:srcRect l="20348" t="8321" r="20311" b="10389"/>
          <a:stretch/>
        </p:blipFill>
        <p:spPr>
          <a:xfrm>
            <a:off x="7812000" y="3068640"/>
            <a:ext cx="1052640" cy="10796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8"/>
          <a:srcRect l="20348" t="8321" r="20311" b="10389"/>
          <a:stretch/>
        </p:blipFill>
        <p:spPr>
          <a:xfrm>
            <a:off x="6659640" y="2060640"/>
            <a:ext cx="1052280" cy="10792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9"/>
          <a:srcRect l="41246" t="26655" r="41246" b="41662"/>
          <a:stretch/>
        </p:blipFill>
        <p:spPr>
          <a:xfrm>
            <a:off x="1908000" y="2781360"/>
            <a:ext cx="1114560" cy="15112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995640" y="2349360"/>
            <a:ext cx="2664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0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450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 txBox="1"/>
          <p:nvPr/>
        </p:nvSpPr>
        <p:spPr>
          <a:xfrm>
            <a:off x="6516720" y="549360"/>
            <a:ext cx="2303280" cy="1008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百花园</a:t>
            </a:r>
            <a:endParaRPr b="1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4"/>
          <a:srcRect l="20348" t="8321" r="20311" b="10389"/>
          <a:stretch/>
        </p:blipFill>
        <p:spPr>
          <a:xfrm>
            <a:off x="3132000" y="2060640"/>
            <a:ext cx="1052640" cy="10792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5"/>
          <a:srcRect l="20348" t="8321" r="20311" b="10389"/>
          <a:stretch/>
        </p:blipFill>
        <p:spPr>
          <a:xfrm>
            <a:off x="4859280" y="1484280"/>
            <a:ext cx="1052640" cy="10796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6"/>
          <a:srcRect l="20348" t="8321" r="20311" b="10389"/>
          <a:stretch/>
        </p:blipFill>
        <p:spPr>
          <a:xfrm>
            <a:off x="7812000" y="3068640"/>
            <a:ext cx="1052640" cy="10796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7"/>
          <a:srcRect l="20348" t="8321" r="20311" b="10389"/>
          <a:stretch/>
        </p:blipFill>
        <p:spPr>
          <a:xfrm>
            <a:off x="6659640" y="2060640"/>
            <a:ext cx="1052280" cy="10792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8"/>
          <a:srcRect l="41246" t="26655" r="41246" b="41662"/>
          <a:stretch/>
        </p:blipFill>
        <p:spPr>
          <a:xfrm>
            <a:off x="3059280" y="1844640"/>
            <a:ext cx="1114200" cy="15112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3635280" y="2421000"/>
            <a:ext cx="27370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把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9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450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 txBox="1"/>
          <p:nvPr/>
        </p:nvSpPr>
        <p:spPr>
          <a:xfrm>
            <a:off x="6516720" y="549360"/>
            <a:ext cx="2303280" cy="1008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百花园</a:t>
            </a:r>
            <a:endParaRPr b="1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4"/>
          <a:srcRect l="20348" t="8321" r="20311" b="10389"/>
          <a:stretch/>
        </p:blipFill>
        <p:spPr>
          <a:xfrm>
            <a:off x="4859280" y="1484280"/>
            <a:ext cx="1052640" cy="10796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5"/>
          <a:srcRect l="20348" t="8321" r="20311" b="10389"/>
          <a:stretch/>
        </p:blipFill>
        <p:spPr>
          <a:xfrm>
            <a:off x="7812000" y="3068640"/>
            <a:ext cx="1052640" cy="10796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6"/>
          <a:srcRect l="20348" t="8321" r="20311" b="10389"/>
          <a:stretch/>
        </p:blipFill>
        <p:spPr>
          <a:xfrm>
            <a:off x="6659640" y="2060640"/>
            <a:ext cx="1052280" cy="10792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7"/>
          <a:srcRect l="41246" t="26655" r="41246" b="41662"/>
          <a:stretch/>
        </p:blipFill>
        <p:spPr>
          <a:xfrm>
            <a:off x="4788000" y="1268280"/>
            <a:ext cx="1114200" cy="15112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492360" y="2276640"/>
            <a:ext cx="2664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挺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8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450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 txBox="1"/>
          <p:nvPr/>
        </p:nvSpPr>
        <p:spPr>
          <a:xfrm>
            <a:off x="6516720" y="549360"/>
            <a:ext cx="2303280" cy="1008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百花园</a:t>
            </a:r>
            <a:endParaRPr b="1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4"/>
          <a:srcRect l="20348" t="8321" r="20311" b="10389"/>
          <a:stretch/>
        </p:blipFill>
        <p:spPr>
          <a:xfrm>
            <a:off x="6659640" y="2060640"/>
            <a:ext cx="1052280" cy="10792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5"/>
          <a:srcRect l="20348" t="8321" r="20311" b="10389"/>
          <a:stretch/>
        </p:blipFill>
        <p:spPr>
          <a:xfrm>
            <a:off x="7812000" y="3068640"/>
            <a:ext cx="1052640" cy="10796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6"/>
          <a:srcRect l="41246" t="26655" r="41246" b="41662"/>
          <a:stretch/>
        </p:blipFill>
        <p:spPr>
          <a:xfrm>
            <a:off x="6588000" y="1844640"/>
            <a:ext cx="1114560" cy="15112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3419640" y="2421000"/>
            <a:ext cx="28810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渴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7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450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 txBox="1"/>
          <p:nvPr/>
        </p:nvSpPr>
        <p:spPr>
          <a:xfrm>
            <a:off x="6516720" y="549360"/>
            <a:ext cx="2303280" cy="1008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百花园</a:t>
            </a:r>
            <a:endParaRPr b="1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4"/>
          <a:srcRect l="20348" t="8321" r="20311" b="10389"/>
          <a:stretch/>
        </p:blipFill>
        <p:spPr>
          <a:xfrm>
            <a:off x="7812000" y="3068640"/>
            <a:ext cx="1052640" cy="10796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5"/>
          <a:srcRect l="41246" t="26655" r="41246" b="41662"/>
          <a:stretch/>
        </p:blipFill>
        <p:spPr>
          <a:xfrm>
            <a:off x="7740720" y="2852640"/>
            <a:ext cx="1114200" cy="15112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3780000" y="2133720"/>
            <a:ext cx="27367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喝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450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-458640"/>
            <a:ext cx="9144000" cy="73166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rcRect l="28814" t="9071" r="18609" b="18638"/>
          <a:stretch/>
        </p:blipFill>
        <p:spPr>
          <a:xfrm>
            <a:off x="1835280" y="2565360"/>
            <a:ext cx="907920" cy="9367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 txBox="1"/>
          <p:nvPr/>
        </p:nvSpPr>
        <p:spPr>
          <a:xfrm>
            <a:off x="466560" y="4654440"/>
            <a:ext cx="273708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水果园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5"/>
          <a:srcRect l="28814" t="9071" r="18609" b="18638"/>
          <a:stretch/>
        </p:blipFill>
        <p:spPr>
          <a:xfrm>
            <a:off x="4643280" y="1484280"/>
            <a:ext cx="908280" cy="9367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6"/>
          <a:srcRect l="28814" t="9071" r="18609" b="18638"/>
          <a:stretch/>
        </p:blipFill>
        <p:spPr>
          <a:xfrm>
            <a:off x="3132000" y="1773360"/>
            <a:ext cx="908280" cy="9363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7"/>
          <a:srcRect l="28814" t="9071" r="18609" b="18638"/>
          <a:stretch/>
        </p:blipFill>
        <p:spPr>
          <a:xfrm>
            <a:off x="7164360" y="2565360"/>
            <a:ext cx="907920" cy="9367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8"/>
          <a:srcRect l="28814" t="9071" r="18609" b="18638"/>
          <a:stretch/>
        </p:blipFill>
        <p:spPr>
          <a:xfrm>
            <a:off x="6012000" y="1773360"/>
            <a:ext cx="907920" cy="93636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9"/>
          <a:srcRect l="41246" t="26655" r="41246" b="41662"/>
          <a:stretch/>
        </p:blipFill>
        <p:spPr>
          <a:xfrm>
            <a:off x="1835280" y="2421000"/>
            <a:ext cx="865080" cy="12240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3635280" y="2421000"/>
            <a:ext cx="2448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钻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0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450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-458640"/>
            <a:ext cx="9144000" cy="731664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rcRect l="28814" t="9071" r="18609" b="18638"/>
          <a:stretch/>
        </p:blipFill>
        <p:spPr>
          <a:xfrm>
            <a:off x="4643280" y="1484280"/>
            <a:ext cx="908280" cy="93672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rcRect l="28814" t="9071" r="18609" b="18638"/>
          <a:stretch/>
        </p:blipFill>
        <p:spPr>
          <a:xfrm>
            <a:off x="3132000" y="1773360"/>
            <a:ext cx="908280" cy="9363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4"/>
          <a:srcRect l="28814" t="9071" r="18609" b="18638"/>
          <a:stretch/>
        </p:blipFill>
        <p:spPr>
          <a:xfrm>
            <a:off x="7164360" y="2565360"/>
            <a:ext cx="907920" cy="9367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5"/>
          <a:srcRect l="28814" t="9071" r="18609" b="18638"/>
          <a:stretch/>
        </p:blipFill>
        <p:spPr>
          <a:xfrm>
            <a:off x="6012000" y="1773360"/>
            <a:ext cx="907920" cy="9363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6"/>
          <a:srcRect l="41246" t="26655" r="41246" b="41662"/>
          <a:stretch/>
        </p:blipFill>
        <p:spPr>
          <a:xfrm>
            <a:off x="6012000" y="1700280"/>
            <a:ext cx="865080" cy="12240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3780000" y="2349360"/>
            <a:ext cx="2447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松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66560" y="4654440"/>
            <a:ext cx="273708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水果园</a:t>
            </a:r>
            <a:endParaRPr b="1" lang="en-US" sz="24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9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450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-458640"/>
            <a:ext cx="9144000" cy="731664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rcRect l="28814" t="9071" r="18609" b="18638"/>
          <a:stretch/>
        </p:blipFill>
        <p:spPr>
          <a:xfrm>
            <a:off x="4643280" y="1484280"/>
            <a:ext cx="908280" cy="9367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rcRect l="28814" t="9071" r="18609" b="18638"/>
          <a:stretch/>
        </p:blipFill>
        <p:spPr>
          <a:xfrm>
            <a:off x="3132000" y="1773360"/>
            <a:ext cx="908280" cy="9363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rcRect l="28814" t="9071" r="18609" b="18638"/>
          <a:stretch/>
        </p:blipFill>
        <p:spPr>
          <a:xfrm>
            <a:off x="7164360" y="2565360"/>
            <a:ext cx="907920" cy="93672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rcRect l="41246" t="26655" r="41246" b="41662"/>
          <a:stretch/>
        </p:blipFill>
        <p:spPr>
          <a:xfrm>
            <a:off x="7164360" y="2492280"/>
            <a:ext cx="865080" cy="12240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3635280" y="2349360"/>
            <a:ext cx="29527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黑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66560" y="4654440"/>
            <a:ext cx="273708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水果园</a:t>
            </a:r>
            <a:endParaRPr b="1" lang="en-US" sz="24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8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450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0" y="-458640"/>
            <a:ext cx="9144000" cy="731664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rcRect l="28814" t="9071" r="18609" b="18638"/>
          <a:stretch/>
        </p:blipFill>
        <p:spPr>
          <a:xfrm>
            <a:off x="4643280" y="1484280"/>
            <a:ext cx="908280" cy="9367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3"/>
          <a:srcRect l="28814" t="9071" r="18609" b="18638"/>
          <a:stretch/>
        </p:blipFill>
        <p:spPr>
          <a:xfrm>
            <a:off x="3132000" y="1773360"/>
            <a:ext cx="908280" cy="9363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4"/>
          <a:srcRect l="41246" t="26655" r="41246" b="41662"/>
          <a:stretch/>
        </p:blipFill>
        <p:spPr>
          <a:xfrm>
            <a:off x="3132000" y="1628640"/>
            <a:ext cx="865440" cy="12240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3492360" y="2276640"/>
            <a:ext cx="2448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闹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66560" y="4654440"/>
            <a:ext cx="273708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水果园</a:t>
            </a:r>
            <a:endParaRPr b="1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7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450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0" y="-458640"/>
            <a:ext cx="9144000" cy="73166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rcRect l="28814" t="9071" r="18609" b="18638"/>
          <a:stretch/>
        </p:blipFill>
        <p:spPr>
          <a:xfrm>
            <a:off x="4643280" y="1484280"/>
            <a:ext cx="908280" cy="9367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rcRect l="41246" t="26655" r="41246" b="41662"/>
          <a:stretch/>
        </p:blipFill>
        <p:spPr>
          <a:xfrm>
            <a:off x="4572000" y="1341360"/>
            <a:ext cx="865080" cy="12240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3708360" y="2349360"/>
            <a:ext cx="2879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啊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66560" y="4654440"/>
            <a:ext cx="273708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水果园</a:t>
            </a:r>
            <a:endParaRPr b="1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6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5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500"/>
                            </p:stCondLst>
                            <p:childTnLst>
                              <p:par>
                                <p:cTn id="267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450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rcRect l="8636" t="2717" r="2664" b="3490"/>
          <a:stretch/>
        </p:blipFill>
        <p:spPr>
          <a:xfrm>
            <a:off x="1763640" y="2924280"/>
            <a:ext cx="1368360" cy="116820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rcRect l="8636" t="2717" r="2664" b="3490"/>
          <a:stretch/>
        </p:blipFill>
        <p:spPr>
          <a:xfrm>
            <a:off x="1835280" y="4365720"/>
            <a:ext cx="1368360" cy="11682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4"/>
          <a:srcRect l="8636" t="2717" r="2664" b="3490"/>
          <a:stretch/>
        </p:blipFill>
        <p:spPr>
          <a:xfrm>
            <a:off x="6732720" y="4365720"/>
            <a:ext cx="1368360" cy="11682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5"/>
          <a:srcRect l="8636" t="2717" r="2664" b="3490"/>
          <a:stretch/>
        </p:blipFill>
        <p:spPr>
          <a:xfrm>
            <a:off x="6732720" y="2852640"/>
            <a:ext cx="1368360" cy="116856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3203640" y="260280"/>
            <a:ext cx="2592360" cy="94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蔬菜园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6"/>
          <a:stretch/>
        </p:blipFill>
        <p:spPr>
          <a:xfrm>
            <a:off x="6877080" y="1628640"/>
            <a:ext cx="1152360" cy="115272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7"/>
          <a:stretch/>
        </p:blipFill>
        <p:spPr>
          <a:xfrm>
            <a:off x="1979640" y="1700280"/>
            <a:ext cx="1152360" cy="11523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8"/>
          <a:stretch/>
        </p:blipFill>
        <p:spPr>
          <a:xfrm>
            <a:off x="4459320" y="1413000"/>
            <a:ext cx="1152360" cy="11523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9"/>
          <a:srcRect l="41246" t="26655" r="41246" b="41662"/>
          <a:stretch/>
        </p:blipFill>
        <p:spPr>
          <a:xfrm>
            <a:off x="2124000" y="1628640"/>
            <a:ext cx="865440" cy="12240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3708360" y="2205000"/>
            <a:ext cx="3095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喊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0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450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rcRect l="8636" t="2717" r="2664" b="3490"/>
          <a:stretch/>
        </p:blipFill>
        <p:spPr>
          <a:xfrm>
            <a:off x="1763640" y="2924280"/>
            <a:ext cx="1368360" cy="11682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rcRect l="8636" t="2717" r="2664" b="3490"/>
          <a:stretch/>
        </p:blipFill>
        <p:spPr>
          <a:xfrm>
            <a:off x="1835280" y="4365720"/>
            <a:ext cx="1368360" cy="11682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4"/>
          <a:srcRect l="8636" t="2717" r="2664" b="3490"/>
          <a:stretch/>
        </p:blipFill>
        <p:spPr>
          <a:xfrm>
            <a:off x="6732720" y="4365720"/>
            <a:ext cx="1368360" cy="116820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5"/>
          <a:srcRect l="8636" t="2717" r="2664" b="3490"/>
          <a:stretch/>
        </p:blipFill>
        <p:spPr>
          <a:xfrm>
            <a:off x="6732720" y="2852640"/>
            <a:ext cx="1368360" cy="116856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6"/>
          <a:stretch/>
        </p:blipFill>
        <p:spPr>
          <a:xfrm>
            <a:off x="6877080" y="1628640"/>
            <a:ext cx="1152360" cy="115272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7"/>
          <a:stretch/>
        </p:blipFill>
        <p:spPr>
          <a:xfrm>
            <a:off x="4459320" y="1413000"/>
            <a:ext cx="1152360" cy="115236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8"/>
          <a:srcRect l="41246" t="26655" r="41246" b="41662"/>
          <a:stretch/>
        </p:blipFill>
        <p:spPr>
          <a:xfrm>
            <a:off x="7020000" y="2924280"/>
            <a:ext cx="865080" cy="12240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3708360" y="2205000"/>
            <a:ext cx="30243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点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203640" y="260280"/>
            <a:ext cx="2592360" cy="94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蔬菜园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9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xit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5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450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rcRect l="8636" t="2717" r="2664" b="3490"/>
          <a:stretch/>
        </p:blipFill>
        <p:spPr>
          <a:xfrm>
            <a:off x="1763640" y="2924280"/>
            <a:ext cx="1368360" cy="11682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3"/>
          <a:srcRect l="8636" t="2717" r="2664" b="3490"/>
          <a:stretch/>
        </p:blipFill>
        <p:spPr>
          <a:xfrm>
            <a:off x="1835280" y="4365720"/>
            <a:ext cx="1368360" cy="11682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4"/>
          <a:srcRect l="8636" t="2717" r="2664" b="3490"/>
          <a:stretch/>
        </p:blipFill>
        <p:spPr>
          <a:xfrm>
            <a:off x="6732720" y="4365720"/>
            <a:ext cx="1368360" cy="116820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5"/>
          <a:stretch/>
        </p:blipFill>
        <p:spPr>
          <a:xfrm>
            <a:off x="6877080" y="1628640"/>
            <a:ext cx="1152360" cy="115272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6"/>
          <a:stretch/>
        </p:blipFill>
        <p:spPr>
          <a:xfrm>
            <a:off x="4459320" y="1413000"/>
            <a:ext cx="1152360" cy="115236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7"/>
          <a:srcRect l="41246" t="26655" r="41246" b="41662"/>
          <a:stretch/>
        </p:blipFill>
        <p:spPr>
          <a:xfrm>
            <a:off x="2124000" y="4437000"/>
            <a:ext cx="865440" cy="12240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3708360" y="2205000"/>
            <a:ext cx="2448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赶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203640" y="260280"/>
            <a:ext cx="2592360" cy="94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蔬菜园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8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xit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000"/>
                            </p:stCondLst>
                            <p:childTnLst>
                              <p:par>
                                <p:cTn id="348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450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"/>
          <p:cNvGrpSpPr/>
          <p:nvPr/>
        </p:nvGrpSpPr>
        <p:grpSpPr>
          <a:xfrm>
            <a:off x="684360" y="1847880"/>
            <a:ext cx="3384000" cy="3381120"/>
            <a:chOff x="684360" y="1847880"/>
            <a:chExt cx="3384000" cy="3381120"/>
          </a:xfrm>
        </p:grpSpPr>
        <p:sp>
          <p:nvSpPr>
            <p:cNvPr id="273" name=""/>
            <p:cNvSpPr/>
            <p:nvPr/>
          </p:nvSpPr>
          <p:spPr>
            <a:xfrm>
              <a:off x="684360" y="1847880"/>
              <a:ext cx="3381120" cy="3381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84360" y="3536640"/>
              <a:ext cx="3384000" cy="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376720" y="1847880"/>
              <a:ext cx="0" cy="338112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4861080" y="1847880"/>
            <a:ext cx="3455640" cy="3381120"/>
            <a:chOff x="4861080" y="1847880"/>
            <a:chExt cx="3455640" cy="3381120"/>
          </a:xfrm>
        </p:grpSpPr>
        <p:sp>
          <p:nvSpPr>
            <p:cNvPr id="277" name=""/>
            <p:cNvSpPr/>
            <p:nvPr/>
          </p:nvSpPr>
          <p:spPr>
            <a:xfrm>
              <a:off x="4861080" y="1847880"/>
              <a:ext cx="3452760" cy="3381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861080" y="3536640"/>
              <a:ext cx="3455640" cy="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589080" y="1847880"/>
              <a:ext cx="0" cy="338112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1116000" y="1820880"/>
            <a:ext cx="280836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4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渴</a:t>
            </a:r>
            <a:endParaRPr b="0" lang="en-US" sz="19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>
            <a:hlinkClick r:id="rId2"/>
          </p:cNvPr>
          <p:cNvSpPr/>
          <p:nvPr/>
        </p:nvSpPr>
        <p:spPr>
          <a:xfrm>
            <a:off x="5292720" y="1844640"/>
            <a:ext cx="237636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4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喝</a:t>
            </a:r>
            <a:endParaRPr b="0" lang="en-US" sz="19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1055520" y="1773360"/>
            <a:ext cx="5214960" cy="3203280"/>
            <a:chOff x="1055520" y="1773360"/>
            <a:chExt cx="5214960" cy="3203280"/>
          </a:xfrm>
        </p:grpSpPr>
        <p:pic>
          <p:nvPicPr>
            <p:cNvPr id="283" name="" descr=""/>
            <p:cNvPicPr/>
            <p:nvPr/>
          </p:nvPicPr>
          <p:blipFill>
            <a:blip r:embed="rId3"/>
            <a:srcRect l="0" t="0" r="63500" b="30926"/>
            <a:stretch/>
          </p:blipFill>
          <p:spPr>
            <a:xfrm>
              <a:off x="5270400" y="1773360"/>
              <a:ext cx="1000080" cy="224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" descr=""/>
            <p:cNvPicPr/>
            <p:nvPr/>
          </p:nvPicPr>
          <p:blipFill>
            <a:blip r:embed="rId4"/>
            <a:srcRect l="0" t="0" r="69378" b="0"/>
            <a:stretch/>
          </p:blipFill>
          <p:spPr>
            <a:xfrm>
              <a:off x="1055520" y="1773360"/>
              <a:ext cx="917640" cy="3203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5" name="" descr=""/>
          <p:cNvPicPr/>
          <p:nvPr/>
        </p:nvPicPr>
        <p:blipFill>
          <a:blip r:embed="rId5"/>
          <a:srcRect l="29402" t="21461" r="33841" b="25529"/>
          <a:stretch/>
        </p:blipFill>
        <p:spPr>
          <a:xfrm>
            <a:off x="0" y="5084640"/>
            <a:ext cx="1800360" cy="194472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6"/>
          <a:srcRect l="31225" t="15591" r="18806" b="21036"/>
          <a:stretch/>
        </p:blipFill>
        <p:spPr>
          <a:xfrm>
            <a:off x="6696000" y="0"/>
            <a:ext cx="2448000" cy="170028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7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 txBox="1"/>
          <p:nvPr/>
        </p:nvSpPr>
        <p:spPr>
          <a:xfrm>
            <a:off x="2700360" y="2852640"/>
            <a:ext cx="3384360" cy="1584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一粒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643280" y="3284640"/>
            <a:ext cx="3384720" cy="1584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种子</a:t>
            </a:r>
            <a:endParaRPr b="1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7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50864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539640" y="4653000"/>
            <a:ext cx="8317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粒种子睡在泥土里。他醒过来，觉得很暖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和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就把身子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挺一挺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2"/>
          <a:srcRect l="32468" t="24429" r="33779" b="30432"/>
          <a:stretch/>
        </p:blipFill>
        <p:spPr>
          <a:xfrm>
            <a:off x="3492360" y="1700280"/>
            <a:ext cx="2159280" cy="208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xit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400"/>
                            </p:stCondLst>
                            <p:childTnLst>
                              <p:par>
                                <p:cTn id="371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800"/>
                            </p:stCondLst>
                            <p:childTnLst>
                              <p:par>
                                <p:cTn id="374" nodeType="afterEffect" fill="hold" presetClass="exit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20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600"/>
                            </p:stCondLst>
                            <p:childTnLst>
                              <p:par>
                                <p:cTn id="380" nodeType="afterEffect" fill="hold" presetClass="exit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2000"/>
                            </p:stCondLst>
                            <p:childTnLst>
                              <p:par>
                                <p:cTn id="383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400"/>
                            </p:stCondLst>
                            <p:childTnLst>
                              <p:par>
                                <p:cTn id="386" nodeType="afterEffect" fill="hold" presetClass="exit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611280" y="115920"/>
            <a:ext cx="7812000" cy="50846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2"/>
          <a:srcRect l="32468" t="24429" r="33779" b="30432"/>
          <a:stretch/>
        </p:blipFill>
        <p:spPr>
          <a:xfrm>
            <a:off x="3492360" y="1700280"/>
            <a:ext cx="2159280" cy="208764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250920" y="5118120"/>
            <a:ext cx="8604000" cy="15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有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点渴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喝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一口水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得很舒服，又把身子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挺一挺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148360" y="189000"/>
            <a:ext cx="360360" cy="792000"/>
          </a:xfrm>
          <a:custGeom>
            <a:avLst/>
            <a:gdLst/>
            <a:ahLst/>
            <a:rect l="l" t="t" r="r" b="b"/>
            <a:pathLst>
              <a:path w="1096" h="2162">
                <a:moveTo>
                  <a:pt x="506" y="15"/>
                </a:moveTo>
                <a:cubicBezTo>
                  <a:pt x="325" y="0"/>
                  <a:pt x="0" y="1248"/>
                  <a:pt x="7" y="1603"/>
                </a:cubicBezTo>
                <a:cubicBezTo>
                  <a:pt x="14" y="1958"/>
                  <a:pt x="370" y="2132"/>
                  <a:pt x="551" y="2147"/>
                </a:cubicBezTo>
                <a:cubicBezTo>
                  <a:pt x="732" y="2162"/>
                  <a:pt x="1096" y="2056"/>
                  <a:pt x="1096" y="1693"/>
                </a:cubicBezTo>
                <a:cubicBezTo>
                  <a:pt x="1096" y="1330"/>
                  <a:pt x="687" y="30"/>
                  <a:pt x="506" y="15"/>
                </a:cubicBez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4.81481E-006 L -0.01181 0.2993 E">
                                      <p:cBhvr>
                                        <p:cTn id="396" dur="20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2000"/>
                            </p:stCondLst>
                            <p:childTnLst>
                              <p:par>
                                <p:cTn id="398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uction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399" dur="5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2500"/>
                            </p:stCondLst>
                            <p:childTnLst>
                              <p:par>
                                <p:cTn id="4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2500"/>
                            </p:stCondLst>
                            <p:childTnLst>
                              <p:par>
                                <p:cTn id="407" nodeType="afterEffect" fill="hold" presetClass="exit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900"/>
                            </p:stCondLst>
                            <p:childTnLst>
                              <p:par>
                                <p:cTn id="410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3300"/>
                            </p:stCondLst>
                            <p:childTnLst>
                              <p:par>
                                <p:cTn id="413" nodeType="afterEffect" fill="hold" presetClass="exit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3700"/>
                            </p:stCondLst>
                            <p:childTnLst>
                              <p:par>
                                <p:cTn id="416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4100"/>
                            </p:stCondLst>
                            <p:childTnLst>
                              <p:par>
                                <p:cTn id="419" nodeType="afterEffect" fill="hold" presetClass="exit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4500"/>
                            </p:stCondLst>
                            <p:childTnLst>
                              <p:par>
                                <p:cTn id="422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4900"/>
                            </p:stCondLst>
                            <p:childTnLst>
                              <p:par>
                                <p:cTn id="425" nodeType="afterEffect" fill="hold" presetClass="exit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" descr=""/>
          <p:cNvPicPr/>
          <p:nvPr/>
        </p:nvPicPr>
        <p:blipFill>
          <a:blip r:embed="rId1"/>
          <a:srcRect l="24207" t="12057" r="14627" b="2064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2"/>
          <a:srcRect l="30938" t="11806" r="13811" b="20360"/>
          <a:stretch/>
        </p:blipFill>
        <p:spPr>
          <a:xfrm>
            <a:off x="5580000" y="1557360"/>
            <a:ext cx="3564000" cy="347832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0" y="260280"/>
            <a:ext cx="3313080" cy="1511280"/>
          </a:xfrm>
          <a:prstGeom prst="wedgeEllipseCallout">
            <a:avLst>
              <a:gd name="adj1" fmla="val 29060"/>
              <a:gd name="adj2" fmla="val 8834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外面是什么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声音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55640" y="5445000"/>
            <a:ext cx="7777080" cy="1341720"/>
          </a:xfrm>
          <a:prstGeom prst="wedgeRectCallout">
            <a:avLst>
              <a:gd name="adj1" fmla="val 35120"/>
              <a:gd name="adj2" fmla="val -10857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那是春风。春风在叫我们到外边去呢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3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3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0" y="0"/>
            <a:ext cx="5292720" cy="1773360"/>
          </a:xfrm>
          <a:prstGeom prst="wedgeEllipseCallout">
            <a:avLst>
              <a:gd name="adj1" fmla="val 6689"/>
              <a:gd name="adj2" fmla="val 7685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外面什么样儿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也这么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黑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吗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5445000"/>
            <a:ext cx="5327640" cy="863640"/>
          </a:xfrm>
          <a:prstGeom prst="wedgeRectCallout">
            <a:avLst>
              <a:gd name="adj1" fmla="val 46009"/>
              <a:gd name="adj2" fmla="val -13363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，外面亮得很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611280" y="260280"/>
            <a:ext cx="85327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    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春风在唱歌，泉水在唱歌，小鸟在唱歌，小朋友也在唱歌。种子听见外面很热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闹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连忙说：“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啊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我要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赶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快出去！”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79640" y="206064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连忙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54200" cy="75420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3"/>
          <a:stretch/>
        </p:blipFill>
        <p:spPr>
          <a:xfrm>
            <a:off x="7740720" y="6021360"/>
            <a:ext cx="1008000" cy="64764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4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70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000"/>
                            </p:stCondLst>
                            <p:childTnLst>
                              <p:par>
                                <p:cTn id="47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73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2000"/>
                            </p:stCondLst>
                            <p:childTnLst>
                              <p:par>
                                <p:cTn id="47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76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7" restart="whenNotActive" nodeType="interactiveSeq" fill="hold">
                <p:stCondLst>
                  <p:cond evt="onClick">
                    <p:tgtEl>
                      <p:spTgt spid="309"/>
                    </p:tgtEl>
                  </p:cond>
                </p:stCondLst>
                <p:childTnLst>
                  <p:par>
                    <p:cTn id="478" fill="hold">
                      <p:stCondLst>
                        <p:cond evt="onClick">
                          <p:tgtEl>
                            <p:spTgt spid="309"/>
                          </p:tgtEl>
                        </p:cond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1" dur="23249" fill="hold"/>
                                        <p:tgtEl>
                                          <p:spTgt spid="3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2" restart="whenNotActive" nodeType="interactiveSeq" fill="hold">
                <p:stCondLst>
                  <p:cond evt="onClick">
                    <p:tgtEl>
                      <p:spTgt spid="310"/>
                    </p:tgtEl>
                  </p:cond>
                </p:stCondLst>
                <p:childTnLst>
                  <p:par>
                    <p:cTn id="483" fill="hold">
                      <p:stCondLst>
                        <p:cond evt="onClick">
                          <p:tgtEl>
                            <p:spTgt spid="310"/>
                          </p:tgtEl>
                        </p:cond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6" dur="36152" fill="hold"/>
                                        <p:tgtEl>
                                          <p:spTgt spid="3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" descr=""/>
          <p:cNvPicPr/>
          <p:nvPr/>
        </p:nvPicPr>
        <p:blipFill>
          <a:blip r:embed="rId1"/>
          <a:srcRect l="15042" t="8416" r="14083" b="21027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rcRect l="31456" t="24346" r="31543" b="31157"/>
          <a:stretch/>
        </p:blipFill>
        <p:spPr>
          <a:xfrm>
            <a:off x="2700360" y="4437000"/>
            <a:ext cx="1727280" cy="177336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rcRect l="15042" t="9694" r="14083" b="2275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4"/>
          <a:srcRect l="33729" t="23345" r="26324" b="36660"/>
          <a:stretch/>
        </p:blipFill>
        <p:spPr>
          <a:xfrm>
            <a:off x="2195640" y="3716280"/>
            <a:ext cx="3600360" cy="270036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5"/>
          <a:srcRect l="15978" t="10948" r="15042" b="2228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6"/>
          <a:srcRect l="15042" t="8416" r="13148" b="19748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7"/>
          <a:srcRect l="15104" t="8831" r="13063" b="19364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8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xit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300"/>
                            </p:stCondLst>
                            <p:childTnLst>
                              <p:par>
                                <p:cTn id="497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600"/>
                            </p:stCondLst>
                            <p:childTnLst>
                              <p:par>
                                <p:cTn id="500" nodeType="afterEffect" fill="hold" presetClass="exit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900"/>
                            </p:stCondLst>
                            <p:childTnLst>
                              <p:par>
                                <p:cTn id="503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200"/>
                            </p:stCondLst>
                            <p:childTnLst>
                              <p:par>
                                <p:cTn id="506" nodeType="afterEffect" fill="hold" presetClass="exit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500"/>
                            </p:stCondLst>
                            <p:childTnLst>
                              <p:par>
                                <p:cTn id="5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500"/>
                            </p:stCondLst>
                            <p:childTnLst>
                              <p:par>
                                <p:cTn id="512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1800"/>
                            </p:stCondLst>
                            <p:childTnLst>
                              <p:par>
                                <p:cTn id="515" nodeType="afterEffect" fill="hold" presetClass="exit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2100"/>
                            </p:stCondLst>
                            <p:childTnLst>
                              <p:par>
                                <p:cTn id="518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2400"/>
                            </p:stCondLst>
                            <p:childTnLst>
                              <p:par>
                                <p:cTn id="521" nodeType="afterEffect" fill="hold" presetClass="exit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2700"/>
                            </p:stCondLst>
                            <p:childTnLst>
                              <p:par>
                                <p:cTn id="524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3000"/>
                            </p:stCondLst>
                            <p:childTnLst>
                              <p:par>
                                <p:cTn id="527" nodeType="afterEffect" fill="hold" presetClass="exit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3300"/>
                            </p:stCondLst>
                            <p:childTnLst>
                              <p:par>
                                <p:cTn id="530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800"/>
                            </p:stCondLst>
                            <p:childTnLst>
                              <p:par>
                                <p:cTn id="53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6300"/>
                            </p:stCondLst>
                            <p:childTnLst>
                              <p:par>
                                <p:cTn id="5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2411280" y="5805360"/>
            <a:ext cx="396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503280" y="3141720"/>
            <a:ext cx="864072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31680">
                  <a:solidFill>
                    <a:srgbClr val="ffffff"/>
                  </a:solidFill>
                  <a:miter/>
                </a:ln>
                <a:solidFill>
                  <a:srgbClr val="3333cc"/>
                </a:solidFill>
                <a:latin typeface="隶书"/>
              </a:rPr>
              <a:t>“</a:t>
            </a:r>
            <a:r>
              <a:rPr b="1" lang="zh-CN" sz="4800" spc="1" strike="noStrike">
                <a:ln w="31680">
                  <a:solidFill>
                    <a:srgbClr val="ffffff"/>
                  </a:solidFill>
                  <a:miter/>
                </a:ln>
                <a:solidFill>
                  <a:srgbClr val="3333cc"/>
                </a:solidFill>
                <a:latin typeface="隶书"/>
              </a:rPr>
              <a:t>啊，好一个光明的世界！”</a:t>
            </a:r>
            <a:endParaRPr b="1" lang="en-US" sz="4800" spc="1" strike="noStrike">
              <a:ln w="31680">
                <a:solidFill>
                  <a:srgbClr val="ffffff"/>
                </a:solidFill>
                <a:miter/>
              </a:ln>
              <a:solidFill>
                <a:srgbClr val="3333cc"/>
              </a:solidFill>
              <a:latin typeface="隶书"/>
              <a:ea typeface="隶书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2"/>
          <a:stretch/>
        </p:blipFill>
        <p:spPr>
          <a:xfrm>
            <a:off x="8317080" y="6093000"/>
            <a:ext cx="574560" cy="57456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2000"/>
                            </p:stCondLst>
                            <p:childTnLst>
                              <p:par>
                                <p:cTn id="5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0" dur="1" fill="hold"/>
                                        <p:tgtEl>
                                          <p:spTgt spid="3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1908000" y="2349360"/>
            <a:ext cx="684072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53753" dir="2700000" blurRad="0" rotWithShape="0">
                    <a:srgbClr val="000099">
                      <a:alpha val="50000"/>
                    </a:srgbClr>
                  </a:outerShdw>
                </a:effectLst>
                <a:latin typeface="华文新魏"/>
              </a:rPr>
              <a:t>愿同学们快乐地成长！</a:t>
            </a:r>
            <a:endParaRPr b="1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53753" dir="2700000" blurRad="0" rotWithShape="0">
                  <a:srgbClr val="000099">
                    <a:alpha val="5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-79200"/>
            <a:ext cx="9144000" cy="69372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843280" y="2205000"/>
            <a:ext cx="482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口</a:t>
            </a:r>
            <a:r>
              <a:rPr b="1" lang="zh-CN" sz="150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渴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91280" y="1484280"/>
            <a:ext cx="136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Square721 BT"/>
              </a:rPr>
              <a:t>k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899320" y="1557360"/>
            <a:ext cx="384120" cy="287280"/>
          </a:xfrm>
          <a:custGeom>
            <a:avLst/>
            <a:gdLst/>
            <a:ahLst/>
            <a:rect l="l" t="t" r="r" b="b"/>
            <a:pathLst>
              <a:path w="272" h="227">
                <a:moveTo>
                  <a:pt x="0" y="0"/>
                </a:moveTo>
                <a:cubicBezTo>
                  <a:pt x="45" y="113"/>
                  <a:pt x="91" y="227"/>
                  <a:pt x="136" y="227"/>
                </a:cubicBezTo>
                <a:cubicBezTo>
                  <a:pt x="181" y="227"/>
                  <a:pt x="249" y="38"/>
                  <a:pt x="272" y="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72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843280" y="2205000"/>
            <a:ext cx="482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喝</a:t>
            </a:r>
            <a:r>
              <a:rPr b="1" lang="zh-CN" sz="15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水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19640" y="1628640"/>
            <a:ext cx="136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Square721 BT"/>
              </a:rPr>
              <a:t>h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068720" y="1916280"/>
            <a:ext cx="432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72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843280" y="2205000"/>
            <a:ext cx="482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暖</a:t>
            </a:r>
            <a:r>
              <a:rPr b="1" lang="zh-CN" sz="15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和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932360" y="1592280"/>
            <a:ext cx="201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cc"/>
                </a:solidFill>
                <a:latin typeface="Square721 BT"/>
              </a:rPr>
              <a:t>huo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3-04T08:19:24Z</dcterms:modified>
  <cp:revision>146</cp:revision>
  <dc:subject/>
  <dc:title>PowerPoint Presentation</dc:title>
</cp:coreProperties>
</file>