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suction.wav" ContentType="audio/x-wav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camera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85-093C-455A-900A-C111A4A7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716-A63D-48E7-B742-DC0D8F8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50A-D1DE-4173-AC84-E69E2F07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10E-4F15-4419-8E5B-B05946A4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C470-89E7-4609-9C97-E3356AD0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7419-A1D0-4065-85FD-CB91B5F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C50D-C85D-4FED-BECF-A75E107B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4E2-C902-4447-ABF7-623819D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8070-227A-482E-B3FE-62FD9726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D81-4A2C-4C7B-A625-940535D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C260-35F6-483F-92C1-AB9731D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BCD-D49D-4B75-A955-13DEAA6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D71-A6C8-4C72-A60C-62AD264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FD6B-AD51-47E7-9664-AB529C7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7A71-E2CE-455F-96FD-4B92EC8F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52BB-7C77-4211-83C5-E240E710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50CD-0E99-484D-8A24-389615F8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BC19-E940-440F-B800-1812DC76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6B42-B2AB-40C6-972D-2428A2FE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0177-0726-4006-92F4-14F4F64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AFB8-9611-4E77-A897-A57407D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1B81-56B3-42D3-A749-34A7883F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825-EA5D-4E87-B1CE-CE8EBAE6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60AD-F97D-4CAE-BD99-F0F8D80A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B793-38F1-4890-9AB8-74D1026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0802-9F92-47C3-9944-A9F605C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9EE1-4247-4C93-8792-A0494BE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F572-B16A-4A72-9CCD-01F80DB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2510-2618-4B11-98D3-897A3575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65B2-3EED-4751-B757-3B86A3FD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E79-3836-49D6-ABBC-AFB2D15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2B1-D8EB-4CD7-AD96-7C0820D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91D-D4EC-4ADC-85CA-6265327D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2D1-4348-4D59-A4BE-4CD5907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6E0-977D-4142-8035-4B87697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14C-ABA0-42C7-BF04-911E123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0144-5131-4847-AD92-D4643D8C5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3E70-D2B1-4E86-AC26-1E13BF820B48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490-68B3-401B-98CB-D2B513C69310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71;&#24072;&#22823;&#29256;&#19968;&#24180;&#32423;&#35821;&#25991;&#19979;&#20876;&#12298;&#19968;&#31890;&#31181;&#23376;%201&#12299;PPT&#35838;&#20214;/&#21917;.SWF" TargetMode="External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15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256536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844640"/>
            <a:ext cx="9072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今天天气很暖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和妈妈一起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981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141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83160" y="3284640"/>
            <a:ext cx="14256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198900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1908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908000" y="278136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95640" y="234936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2060640"/>
            <a:ext cx="1052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3059280" y="1844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2421000"/>
            <a:ext cx="27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4788000" y="126828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92360" y="227664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588000" y="184464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2421000"/>
            <a:ext cx="28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740720" y="2852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80000" y="213372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1835280" y="2565360"/>
            <a:ext cx="907920" cy="9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835280" y="242100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2421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012000" y="1700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234936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164360" y="2492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234936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1246" t="26655" r="41246" b="41662"/>
          <a:stretch/>
        </p:blipFill>
        <p:spPr>
          <a:xfrm>
            <a:off x="3132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2360" y="227664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1246" t="26655" r="41246" b="41662"/>
          <a:stretch/>
        </p:blipFill>
        <p:spPr>
          <a:xfrm>
            <a:off x="4572000" y="134136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8360" y="2349360"/>
            <a:ext cx="287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979640" y="1700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2124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08360" y="2205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7020000" y="2924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8360" y="2205000"/>
            <a:ext cx="302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2124000" y="443700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08360" y="2205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84360" y="1847880"/>
            <a:ext cx="3384000" cy="3381120"/>
            <a:chOff x="684360" y="1847880"/>
            <a:chExt cx="3384000" cy="3381120"/>
          </a:xfrm>
        </p:grpSpPr>
        <p:sp>
          <p:nvSpPr>
            <p:cNvPr id="273" name=""/>
            <p:cNvSpPr/>
            <p:nvPr/>
          </p:nvSpPr>
          <p:spPr>
            <a:xfrm>
              <a:off x="684360" y="1847880"/>
              <a:ext cx="338112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360" y="3536640"/>
              <a:ext cx="338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72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61080" y="1847880"/>
            <a:ext cx="3455640" cy="3381120"/>
            <a:chOff x="4861080" y="1847880"/>
            <a:chExt cx="3455640" cy="3381120"/>
          </a:xfrm>
        </p:grpSpPr>
        <p:sp>
          <p:nvSpPr>
            <p:cNvPr id="277" name=""/>
            <p:cNvSpPr/>
            <p:nvPr/>
          </p:nvSpPr>
          <p:spPr>
            <a:xfrm>
              <a:off x="4861080" y="184788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1080" y="353664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908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16000" y="1820880"/>
            <a:ext cx="280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渴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292720" y="1844640"/>
            <a:ext cx="237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喝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55520" y="1773360"/>
            <a:ext cx="5214960" cy="3203280"/>
            <a:chOff x="1055520" y="1773360"/>
            <a:chExt cx="5214960" cy="320328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rcRect l="0" t="0" r="63500" b="30926"/>
            <a:stretch/>
          </p:blipFill>
          <p:spPr>
            <a:xfrm>
              <a:off x="5270400" y="1773360"/>
              <a:ext cx="100008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0" r="69378" b="0"/>
            <a:stretch/>
          </p:blipFill>
          <p:spPr>
            <a:xfrm>
              <a:off x="1055520" y="1773360"/>
              <a:ext cx="917640" cy="32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5"/>
          <a:srcRect l="29402" t="21461" r="33841" b="25529"/>
          <a:stretch/>
        </p:blipFill>
        <p:spPr>
          <a:xfrm>
            <a:off x="0" y="5084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31225" t="15591" r="18806" b="21036"/>
          <a:stretch/>
        </p:blipFill>
        <p:spPr>
          <a:xfrm>
            <a:off x="6696000" y="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4653000"/>
            <a:ext cx="831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00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5084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920" y="5118120"/>
            <a:ext cx="860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水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很舒服，又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89000"/>
            <a:ext cx="360360" cy="792000"/>
          </a:xfrm>
          <a:custGeom>
            <a:avLst/>
            <a:gdLst/>
            <a:ahLst/>
            <a:rect l="l" t="t" r="r" b="b"/>
            <a:pathLst>
              <a:path w="1096" h="2162">
                <a:moveTo>
                  <a:pt x="506" y="15"/>
                </a:moveTo>
                <a:cubicBezTo>
                  <a:pt x="325" y="0"/>
                  <a:pt x="0" y="1248"/>
                  <a:pt x="7" y="1603"/>
                </a:cubicBezTo>
                <a:cubicBezTo>
                  <a:pt x="14" y="1958"/>
                  <a:pt x="370" y="2132"/>
                  <a:pt x="551" y="2147"/>
                </a:cubicBezTo>
                <a:cubicBezTo>
                  <a:pt x="732" y="2162"/>
                  <a:pt x="1096" y="2056"/>
                  <a:pt x="1096" y="1693"/>
                </a:cubicBezTo>
                <a:cubicBezTo>
                  <a:pt x="1096" y="1330"/>
                  <a:pt x="687" y="30"/>
                  <a:pt x="506" y="1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1181 0.2993 E">
                                      <p:cBhvr>
                                        <p:cTn id="39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3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24207" t="12057" r="14627" b="20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30938" t="11806" r="13811" b="20360"/>
          <a:stretch/>
        </p:blipFill>
        <p:spPr>
          <a:xfrm>
            <a:off x="5580000" y="1557360"/>
            <a:ext cx="3564000" cy="347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60280"/>
            <a:ext cx="3313080" cy="1511280"/>
          </a:xfrm>
          <a:prstGeom prst="wedgeEllipseCallout">
            <a:avLst>
              <a:gd name="adj1" fmla="val 29060"/>
              <a:gd name="adj2" fmla="val 88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是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445000"/>
            <a:ext cx="7777080" cy="1341720"/>
          </a:xfrm>
          <a:prstGeom prst="wedgeRectCallout">
            <a:avLst>
              <a:gd name="adj1" fmla="val 35120"/>
              <a:gd name="adj2" fmla="val -108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春风。春风在叫我们到外边去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5292720" cy="1773360"/>
          </a:xfrm>
          <a:prstGeom prst="wedgeEllipseCallout">
            <a:avLst>
              <a:gd name="adj1" fmla="val 6689"/>
              <a:gd name="adj2" fmla="val 76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什么样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45000"/>
            <a:ext cx="5327640" cy="863640"/>
          </a:xfrm>
          <a:prstGeom prst="wedgeRectCallout">
            <a:avLst>
              <a:gd name="adj1" fmla="val 46009"/>
              <a:gd name="adj2" fmla="val -133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，外面亮得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260280"/>
            <a:ext cx="85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在唱歌，泉水在唱歌，小鸟在唱歌，小朋友也在唱歌。种子听见外面很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忙说：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出去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060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连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324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3615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15042" t="8416" r="14083" b="21027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31456" t="24346" r="31543" b="31157"/>
          <a:stretch/>
        </p:blipFill>
        <p:spPr>
          <a:xfrm>
            <a:off x="2700360" y="443700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5042" t="9694" r="14083" b="22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33729" t="23345" r="26324" b="36660"/>
          <a:stretch/>
        </p:blipFill>
        <p:spPr>
          <a:xfrm>
            <a:off x="2195640" y="371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rcRect l="15978" t="10948" r="15042" b="22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rcRect l="15042" t="8416" r="13148" b="19748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rcRect l="15104" t="8831" r="13063" b="19364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3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8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3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411280" y="5805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3141720"/>
            <a:ext cx="86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“</a:t>
            </a:r>
            <a:r>
              <a:rPr b="1" lang="zh-CN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啊，好一个光明的世界！”</a:t>
            </a:r>
            <a:endParaRPr b="1" lang="en-US" sz="4800" spc="1" strike="noStrike">
              <a:ln w="31680">
                <a:solidFill>
                  <a:srgbClr val="ffffff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908000" y="2349360"/>
            <a:ext cx="68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华文新魏"/>
              </a:rPr>
              <a:t>愿同学们快乐地成长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1484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k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99320" y="1557360"/>
            <a:ext cx="384120" cy="2872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0" y="0"/>
                </a:moveTo>
                <a:cubicBezTo>
                  <a:pt x="45" y="113"/>
                  <a:pt x="91" y="227"/>
                  <a:pt x="136" y="227"/>
                </a:cubicBezTo>
                <a:cubicBezTo>
                  <a:pt x="181" y="227"/>
                  <a:pt x="249" y="38"/>
                  <a:pt x="27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喝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62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191628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r>
              <a:rPr b="1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5922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08:19:24Z</dcterms:modified>
  <cp:revision>146</cp:revision>
  <dc:subject/>
  <dc:title>PowerPoint Presentation</dc:title>
</cp:coreProperties>
</file>