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4.wmf" ContentType="image/x-wmf"/>
  <Override PartName="/ppt/media/suction.wav" ContentType="audio/x-wav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chimes.wav" ContentType="audio/x-wav"/>
  <Override PartName="/ppt/media/image21.jpeg" ContentType="image/jpeg"/>
  <Override PartName="/ppt/media/image29.png" ContentType="image/png"/>
  <Override PartName="/ppt/media/camera.wav" ContentType="audio/x-wav"/>
  <Override PartName="/ppt/media/image7.jpeg" ContentType="image/jpeg"/>
  <Override PartName="/ppt/media/image28.jpeg" ContentType="image/jpeg"/>
  <Override PartName="/ppt/media/image34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30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2.png" ContentType="image/png"/>
  <Override PartName="/ppt/media/image31.jpeg" ContentType="image/jpeg"/>
  <Override PartName="/ppt/media/image38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B0E-5D29-4E8A-B239-ED0B406E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AAF-60D0-485A-B1A0-F81F4244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58C-92B4-4827-AF11-8E345A2B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22E-96FC-4489-BC0C-BA9BA05A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56AA-B07D-4FFE-88DF-770E7DAD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9EA9-2B69-4C83-8A57-59D591F1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2764-FE1C-40B5-97C7-DD66BEDD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CB5E-9D1A-4D0F-A6D8-B44769F9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BF66-A837-43C5-A4C3-A5DAE6CD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3B7C-496D-4448-97C1-AD0E6A91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A1BC-A148-4D0D-B448-86A9F355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BE3-81D0-4D72-A2B4-15258E8A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9360-F4F0-4329-AC74-A6EAC9BD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93F1-A26C-496B-9B9B-7AEC5A00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41A2-7CC1-4E9B-9414-18BD10A8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EC71-06C4-412C-A89D-B4F6808E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A71C-6702-47E6-8E23-2A2BF097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D8E80-ABB4-4120-8272-FCCE13E8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880D6-223C-40AE-98C3-2B69C5E6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004C9-8D99-4EEA-ADF7-A0F6A5F5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ECA15-A8BB-4370-B644-2D8EAD39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8CABB-6709-49F9-B498-FBA17C5B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7DE-76EC-4893-9FF3-5BFFB87C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91C96-7744-402B-AED0-5E17E38F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2BFCF-89D1-4183-82BD-7E064539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BC7F3-D624-44D7-9C38-1C98810A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F5A84-ADBE-4CE2-B968-6C7EB506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6D33F-6270-484A-B093-520CD4C5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9771B-0E43-4059-AE9C-5A5F8149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699A1-56A6-499D-A96E-E7CE73CA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0DB-0561-4479-81F1-AEBEF1D7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AA1-CBD8-4F1D-B18E-D28ED8B4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A60-8D5F-473E-A8B3-5D7EC969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F07-447E-4902-B279-AAD61A7C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45D-4E62-425E-ABF2-6A5A6E31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7B1-941F-447E-AE3F-3A38CE3D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ED24-72BF-4C7D-A4A9-A7B185D10E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BD0B-5E79-4242-88E9-9E2A88A7D95F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357C-7A72-464B-A54F-DB773DC730AF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6.jpe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5.png"/><Relationship Id="rId8" Type="http://schemas.openxmlformats.org/officeDocument/2006/relationships/image" Target="../media/image5.png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5.png"/><Relationship Id="rId6" Type="http://schemas.openxmlformats.org/officeDocument/2006/relationships/image" Target="../media/image5.png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20.pn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6.jpe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5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5.png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5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5.png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5.png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16.jpe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16.jpeg"/><Relationship Id="rId8" Type="http://schemas.openxmlformats.org/officeDocument/2006/relationships/image" Target="../media/image5.png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1271;&#24072;&#22823;&#29256;&#19968;&#24180;&#32423;&#35821;&#25991;&#19979;&#20876;&#12298;&#19968;&#31890;&#31181;&#23376;%201&#12299;PPT&#35838;&#20214;/&#21917;.SWF" TargetMode="External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6.png"/><Relationship Id="rId3" Type="http://schemas.openxmlformats.org/officeDocument/2006/relationships/image" Target="../media/image34.jpeg"/><Relationship Id="rId4" Type="http://schemas.openxmlformats.org/officeDocument/2006/relationships/image" Target="../media/image15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700360" y="2852640"/>
            <a:ext cx="338436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一粒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3280" y="3284640"/>
            <a:ext cx="338472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种子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333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北师大版一年级语文下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92360" y="256536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1844640"/>
            <a:ext cx="907272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今天天气很暖和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我和妈妈一起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公园玩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98100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04000" y="1341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quare721 BT"/>
              </a:rPr>
              <a:t>hu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3141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683160" y="3284640"/>
            <a:ext cx="142560" cy="144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3132000" y="198900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1908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rcRect l="20348" t="8321" r="20311" b="10389"/>
          <a:stretch/>
        </p:blipFill>
        <p:spPr>
          <a:xfrm>
            <a:off x="4859280" y="148428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rcRect l="41246" t="26655" r="41246" b="41662"/>
          <a:stretch/>
        </p:blipFill>
        <p:spPr>
          <a:xfrm>
            <a:off x="1908000" y="2781360"/>
            <a:ext cx="1114560" cy="1511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95640" y="2349360"/>
            <a:ext cx="266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3132000" y="2060640"/>
            <a:ext cx="1052640" cy="1079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4859280" y="148428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rcRect l="41246" t="26655" r="41246" b="41662"/>
          <a:stretch/>
        </p:blipFill>
        <p:spPr>
          <a:xfrm>
            <a:off x="3059280" y="1844640"/>
            <a:ext cx="1114200" cy="1511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635280" y="2421000"/>
            <a:ext cx="2737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4859280" y="148428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rcRect l="41246" t="26655" r="41246" b="41662"/>
          <a:stretch/>
        </p:blipFill>
        <p:spPr>
          <a:xfrm>
            <a:off x="4788000" y="1268280"/>
            <a:ext cx="1114200" cy="1511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92360" y="2276640"/>
            <a:ext cx="266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挺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rcRect l="41246" t="26655" r="41246" b="41662"/>
          <a:stretch/>
        </p:blipFill>
        <p:spPr>
          <a:xfrm>
            <a:off x="6588000" y="1844640"/>
            <a:ext cx="1114560" cy="1511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419640" y="2421000"/>
            <a:ext cx="2881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渴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rcRect l="41246" t="26655" r="41246" b="41662"/>
          <a:stretch/>
        </p:blipFill>
        <p:spPr>
          <a:xfrm>
            <a:off x="7740720" y="2852640"/>
            <a:ext cx="1114200" cy="1511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780000" y="2133720"/>
            <a:ext cx="2736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喝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1835280" y="2565360"/>
            <a:ext cx="907920" cy="936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rcRect l="28814" t="9071" r="18609" b="18638"/>
          <a:stretch/>
        </p:blipFill>
        <p:spPr>
          <a:xfrm>
            <a:off x="7164360" y="2565360"/>
            <a:ext cx="907920" cy="936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rcRect l="28814" t="9071" r="18609" b="18638"/>
          <a:stretch/>
        </p:blipFill>
        <p:spPr>
          <a:xfrm>
            <a:off x="6012000" y="1773360"/>
            <a:ext cx="907920" cy="936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9"/>
          <a:srcRect l="41246" t="26655" r="41246" b="41662"/>
          <a:stretch/>
        </p:blipFill>
        <p:spPr>
          <a:xfrm>
            <a:off x="1835280" y="242100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635280" y="2421000"/>
            <a:ext cx="244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钻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rcRect l="28814" t="9071" r="18609" b="18638"/>
          <a:stretch/>
        </p:blipFill>
        <p:spPr>
          <a:xfrm>
            <a:off x="7164360" y="2565360"/>
            <a:ext cx="907920" cy="936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rcRect l="28814" t="9071" r="18609" b="18638"/>
          <a:stretch/>
        </p:blipFill>
        <p:spPr>
          <a:xfrm>
            <a:off x="6012000" y="1773360"/>
            <a:ext cx="907920" cy="93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rcRect l="41246" t="26655" r="41246" b="41662"/>
          <a:stretch/>
        </p:blipFill>
        <p:spPr>
          <a:xfrm>
            <a:off x="6012000" y="170028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780000" y="2349360"/>
            <a:ext cx="244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松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rcRect l="28814" t="9071" r="18609" b="18638"/>
          <a:stretch/>
        </p:blipFill>
        <p:spPr>
          <a:xfrm>
            <a:off x="7164360" y="2565360"/>
            <a:ext cx="907920" cy="936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rcRect l="41246" t="26655" r="41246" b="41662"/>
          <a:stretch/>
        </p:blipFill>
        <p:spPr>
          <a:xfrm>
            <a:off x="7164360" y="249228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635280" y="2349360"/>
            <a:ext cx="295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rcRect l="41246" t="26655" r="41246" b="41662"/>
          <a:stretch/>
        </p:blipFill>
        <p:spPr>
          <a:xfrm>
            <a:off x="3132000" y="1628640"/>
            <a:ext cx="865440" cy="122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92360" y="2276640"/>
            <a:ext cx="244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rcRect l="41246" t="26655" r="41246" b="41662"/>
          <a:stretch/>
        </p:blipFill>
        <p:spPr>
          <a:xfrm>
            <a:off x="4572000" y="134136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708360" y="2349360"/>
            <a:ext cx="2879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啊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rcRect l="8636" t="2717" r="2664" b="3490"/>
          <a:stretch/>
        </p:blipFill>
        <p:spPr>
          <a:xfrm>
            <a:off x="1763640" y="292428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rcRect l="8636" t="2717" r="2664" b="3490"/>
          <a:stretch/>
        </p:blipFill>
        <p:spPr>
          <a:xfrm>
            <a:off x="183528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rcRect l="8636" t="2717" r="2664" b="3490"/>
          <a:stretch/>
        </p:blipFill>
        <p:spPr>
          <a:xfrm>
            <a:off x="673272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rcRect l="8636" t="2717" r="2664" b="3490"/>
          <a:stretch/>
        </p:blipFill>
        <p:spPr>
          <a:xfrm>
            <a:off x="6732720" y="2852640"/>
            <a:ext cx="1368360" cy="1168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203640" y="260280"/>
            <a:ext cx="25923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蔬菜园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687708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1979640" y="170028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4459320" y="141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rcRect l="41246" t="26655" r="41246" b="41662"/>
          <a:stretch/>
        </p:blipFill>
        <p:spPr>
          <a:xfrm>
            <a:off x="2124000" y="1628640"/>
            <a:ext cx="865440" cy="1224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08360" y="2205000"/>
            <a:ext cx="309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喊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0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rcRect l="8636" t="2717" r="2664" b="3490"/>
          <a:stretch/>
        </p:blipFill>
        <p:spPr>
          <a:xfrm>
            <a:off x="1763640" y="292428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8636" t="2717" r="2664" b="3490"/>
          <a:stretch/>
        </p:blipFill>
        <p:spPr>
          <a:xfrm>
            <a:off x="183528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rcRect l="8636" t="2717" r="2664" b="3490"/>
          <a:stretch/>
        </p:blipFill>
        <p:spPr>
          <a:xfrm>
            <a:off x="673272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rcRect l="8636" t="2717" r="2664" b="3490"/>
          <a:stretch/>
        </p:blipFill>
        <p:spPr>
          <a:xfrm>
            <a:off x="6732720" y="2852640"/>
            <a:ext cx="1368360" cy="1168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687708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4459320" y="141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8"/>
          <a:srcRect l="41246" t="26655" r="41246" b="41662"/>
          <a:stretch/>
        </p:blipFill>
        <p:spPr>
          <a:xfrm>
            <a:off x="7020000" y="292428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8360" y="2205000"/>
            <a:ext cx="3024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03640" y="260280"/>
            <a:ext cx="25923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蔬菜园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9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rcRect l="8636" t="2717" r="2664" b="3490"/>
          <a:stretch/>
        </p:blipFill>
        <p:spPr>
          <a:xfrm>
            <a:off x="1763640" y="292428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rcRect l="8636" t="2717" r="2664" b="3490"/>
          <a:stretch/>
        </p:blipFill>
        <p:spPr>
          <a:xfrm>
            <a:off x="183528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rcRect l="8636" t="2717" r="2664" b="3490"/>
          <a:stretch/>
        </p:blipFill>
        <p:spPr>
          <a:xfrm>
            <a:off x="673272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687708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tretch/>
        </p:blipFill>
        <p:spPr>
          <a:xfrm>
            <a:off x="4459320" y="141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7"/>
          <a:srcRect l="41246" t="26655" r="41246" b="41662"/>
          <a:stretch/>
        </p:blipFill>
        <p:spPr>
          <a:xfrm>
            <a:off x="2124000" y="4437000"/>
            <a:ext cx="865440" cy="1224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708360" y="2205000"/>
            <a:ext cx="244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赶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03640" y="260280"/>
            <a:ext cx="25923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蔬菜园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84360" y="1847880"/>
            <a:ext cx="3384000" cy="3381120"/>
            <a:chOff x="684360" y="1847880"/>
            <a:chExt cx="3384000" cy="3381120"/>
          </a:xfrm>
        </p:grpSpPr>
        <p:sp>
          <p:nvSpPr>
            <p:cNvPr id="273" name=""/>
            <p:cNvSpPr/>
            <p:nvPr/>
          </p:nvSpPr>
          <p:spPr>
            <a:xfrm>
              <a:off x="684360" y="1847880"/>
              <a:ext cx="338112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4360" y="3536640"/>
              <a:ext cx="33840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76720" y="184788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861080" y="1847880"/>
            <a:ext cx="3455640" cy="3381120"/>
            <a:chOff x="4861080" y="1847880"/>
            <a:chExt cx="3455640" cy="3381120"/>
          </a:xfrm>
        </p:grpSpPr>
        <p:sp>
          <p:nvSpPr>
            <p:cNvPr id="277" name=""/>
            <p:cNvSpPr/>
            <p:nvPr/>
          </p:nvSpPr>
          <p:spPr>
            <a:xfrm>
              <a:off x="4861080" y="184788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61080" y="353664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89080" y="184788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116000" y="1820880"/>
            <a:ext cx="280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渴</a:t>
            </a:r>
            <a:endParaRPr b="0" lang="en-US" sz="19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2"/>
          </p:cNvPr>
          <p:cNvSpPr/>
          <p:nvPr/>
        </p:nvSpPr>
        <p:spPr>
          <a:xfrm>
            <a:off x="5292720" y="1844640"/>
            <a:ext cx="2376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喝</a:t>
            </a:r>
            <a:endParaRPr b="0" lang="en-US" sz="19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055520" y="1773360"/>
            <a:ext cx="5214960" cy="3203280"/>
            <a:chOff x="1055520" y="1773360"/>
            <a:chExt cx="5214960" cy="3203280"/>
          </a:xfrm>
        </p:grpSpPr>
        <p:pic>
          <p:nvPicPr>
            <p:cNvPr id="283" name="" descr=""/>
            <p:cNvPicPr/>
            <p:nvPr/>
          </p:nvPicPr>
          <p:blipFill>
            <a:blip r:embed="rId3"/>
            <a:srcRect l="0" t="0" r="63500" b="30926"/>
            <a:stretch/>
          </p:blipFill>
          <p:spPr>
            <a:xfrm>
              <a:off x="5270400" y="1773360"/>
              <a:ext cx="1000080" cy="22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4"/>
            <a:srcRect l="0" t="0" r="69378" b="0"/>
            <a:stretch/>
          </p:blipFill>
          <p:spPr>
            <a:xfrm>
              <a:off x="1055520" y="1773360"/>
              <a:ext cx="917640" cy="32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" descr=""/>
          <p:cNvPicPr/>
          <p:nvPr/>
        </p:nvPicPr>
        <p:blipFill>
          <a:blip r:embed="rId5"/>
          <a:srcRect l="29402" t="21461" r="33841" b="25529"/>
          <a:stretch/>
        </p:blipFill>
        <p:spPr>
          <a:xfrm>
            <a:off x="0" y="5084640"/>
            <a:ext cx="1800360" cy="1944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"/>
          <a:srcRect l="31225" t="15591" r="18806" b="21036"/>
          <a:stretch/>
        </p:blipFill>
        <p:spPr>
          <a:xfrm>
            <a:off x="6696000" y="0"/>
            <a:ext cx="2448000" cy="1700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2700360" y="2852640"/>
            <a:ext cx="338436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一粒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3280" y="3284640"/>
            <a:ext cx="338472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种子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9640" y="4653000"/>
            <a:ext cx="8317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粒种子睡在泥土里。他醒过来，觉得很暖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就把身子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挺一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rcRect l="32468" t="24429" r="33779" b="30432"/>
          <a:stretch/>
        </p:blipFill>
        <p:spPr>
          <a:xfrm>
            <a:off x="3492360" y="1700280"/>
            <a:ext cx="215928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00"/>
                            </p:stCondLst>
                            <p:childTnLst>
                              <p:par>
                                <p:cTn id="374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2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600"/>
                            </p:stCondLst>
                            <p:childTnLst>
                              <p:par>
                                <p:cTn id="380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400"/>
                            </p:stCondLst>
                            <p:childTnLst>
                              <p:par>
                                <p:cTn id="386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812000" cy="5084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rcRect l="32468" t="24429" r="33779" b="30432"/>
          <a:stretch/>
        </p:blipFill>
        <p:spPr>
          <a:xfrm>
            <a:off x="3492360" y="1700280"/>
            <a:ext cx="2159280" cy="2087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50920" y="5118120"/>
            <a:ext cx="86040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有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口水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很舒服，又把身子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挺一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48360" y="189000"/>
            <a:ext cx="360360" cy="792000"/>
          </a:xfrm>
          <a:custGeom>
            <a:avLst/>
            <a:gdLst/>
            <a:ahLst/>
            <a:rect l="l" t="t" r="r" b="b"/>
            <a:pathLst>
              <a:path w="1096" h="2162">
                <a:moveTo>
                  <a:pt x="506" y="15"/>
                </a:moveTo>
                <a:cubicBezTo>
                  <a:pt x="325" y="0"/>
                  <a:pt x="0" y="1248"/>
                  <a:pt x="7" y="1603"/>
                </a:cubicBezTo>
                <a:cubicBezTo>
                  <a:pt x="14" y="1958"/>
                  <a:pt x="370" y="2132"/>
                  <a:pt x="551" y="2147"/>
                </a:cubicBezTo>
                <a:cubicBezTo>
                  <a:pt x="732" y="2162"/>
                  <a:pt x="1096" y="2056"/>
                  <a:pt x="1096" y="1693"/>
                </a:cubicBezTo>
                <a:cubicBezTo>
                  <a:pt x="1096" y="1330"/>
                  <a:pt x="687" y="30"/>
                  <a:pt x="506" y="15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01181 0.2993 E">
                                      <p:cBhvr>
                                        <p:cTn id="396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9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300"/>
                            </p:stCondLst>
                            <p:childTnLst>
                              <p:par>
                                <p:cTn id="413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7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100"/>
                            </p:stCondLst>
                            <p:childTnLst>
                              <p:par>
                                <p:cTn id="419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900"/>
                            </p:stCondLst>
                            <p:childTnLst>
                              <p:par>
                                <p:cTn id="425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24207" t="12057" r="14627" b="206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rcRect l="30938" t="11806" r="13811" b="20360"/>
          <a:stretch/>
        </p:blipFill>
        <p:spPr>
          <a:xfrm>
            <a:off x="5580000" y="1557360"/>
            <a:ext cx="3564000" cy="34783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60280"/>
            <a:ext cx="3313080" cy="1511280"/>
          </a:xfrm>
          <a:prstGeom prst="wedgeEllipseCallout">
            <a:avLst>
              <a:gd name="adj1" fmla="val 29060"/>
              <a:gd name="adj2" fmla="val 88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面是什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声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5445000"/>
            <a:ext cx="7777080" cy="1341720"/>
          </a:xfrm>
          <a:prstGeom prst="wedgeRectCallout">
            <a:avLst>
              <a:gd name="adj1" fmla="val 35120"/>
              <a:gd name="adj2" fmla="val -1085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是春风。春风在叫我们到外边去呢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0" y="0"/>
            <a:ext cx="5292720" cy="1773360"/>
          </a:xfrm>
          <a:prstGeom prst="wedgeEllipseCallout">
            <a:avLst>
              <a:gd name="adj1" fmla="val 6689"/>
              <a:gd name="adj2" fmla="val 768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面什么样儿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这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5445000"/>
            <a:ext cx="5327640" cy="863640"/>
          </a:xfrm>
          <a:prstGeom prst="wedgeRectCallout">
            <a:avLst>
              <a:gd name="adj1" fmla="val 46009"/>
              <a:gd name="adj2" fmla="val -1336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，外面亮得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11280" y="260280"/>
            <a:ext cx="85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在唱歌，泉水在唱歌，小鸟在唱歌，小朋友也在唱歌。种子听见外面很热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闹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连忙说：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啊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我要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赶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出去！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79640" y="20606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连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4200" cy="7542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7740720" y="6021360"/>
            <a:ext cx="1008000" cy="647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23249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6" dur="36152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rcRect l="15042" t="8416" r="14083" b="21027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rcRect l="31456" t="24346" r="31543" b="31157"/>
          <a:stretch/>
        </p:blipFill>
        <p:spPr>
          <a:xfrm>
            <a:off x="2700360" y="4437000"/>
            <a:ext cx="1727280" cy="1773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rcRect l="15042" t="9694" r="14083" b="227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rcRect l="33729" t="23345" r="26324" b="36660"/>
          <a:stretch/>
        </p:blipFill>
        <p:spPr>
          <a:xfrm>
            <a:off x="2195640" y="3716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rcRect l="15978" t="10948" r="15042" b="222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rcRect l="15042" t="8416" r="13148" b="19748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7"/>
          <a:srcRect l="15104" t="8831" r="13063" b="19364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9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200"/>
                            </p:stCondLst>
                            <p:childTnLst>
                              <p:par>
                                <p:cTn id="506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1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400"/>
                            </p:stCondLst>
                            <p:childTnLst>
                              <p:par>
                                <p:cTn id="521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7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3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8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300"/>
                            </p:stCondLst>
                            <p:childTnLst>
                              <p:par>
                                <p:cTn id="5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411280" y="5805360"/>
            <a:ext cx="39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3280" y="3141720"/>
            <a:ext cx="864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latin typeface="隶书"/>
              </a:rPr>
              <a:t>“</a:t>
            </a:r>
            <a:r>
              <a:rPr b="1" lang="zh-CN" sz="4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latin typeface="隶书"/>
              </a:rPr>
              <a:t>啊，好一个光明的世界！”</a:t>
            </a:r>
            <a:endParaRPr b="1" lang="en-US" sz="4800" spc="1" strike="noStrike">
              <a:ln w="31680">
                <a:solidFill>
                  <a:srgbClr val="ffffff"/>
                </a:solidFill>
                <a:miter/>
              </a:ln>
              <a:solidFill>
                <a:srgbClr val="3333cc"/>
              </a:solidFill>
              <a:latin typeface="隶书"/>
              <a:ea typeface="隶书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0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1908000" y="2349360"/>
            <a:ext cx="684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53753" dir="2700000" blurRad="0" rotWithShape="0">
                    <a:srgbClr val="000099">
                      <a:alpha val="50000"/>
                    </a:srgbClr>
                  </a:outerShdw>
                </a:effectLst>
                <a:latin typeface="华文新魏"/>
              </a:rPr>
              <a:t>愿同学们快乐地成长！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-792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43280" y="220500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口</a:t>
            </a:r>
            <a:r>
              <a:rPr b="1" lang="zh-CN" sz="15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渴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91280" y="148428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Square721 BT"/>
              </a:rPr>
              <a:t>k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99320" y="1557360"/>
            <a:ext cx="384120" cy="287280"/>
          </a:xfrm>
          <a:custGeom>
            <a:avLst/>
            <a:gdLst/>
            <a:ahLst/>
            <a:rect l="l" t="t" r="r" b="b"/>
            <a:pathLst>
              <a:path w="272" h="227">
                <a:moveTo>
                  <a:pt x="0" y="0"/>
                </a:moveTo>
                <a:cubicBezTo>
                  <a:pt x="45" y="113"/>
                  <a:pt x="91" y="227"/>
                  <a:pt x="136" y="227"/>
                </a:cubicBezTo>
                <a:cubicBezTo>
                  <a:pt x="181" y="227"/>
                  <a:pt x="249" y="38"/>
                  <a:pt x="272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843280" y="220500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喝</a:t>
            </a: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162864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Square721 BT"/>
              </a:rPr>
              <a:t>h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8720" y="191628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843280" y="220500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暖</a:t>
            </a:r>
            <a:r>
              <a:rPr b="1" lang="zh-CN" sz="15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和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159228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Square721 BT"/>
              </a:rPr>
              <a:t>hu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04T08:19:24Z</dcterms:modified>
  <cp:revision>146</cp:revision>
  <dc:subject/>
  <dc:title>PowerPoint Presentation</dc:title>
</cp:coreProperties>
</file>