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bo.wav" ContentType="audio/x-wav"/>
  <Override PartName="/ppt/media/image11.jpeg" ContentType="image/jpeg"/>
  <Override PartName="/ppt/media/image9.png" ContentType="image/png"/>
  <Override PartName="/ppt/media/image7.gif" ContentType="image/gif"/>
  <Override PartName="/ppt/media/image6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12.gif" ContentType="image/gif"/>
  <Override PartName="/ppt/media/image16.jpeg" ContentType="image/jpeg"/>
  <Override PartName="/ppt/media/image13.gif" ContentType="image/gif"/>
  <Override PartName="/ppt/media/image4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do.wav" ContentType="audio/x-wav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064-1799-442F-8267-1A874CFF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25D-50EE-4759-8ECF-48869DB2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D417-C46E-45EC-9321-5600184D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D0A-0510-4C3C-B0D6-F66E4067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CD3-6CA0-4006-93C9-087B9339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48D-A821-4C3E-9BA2-E14564E3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A46-BC1B-49D8-AAAA-6B657DEF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7336-05D2-4BF7-84D5-16C0AA8A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57A5-9A1A-4250-B173-EB95D730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BC1E-5B2E-4291-8E05-7573B3DD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526E-EE1D-4CBF-BD8E-F46F53CC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9F7-E824-474A-8864-1151F0EE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3E58-6C14-4248-9895-EBE0893E4F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bo.wav"/><Relationship Id="rId4" Type="http://schemas.openxmlformats.org/officeDocument/2006/relationships/audio" Target="../media/do.wav"/><Relationship Id="rId5" Type="http://schemas.openxmlformats.org/officeDocument/2006/relationships/audio" Target="../media/bo.wav"/><Relationship Id="rId6" Type="http://schemas.openxmlformats.org/officeDocument/2006/relationships/audio" Target="../media/bo.wav"/><Relationship Id="rId7" Type="http://schemas.openxmlformats.org/officeDocument/2006/relationships/audio" Target="../media/do.wav"/><Relationship Id="rId8" Type="http://schemas.openxmlformats.org/officeDocument/2006/relationships/audio" Target="../media/do.wav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931" r="0" b="11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152000" y="195120"/>
            <a:ext cx="4431600" cy="6402600"/>
            <a:chOff x="1152000" y="195120"/>
            <a:chExt cx="4431600" cy="6402600"/>
          </a:xfrm>
        </p:grpSpPr>
        <p:sp>
          <p:nvSpPr>
            <p:cNvPr id="45" name=""/>
            <p:cNvSpPr/>
            <p:nvPr/>
          </p:nvSpPr>
          <p:spPr>
            <a:xfrm>
              <a:off x="1152000" y="195120"/>
              <a:ext cx="4431600" cy="640260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沾衣欲湿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杏花雨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吹面不寒杨柳风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僧志南 《绝句》</a:t>
              </a: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06480" y="298440"/>
              <a:ext cx="17316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4776120" y="293760"/>
              <a:ext cx="183960" cy="1728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05040" y="6303240"/>
              <a:ext cx="17316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4775040" y="6298560"/>
              <a:ext cx="18432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75672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443640" y="5084640"/>
            <a:ext cx="1944720" cy="15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98" t="3104" r="19825" b="2485"/>
          <a:stretch/>
        </p:blipFill>
        <p:spPr>
          <a:xfrm>
            <a:off x="0" y="692280"/>
            <a:ext cx="9144000" cy="553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3924360" y="907920"/>
            <a:ext cx="2087640" cy="1079640"/>
          </a:xfrm>
          <a:prstGeom prst="wedgeEllipseCallout">
            <a:avLst>
              <a:gd name="adj1" fmla="val -140037"/>
              <a:gd name="adj2" fmla="val 63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房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3141720"/>
            <a:ext cx="2016360" cy="936720"/>
          </a:xfrm>
          <a:prstGeom prst="wedgeEllipseCallout">
            <a:avLst>
              <a:gd name="adj1" fmla="val -35986"/>
              <a:gd name="adj2" fmla="val -110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0320" y="754200"/>
            <a:ext cx="3092400" cy="2149200"/>
          </a:xfrm>
          <a:custGeom>
            <a:avLst/>
            <a:gdLst/>
            <a:ahLst/>
            <a:rect l="l" t="t" r="r" b="b"/>
            <a:pathLst>
              <a:path w="1948" h="1354">
                <a:moveTo>
                  <a:pt x="1948" y="0"/>
                </a:moveTo>
                <a:cubicBezTo>
                  <a:pt x="1911" y="12"/>
                  <a:pt x="1875" y="25"/>
                  <a:pt x="1838" y="37"/>
                </a:cubicBezTo>
                <a:cubicBezTo>
                  <a:pt x="1821" y="43"/>
                  <a:pt x="1808" y="57"/>
                  <a:pt x="1792" y="64"/>
                </a:cubicBezTo>
                <a:cubicBezTo>
                  <a:pt x="1781" y="69"/>
                  <a:pt x="1768" y="71"/>
                  <a:pt x="1756" y="74"/>
                </a:cubicBezTo>
                <a:cubicBezTo>
                  <a:pt x="1707" y="110"/>
                  <a:pt x="1652" y="126"/>
                  <a:pt x="1600" y="156"/>
                </a:cubicBezTo>
                <a:cubicBezTo>
                  <a:pt x="1527" y="198"/>
                  <a:pt x="1452" y="239"/>
                  <a:pt x="1381" y="284"/>
                </a:cubicBezTo>
                <a:cubicBezTo>
                  <a:pt x="1356" y="300"/>
                  <a:pt x="1325" y="305"/>
                  <a:pt x="1299" y="320"/>
                </a:cubicBezTo>
                <a:cubicBezTo>
                  <a:pt x="1255" y="345"/>
                  <a:pt x="1225" y="380"/>
                  <a:pt x="1180" y="403"/>
                </a:cubicBezTo>
                <a:cubicBezTo>
                  <a:pt x="1142" y="422"/>
                  <a:pt x="1157" y="399"/>
                  <a:pt x="1116" y="430"/>
                </a:cubicBezTo>
                <a:cubicBezTo>
                  <a:pt x="1047" y="482"/>
                  <a:pt x="1110" y="457"/>
                  <a:pt x="1052" y="476"/>
                </a:cubicBezTo>
                <a:cubicBezTo>
                  <a:pt x="999" y="529"/>
                  <a:pt x="939" y="555"/>
                  <a:pt x="878" y="595"/>
                </a:cubicBezTo>
                <a:cubicBezTo>
                  <a:pt x="812" y="639"/>
                  <a:pt x="748" y="691"/>
                  <a:pt x="686" y="741"/>
                </a:cubicBezTo>
                <a:cubicBezTo>
                  <a:pt x="671" y="753"/>
                  <a:pt x="652" y="763"/>
                  <a:pt x="640" y="778"/>
                </a:cubicBezTo>
                <a:cubicBezTo>
                  <a:pt x="593" y="836"/>
                  <a:pt x="534" y="879"/>
                  <a:pt x="485" y="933"/>
                </a:cubicBezTo>
                <a:cubicBezTo>
                  <a:pt x="446" y="976"/>
                  <a:pt x="441" y="1001"/>
                  <a:pt x="393" y="1034"/>
                </a:cubicBezTo>
                <a:cubicBezTo>
                  <a:pt x="374" y="1073"/>
                  <a:pt x="362" y="1093"/>
                  <a:pt x="320" y="1107"/>
                </a:cubicBezTo>
                <a:cubicBezTo>
                  <a:pt x="279" y="1148"/>
                  <a:pt x="263" y="1172"/>
                  <a:pt x="211" y="1189"/>
                </a:cubicBezTo>
                <a:cubicBezTo>
                  <a:pt x="187" y="1223"/>
                  <a:pt x="166" y="1235"/>
                  <a:pt x="128" y="1253"/>
                </a:cubicBezTo>
                <a:cubicBezTo>
                  <a:pt x="99" y="1282"/>
                  <a:pt x="74" y="1298"/>
                  <a:pt x="37" y="1317"/>
                </a:cubicBezTo>
                <a:cubicBezTo>
                  <a:pt x="15" y="1350"/>
                  <a:pt x="29" y="1339"/>
                  <a:pt x="0" y="135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900000" y="692280"/>
            <a:ext cx="4103640" cy="2889000"/>
          </a:xfrm>
          <a:custGeom>
            <a:avLst/>
            <a:gdLst/>
            <a:ahLst/>
            <a:rect l="l" t="t" r="r" b="b"/>
            <a:pathLst>
              <a:path w="2449" h="1724">
                <a:moveTo>
                  <a:pt x="2449" y="46"/>
                </a:moveTo>
                <a:lnTo>
                  <a:pt x="0" y="1724"/>
                </a:lnTo>
                <a:lnTo>
                  <a:pt x="0" y="0"/>
                </a:lnTo>
                <a:lnTo>
                  <a:pt x="2404" y="0"/>
                </a:lnTo>
                <a:lnTo>
                  <a:pt x="2449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28440" y="1625760"/>
            <a:ext cx="2060280" cy="1349280"/>
          </a:xfrm>
          <a:custGeom>
            <a:avLst/>
            <a:gdLst/>
            <a:ahLst/>
            <a:rect l="l" t="t" r="r" b="b"/>
            <a:pathLst>
              <a:path w="1298" h="850">
                <a:moveTo>
                  <a:pt x="0" y="850"/>
                </a:moveTo>
                <a:cubicBezTo>
                  <a:pt x="134" y="784"/>
                  <a:pt x="311" y="736"/>
                  <a:pt x="457" y="704"/>
                </a:cubicBezTo>
                <a:cubicBezTo>
                  <a:pt x="498" y="674"/>
                  <a:pt x="541" y="657"/>
                  <a:pt x="585" y="631"/>
                </a:cubicBezTo>
                <a:cubicBezTo>
                  <a:pt x="611" y="591"/>
                  <a:pt x="648" y="579"/>
                  <a:pt x="676" y="539"/>
                </a:cubicBezTo>
                <a:cubicBezTo>
                  <a:pt x="682" y="530"/>
                  <a:pt x="686" y="519"/>
                  <a:pt x="695" y="512"/>
                </a:cubicBezTo>
                <a:cubicBezTo>
                  <a:pt x="722" y="490"/>
                  <a:pt x="758" y="479"/>
                  <a:pt x="786" y="457"/>
                </a:cubicBezTo>
                <a:cubicBezTo>
                  <a:pt x="827" y="425"/>
                  <a:pt x="858" y="389"/>
                  <a:pt x="905" y="366"/>
                </a:cubicBezTo>
                <a:cubicBezTo>
                  <a:pt x="939" y="330"/>
                  <a:pt x="988" y="319"/>
                  <a:pt x="1024" y="283"/>
                </a:cubicBezTo>
                <a:cubicBezTo>
                  <a:pt x="1032" y="275"/>
                  <a:pt x="1035" y="264"/>
                  <a:pt x="1042" y="256"/>
                </a:cubicBezTo>
                <a:cubicBezTo>
                  <a:pt x="1080" y="210"/>
                  <a:pt x="1139" y="170"/>
                  <a:pt x="1188" y="137"/>
                </a:cubicBezTo>
                <a:cubicBezTo>
                  <a:pt x="1217" y="96"/>
                  <a:pt x="1255" y="63"/>
                  <a:pt x="1289" y="27"/>
                </a:cubicBezTo>
                <a:cubicBezTo>
                  <a:pt x="1292" y="18"/>
                  <a:pt x="1298" y="0"/>
                  <a:pt x="1298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81080" y="765000"/>
            <a:ext cx="3600720" cy="3311640"/>
          </a:xfrm>
          <a:custGeom>
            <a:avLst/>
            <a:gdLst/>
            <a:ahLst/>
            <a:rect l="l" t="t" r="r" b="b"/>
            <a:pathLst>
              <a:path w="2268" h="2086">
                <a:moveTo>
                  <a:pt x="2132" y="0"/>
                </a:moveTo>
                <a:lnTo>
                  <a:pt x="2268" y="136"/>
                </a:lnTo>
                <a:lnTo>
                  <a:pt x="2132" y="499"/>
                </a:lnTo>
                <a:lnTo>
                  <a:pt x="0" y="2086"/>
                </a:lnTo>
                <a:lnTo>
                  <a:pt x="0" y="1451"/>
                </a:lnTo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290520" y="1052640"/>
            <a:ext cx="3133800" cy="5184720"/>
          </a:xfrm>
          <a:custGeom>
            <a:avLst/>
            <a:gdLst/>
            <a:ahLst/>
            <a:rect l="l" t="t" r="r" b="b"/>
            <a:pathLst>
              <a:path w="1974" h="3266">
                <a:moveTo>
                  <a:pt x="1974" y="0"/>
                </a:moveTo>
                <a:lnTo>
                  <a:pt x="1929" y="3266"/>
                </a:lnTo>
                <a:lnTo>
                  <a:pt x="1022" y="3266"/>
                </a:lnTo>
                <a:lnTo>
                  <a:pt x="1657" y="2586"/>
                </a:lnTo>
                <a:lnTo>
                  <a:pt x="1838" y="2631"/>
                </a:lnTo>
                <a:lnTo>
                  <a:pt x="1838" y="1134"/>
                </a:lnTo>
                <a:lnTo>
                  <a:pt x="1430" y="1134"/>
                </a:lnTo>
                <a:lnTo>
                  <a:pt x="523" y="1860"/>
                </a:lnTo>
                <a:lnTo>
                  <a:pt x="387" y="2268"/>
                </a:lnTo>
                <a:lnTo>
                  <a:pt x="432" y="3266"/>
                </a:lnTo>
                <a:lnTo>
                  <a:pt x="24" y="3266"/>
                </a:lnTo>
                <a:cubicBezTo>
                  <a:pt x="16" y="2819"/>
                  <a:pt x="8" y="2371"/>
                  <a:pt x="0" y="1924"/>
                </a:cubicBezTo>
                <a:lnTo>
                  <a:pt x="0" y="1316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15920"/>
            <a:ext cx="2305080" cy="1008000"/>
          </a:xfrm>
          <a:prstGeom prst="wedgeEllipseCallout">
            <a:avLst>
              <a:gd name="adj1" fmla="val -38361"/>
              <a:gd name="adj2" fmla="val 73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房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63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798" t="3104" r="19825" b="2485"/>
          <a:stretch/>
        </p:blipFill>
        <p:spPr>
          <a:xfrm>
            <a:off x="0" y="692280"/>
            <a:ext cx="9144000" cy="553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0" y="115920"/>
            <a:ext cx="9144000" cy="460836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afaf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5084640"/>
            <a:ext cx="1944720" cy="15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184464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房檐上，挂水珠，好像串串小铃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3645000"/>
            <a:ext cx="50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26680" y="2440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1484280"/>
            <a:ext cx="64818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rcRect l="798" t="3104" r="61912" b="248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148" name=""/>
          <p:cNvGrpSpPr/>
          <p:nvPr/>
        </p:nvGrpSpPr>
        <p:grpSpPr>
          <a:xfrm>
            <a:off x="6281640" y="794880"/>
            <a:ext cx="1027080" cy="1441440"/>
            <a:chOff x="6281640" y="794880"/>
            <a:chExt cx="1027080" cy="1441440"/>
          </a:xfrm>
        </p:grpSpPr>
        <p:grpSp>
          <p:nvGrpSpPr>
            <p:cNvPr id="149" name=""/>
            <p:cNvGrpSpPr/>
            <p:nvPr/>
          </p:nvGrpSpPr>
          <p:grpSpPr>
            <a:xfrm>
              <a:off x="6325200" y="794880"/>
              <a:ext cx="955440" cy="1441440"/>
              <a:chOff x="6325200" y="794880"/>
              <a:chExt cx="955440" cy="1441440"/>
            </a:xfrm>
          </p:grpSpPr>
          <p:sp>
            <p:nvSpPr>
              <p:cNvPr id="150" name=""/>
              <p:cNvSpPr/>
              <p:nvPr/>
            </p:nvSpPr>
            <p:spPr>
              <a:xfrm rot="900000">
                <a:off x="6480720" y="125352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0800000">
                <a:off x="6424560" y="86616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0800000">
                <a:off x="6384240" y="79488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415000">
                <a:off x="6890040" y="84960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415000">
                <a:off x="6393600" y="157356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700000">
                <a:off x="6683400" y="152532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6281640" y="105372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405240" y="2088720"/>
            <a:ext cx="1027080" cy="1441440"/>
            <a:chOff x="3405240" y="2088720"/>
            <a:chExt cx="1027080" cy="1441440"/>
          </a:xfrm>
        </p:grpSpPr>
        <p:grpSp>
          <p:nvGrpSpPr>
            <p:cNvPr id="158" name=""/>
            <p:cNvGrpSpPr/>
            <p:nvPr/>
          </p:nvGrpSpPr>
          <p:grpSpPr>
            <a:xfrm>
              <a:off x="3448800" y="2088720"/>
              <a:ext cx="955440" cy="1441440"/>
              <a:chOff x="3448800" y="2088720"/>
              <a:chExt cx="955440" cy="1441440"/>
            </a:xfrm>
          </p:grpSpPr>
          <p:sp>
            <p:nvSpPr>
              <p:cNvPr id="159" name=""/>
              <p:cNvSpPr/>
              <p:nvPr/>
            </p:nvSpPr>
            <p:spPr>
              <a:xfrm rot="900000">
                <a:off x="3604320" y="25473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548160" y="21600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0800000">
                <a:off x="3507840" y="20887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415000">
                <a:off x="4013640" y="21434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415000">
                <a:off x="3517200" y="28674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700000">
                <a:off x="3807000" y="28191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405240" y="23475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慢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067280" y="1773000"/>
            <a:ext cx="1027080" cy="1441440"/>
            <a:chOff x="4067280" y="1773000"/>
            <a:chExt cx="1027080" cy="1441440"/>
          </a:xfrm>
        </p:grpSpPr>
        <p:grpSp>
          <p:nvGrpSpPr>
            <p:cNvPr id="167" name=""/>
            <p:cNvGrpSpPr/>
            <p:nvPr/>
          </p:nvGrpSpPr>
          <p:grpSpPr>
            <a:xfrm>
              <a:off x="4110840" y="1773000"/>
              <a:ext cx="955440" cy="1441440"/>
              <a:chOff x="4110840" y="1773000"/>
              <a:chExt cx="955440" cy="1441440"/>
            </a:xfrm>
          </p:grpSpPr>
          <p:sp>
            <p:nvSpPr>
              <p:cNvPr id="168" name=""/>
              <p:cNvSpPr/>
              <p:nvPr/>
            </p:nvSpPr>
            <p:spPr>
              <a:xfrm rot="900000">
                <a:off x="4266360" y="2231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0800000">
                <a:off x="4210200" y="1844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0800000">
                <a:off x="4169880" y="1773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20415000">
                <a:off x="4675680" y="1827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15000">
                <a:off x="4179240" y="2551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700000">
                <a:off x="4469040" y="2503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4067280" y="2031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怕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716360" y="1483920"/>
            <a:ext cx="1027080" cy="1441440"/>
            <a:chOff x="4716360" y="1483920"/>
            <a:chExt cx="1027080" cy="1441440"/>
          </a:xfrm>
        </p:grpSpPr>
        <p:grpSp>
          <p:nvGrpSpPr>
            <p:cNvPr id="176" name=""/>
            <p:cNvGrpSpPr/>
            <p:nvPr/>
          </p:nvGrpSpPr>
          <p:grpSpPr>
            <a:xfrm>
              <a:off x="4759920" y="1483920"/>
              <a:ext cx="955440" cy="1441440"/>
              <a:chOff x="4759920" y="1483920"/>
              <a:chExt cx="955440" cy="1441440"/>
            </a:xfrm>
          </p:grpSpPr>
          <p:sp>
            <p:nvSpPr>
              <p:cNvPr id="177" name=""/>
              <p:cNvSpPr/>
              <p:nvPr/>
            </p:nvSpPr>
            <p:spPr>
              <a:xfrm rot="900000">
                <a:off x="4915440" y="19425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800000">
                <a:off x="4859280" y="15552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0800000">
                <a:off x="4818960" y="14839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0415000">
                <a:off x="5324760" y="15386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0415000">
                <a:off x="4828320" y="22626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700000">
                <a:off x="5118120" y="22143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4716360" y="17427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435640" y="1153800"/>
            <a:ext cx="1027080" cy="1441440"/>
            <a:chOff x="5435640" y="1153800"/>
            <a:chExt cx="1027080" cy="1441440"/>
          </a:xfrm>
        </p:grpSpPr>
        <p:grpSp>
          <p:nvGrpSpPr>
            <p:cNvPr id="185" name=""/>
            <p:cNvGrpSpPr/>
            <p:nvPr/>
          </p:nvGrpSpPr>
          <p:grpSpPr>
            <a:xfrm>
              <a:off x="5479200" y="1153800"/>
              <a:ext cx="955440" cy="1441440"/>
              <a:chOff x="5479200" y="1153800"/>
              <a:chExt cx="955440" cy="1441440"/>
            </a:xfrm>
          </p:grpSpPr>
          <p:sp>
            <p:nvSpPr>
              <p:cNvPr id="186" name=""/>
              <p:cNvSpPr/>
              <p:nvPr/>
            </p:nvSpPr>
            <p:spPr>
              <a:xfrm rot="900000">
                <a:off x="5634720" y="16124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0800000">
                <a:off x="5578560" y="12250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5538240" y="11538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0415000">
                <a:off x="6044040" y="12085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0415000">
                <a:off x="5547600" y="19324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700000">
                <a:off x="5837400" y="18842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5435640" y="14126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8360" y="3314520"/>
            <a:ext cx="1027080" cy="1441440"/>
            <a:chOff x="468360" y="3314520"/>
            <a:chExt cx="1027080" cy="1441440"/>
          </a:xfrm>
        </p:grpSpPr>
        <p:grpSp>
          <p:nvGrpSpPr>
            <p:cNvPr id="194" name=""/>
            <p:cNvGrpSpPr/>
            <p:nvPr/>
          </p:nvGrpSpPr>
          <p:grpSpPr>
            <a:xfrm>
              <a:off x="511920" y="3314520"/>
              <a:ext cx="955440" cy="1441440"/>
              <a:chOff x="511920" y="3314520"/>
              <a:chExt cx="955440" cy="1441440"/>
            </a:xfrm>
          </p:grpSpPr>
          <p:sp>
            <p:nvSpPr>
              <p:cNvPr id="195" name=""/>
              <p:cNvSpPr/>
              <p:nvPr/>
            </p:nvSpPr>
            <p:spPr>
              <a:xfrm rot="900000">
                <a:off x="667440" y="3773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0800000">
                <a:off x="611280" y="33858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0800000">
                <a:off x="570960" y="33145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20415000">
                <a:off x="1076760" y="3369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20415000">
                <a:off x="580320" y="4093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2700000">
                <a:off x="870120" y="4044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468360" y="35733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沙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12920" y="2997000"/>
            <a:ext cx="1027080" cy="1441440"/>
            <a:chOff x="1312920" y="2997000"/>
            <a:chExt cx="1027080" cy="1441440"/>
          </a:xfrm>
        </p:grpSpPr>
        <p:grpSp>
          <p:nvGrpSpPr>
            <p:cNvPr id="203" name=""/>
            <p:cNvGrpSpPr/>
            <p:nvPr/>
          </p:nvGrpSpPr>
          <p:grpSpPr>
            <a:xfrm>
              <a:off x="1356480" y="2997000"/>
              <a:ext cx="955440" cy="1441440"/>
              <a:chOff x="1356480" y="2997000"/>
              <a:chExt cx="955440" cy="1441440"/>
            </a:xfrm>
          </p:grpSpPr>
          <p:sp>
            <p:nvSpPr>
              <p:cNvPr id="204" name=""/>
              <p:cNvSpPr/>
              <p:nvPr/>
            </p:nvSpPr>
            <p:spPr>
              <a:xfrm rot="900000">
                <a:off x="1512000" y="3455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0800000">
                <a:off x="1455840" y="3068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0800000">
                <a:off x="1415520" y="2997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20415000">
                <a:off x="1921320" y="3051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0415000">
                <a:off x="1424880" y="3775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2700000">
                <a:off x="1714680" y="3727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312920" y="3255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608200" y="2420640"/>
            <a:ext cx="1027080" cy="1441440"/>
            <a:chOff x="2608200" y="2420640"/>
            <a:chExt cx="1027080" cy="1441440"/>
          </a:xfrm>
        </p:grpSpPr>
        <p:grpSp>
          <p:nvGrpSpPr>
            <p:cNvPr id="212" name=""/>
            <p:cNvGrpSpPr/>
            <p:nvPr/>
          </p:nvGrpSpPr>
          <p:grpSpPr>
            <a:xfrm>
              <a:off x="2651760" y="2420640"/>
              <a:ext cx="955440" cy="1441440"/>
              <a:chOff x="2651760" y="2420640"/>
              <a:chExt cx="955440" cy="1441440"/>
            </a:xfrm>
          </p:grpSpPr>
          <p:sp>
            <p:nvSpPr>
              <p:cNvPr id="213" name=""/>
              <p:cNvSpPr/>
              <p:nvPr/>
            </p:nvSpPr>
            <p:spPr>
              <a:xfrm rot="900000">
                <a:off x="2807280" y="287928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0800000">
                <a:off x="2751120" y="249192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0800000">
                <a:off x="2710800" y="242064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15000">
                <a:off x="3216600" y="247536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415000">
                <a:off x="2720160" y="319932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700000">
                <a:off x="3009960" y="315108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2608200" y="267948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快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05280" y="1874520"/>
            <a:ext cx="1027080" cy="1441440"/>
            <a:chOff x="3905280" y="1874520"/>
            <a:chExt cx="1027080" cy="1441440"/>
          </a:xfrm>
        </p:grpSpPr>
        <p:grpSp>
          <p:nvGrpSpPr>
            <p:cNvPr id="221" name=""/>
            <p:cNvGrpSpPr/>
            <p:nvPr/>
          </p:nvGrpSpPr>
          <p:grpSpPr>
            <a:xfrm>
              <a:off x="3948840" y="1874520"/>
              <a:ext cx="955440" cy="1441440"/>
              <a:chOff x="3948840" y="1874520"/>
              <a:chExt cx="955440" cy="1441440"/>
            </a:xfrm>
          </p:grpSpPr>
          <p:sp>
            <p:nvSpPr>
              <p:cNvPr id="222" name=""/>
              <p:cNvSpPr/>
              <p:nvPr/>
            </p:nvSpPr>
            <p:spPr>
              <a:xfrm rot="900000">
                <a:off x="4104360" y="2333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4048200" y="19458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4007880" y="18745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0415000">
                <a:off x="4513680" y="1929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0415000">
                <a:off x="4017240" y="2653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700000">
                <a:off x="4307040" y="2604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905280" y="21333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盖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697280" y="1557000"/>
            <a:ext cx="1027080" cy="1441440"/>
            <a:chOff x="4697280" y="1557000"/>
            <a:chExt cx="1027080" cy="1441440"/>
          </a:xfrm>
        </p:grpSpPr>
        <p:grpSp>
          <p:nvGrpSpPr>
            <p:cNvPr id="230" name=""/>
            <p:cNvGrpSpPr/>
            <p:nvPr/>
          </p:nvGrpSpPr>
          <p:grpSpPr>
            <a:xfrm>
              <a:off x="4740840" y="1557000"/>
              <a:ext cx="955440" cy="1441440"/>
              <a:chOff x="4740840" y="1557000"/>
              <a:chExt cx="955440" cy="1441440"/>
            </a:xfrm>
          </p:grpSpPr>
          <p:sp>
            <p:nvSpPr>
              <p:cNvPr id="231" name=""/>
              <p:cNvSpPr/>
              <p:nvPr/>
            </p:nvSpPr>
            <p:spPr>
              <a:xfrm rot="900000">
                <a:off x="4896360" y="2015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0800000">
                <a:off x="4840200" y="1628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0800000">
                <a:off x="4799880" y="1557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0415000">
                <a:off x="5305680" y="1611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0415000">
                <a:off x="4809240" y="2335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700000">
                <a:off x="5099040" y="2287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4697280" y="1815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435640" y="1196640"/>
            <a:ext cx="1027080" cy="1441440"/>
            <a:chOff x="5435640" y="1196640"/>
            <a:chExt cx="1027080" cy="1441440"/>
          </a:xfrm>
        </p:grpSpPr>
        <p:grpSp>
          <p:nvGrpSpPr>
            <p:cNvPr id="239" name=""/>
            <p:cNvGrpSpPr/>
            <p:nvPr/>
          </p:nvGrpSpPr>
          <p:grpSpPr>
            <a:xfrm>
              <a:off x="5479200" y="1196640"/>
              <a:ext cx="955440" cy="1441440"/>
              <a:chOff x="5479200" y="1196640"/>
              <a:chExt cx="955440" cy="1441440"/>
            </a:xfrm>
          </p:grpSpPr>
          <p:sp>
            <p:nvSpPr>
              <p:cNvPr id="240" name=""/>
              <p:cNvSpPr/>
              <p:nvPr/>
            </p:nvSpPr>
            <p:spPr>
              <a:xfrm rot="900000">
                <a:off x="5634720" y="165528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0800000">
                <a:off x="5578560" y="126792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0800000">
                <a:off x="5538240" y="119664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0415000">
                <a:off x="6044040" y="125136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0415000">
                <a:off x="5547600" y="197532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700000">
                <a:off x="5837400" y="192708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435640" y="145548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铃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208560" y="866520"/>
            <a:ext cx="1027440" cy="1441440"/>
            <a:chOff x="6208560" y="866520"/>
            <a:chExt cx="1027440" cy="1441440"/>
          </a:xfrm>
        </p:grpSpPr>
        <p:grpSp>
          <p:nvGrpSpPr>
            <p:cNvPr id="248" name=""/>
            <p:cNvGrpSpPr/>
            <p:nvPr/>
          </p:nvGrpSpPr>
          <p:grpSpPr>
            <a:xfrm>
              <a:off x="6252480" y="866520"/>
              <a:ext cx="955440" cy="1441440"/>
              <a:chOff x="6252480" y="866520"/>
              <a:chExt cx="955440" cy="1441440"/>
            </a:xfrm>
          </p:grpSpPr>
          <p:sp>
            <p:nvSpPr>
              <p:cNvPr id="249" name=""/>
              <p:cNvSpPr/>
              <p:nvPr/>
            </p:nvSpPr>
            <p:spPr>
              <a:xfrm rot="900000">
                <a:off x="6408000" y="1325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0800000">
                <a:off x="6351480" y="937800"/>
                <a:ext cx="74052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0800000">
                <a:off x="6311880" y="866520"/>
                <a:ext cx="81864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0415000">
                <a:off x="6817680" y="921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0415000">
                <a:off x="6320880" y="1645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700000">
                <a:off x="6610680" y="1596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6208560" y="1125360"/>
              <a:ext cx="10274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铛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.wav"/>
                                        </p:tgtEl>
                                      </p:cMediaNode>
                                    </p:audio>
                                    <p:animMotion origin="layout" path="M -1.66667E-006 2.96296E-006 L -1.66667E-006 0.6331 E">
                                      <p:cBhvr>
                                        <p:cTn id="148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o.wav"/>
                                        </p:tgtEl>
                                      </p:cMediaNode>
                                    </p:audio>
                                    <p:animMotion origin="layout" path="M -1.66667E-006 2.96296E-006 L -1.66667E-006 0.87893 E">
                                      <p:cBhvr>
                                        <p:cTn id="153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.wav"/>
                                        </p:tgtEl>
                                      </p:cMediaNode>
                                    </p:audio>
                                    <p:animMotion origin="layout" path="M 2.77778E-007 -3.33333E-006 L 2.77778E-007 0.84306 E">
                                      <p:cBhvr>
                                        <p:cTn id="158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.wav"/>
                                        </p:tgtEl>
                                      </p:cMediaNode>
                                    </p:audio>
                                    <p:animMotion origin="layout" path="M 5.55556E-007 -2.59259E-006 L 5.55556E-007 0.97963 E">
                                      <p:cBhvr>
                                        <p:cTn id="163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o.wav"/>
                                        </p:tgtEl>
                                      </p:cMediaNode>
                                    </p:audio>
                                    <p:animMotion origin="layout" path="M -8.33333E-007 -7.40741E-007 L -8.33333E-007 0.93148 E">
                                      <p:cBhvr>
                                        <p:cTn id="168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o.wav"/>
                                        </p:tgtEl>
                                      </p:cMediaNode>
                                    </p:audio>
                                    <p:animMotion origin="layout" path="M -2.77778E-006 -7.40741E-007 L -2.77778E-006 0.6794 E">
                                      <p:cBhvr>
                                        <p:cTn id="173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340000" y="47628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26352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2920" y="148428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38210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4984920"/>
            <a:ext cx="39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482920" y="27432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2920" y="148428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20960" y="2637000"/>
            <a:ext cx="73080" cy="7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482920" y="1773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987640" y="1341360"/>
            <a:ext cx="238752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招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987640" y="1700280"/>
            <a:ext cx="2736720" cy="2736720"/>
            <a:chOff x="2987640" y="1700280"/>
            <a:chExt cx="2736720" cy="2736720"/>
          </a:xfrm>
        </p:grpSpPr>
        <p:sp>
          <p:nvSpPr>
            <p:cNvPr id="271" name=""/>
            <p:cNvSpPr/>
            <p:nvPr/>
          </p:nvSpPr>
          <p:spPr>
            <a:xfrm>
              <a:off x="2987640" y="1700280"/>
              <a:ext cx="2736720" cy="2736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56000" y="1700280"/>
              <a:ext cx="0" cy="2736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87640" y="3068640"/>
              <a:ext cx="2736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rcRect l="798" t="3104" r="29513" b="24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6" name=""/>
          <p:cNvSpPr/>
          <p:nvPr/>
        </p:nvSpPr>
        <p:spPr>
          <a:xfrm>
            <a:off x="-1405080" y="-1179360"/>
            <a:ext cx="11736360" cy="84960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afaf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16360" y="18064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2970360"/>
            <a:ext cx="39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0" y="5994360"/>
            <a:ext cx="576360" cy="863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1773360"/>
            <a:ext cx="741672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春雨招呼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946800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>
            <a:lum contrast="6000"/>
          </a:blip>
          <a:srcRect l="-1224" t="4698" r="0" b="1030"/>
          <a:stretch/>
        </p:blipFill>
        <p:spPr>
          <a:xfrm>
            <a:off x="-231840" y="-42840"/>
            <a:ext cx="9653760" cy="7029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9120" y="0"/>
            <a:ext cx="7938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626720" y="260280"/>
            <a:ext cx="3198960" cy="6338880"/>
            <a:chOff x="4626720" y="260280"/>
            <a:chExt cx="3198960" cy="6338880"/>
          </a:xfrm>
        </p:grpSpPr>
        <p:sp>
          <p:nvSpPr>
            <p:cNvPr id="55" name=""/>
            <p:cNvSpPr/>
            <p:nvPr/>
          </p:nvSpPr>
          <p:spPr>
            <a:xfrm>
              <a:off x="4626720" y="260280"/>
              <a:ext cx="3198960" cy="633888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夜来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风雨声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花落知多少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孟浩然《春晓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21040" y="331560"/>
              <a:ext cx="17280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518960" y="326880"/>
              <a:ext cx="18396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719600" y="6336360"/>
              <a:ext cx="17244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7518240" y="6331680"/>
              <a:ext cx="18360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80640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rcRect l="0" t="22299" r="0" b="0"/>
          <a:stretch/>
        </p:blipFill>
        <p:spPr>
          <a:xfrm>
            <a:off x="0" y="836640"/>
            <a:ext cx="9144000" cy="5100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rcRect l="0" t="0" r="0" b="15062"/>
          <a:stretch/>
        </p:blipFill>
        <p:spPr>
          <a:xfrm>
            <a:off x="0" y="828720"/>
            <a:ext cx="9144000" cy="5121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340000" y="260280"/>
            <a:ext cx="396072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                      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961236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97160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《雨铃铛》_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0"/>
            <a:ext cx="78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小雨小雨沙沙响，沙沙响，洒在洒在房檐上房檐上，哎呀呀，水珠真美，哎呀呀，像串小铃铛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060640"/>
            <a:ext cx="78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小雨小雨沙沙响，沙沙响，它在招呼小燕子小燕子，哎呀呀，快快回来，哎呀呀，回来盖新房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0" b="1115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3763440" y="227160"/>
            <a:ext cx="4836960" cy="6460920"/>
            <a:chOff x="3763440" y="227160"/>
            <a:chExt cx="4836960" cy="6460920"/>
          </a:xfrm>
        </p:grpSpPr>
        <p:sp>
          <p:nvSpPr>
            <p:cNvPr id="65" name=""/>
            <p:cNvSpPr/>
            <p:nvPr/>
          </p:nvSpPr>
          <p:spPr>
            <a:xfrm>
              <a:off x="4521240" y="1055520"/>
              <a:ext cx="1098720" cy="44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63440" y="227160"/>
              <a:ext cx="4836960" cy="646092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清明时节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雨纷纷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路上行人欲断魂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　   ——杜牧《清明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26200" y="376920"/>
              <a:ext cx="172800" cy="17208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738560" y="372240"/>
              <a:ext cx="183960" cy="1717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424400" y="6346800"/>
              <a:ext cx="173160" cy="1591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7737480" y="6342120"/>
              <a:ext cx="184320" cy="1591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268360" y="2565360"/>
            <a:ext cx="48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！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>
            <a:lum bright="18000"/>
          </a:blip>
          <a:srcRect l="0" t="0" r="0" b="80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250560" y="907920"/>
            <a:ext cx="8623800" cy="5041800"/>
            <a:chOff x="250560" y="907920"/>
            <a:chExt cx="8623800" cy="5041800"/>
          </a:xfrm>
        </p:grpSpPr>
        <p:sp>
          <p:nvSpPr>
            <p:cNvPr id="74" name=""/>
            <p:cNvSpPr/>
            <p:nvPr/>
          </p:nvSpPr>
          <p:spPr>
            <a:xfrm>
              <a:off x="250560" y="907920"/>
              <a:ext cx="8623800" cy="504180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好雨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知时节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当春乃发生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随风潜入夜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润物细无声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杜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《春夜喜雨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45800" y="992160"/>
              <a:ext cx="347400" cy="3474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679160" y="987120"/>
              <a:ext cx="369720" cy="3477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045800" y="5522760"/>
              <a:ext cx="336240" cy="31104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7671960" y="5515560"/>
              <a:ext cx="358560" cy="31284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4248360" cy="3911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80000" y="1341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铃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rot="1921800">
            <a:off x="7524720" y="260280"/>
            <a:ext cx="1150920" cy="104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-4286160" y="1450080"/>
            <a:ext cx="5905440" cy="18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efefe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atin typeface="华文新魏"/>
              </a:rPr>
              <a:t>雨铃铛</a:t>
            </a:r>
            <a:endParaRPr b="0" lang="en-US" sz="8000" spc="1" strike="noStrike">
              <a:ln w="0">
                <a:noFill/>
              </a:ln>
              <a:gradFill rotWithShape="0">
                <a:gsLst>
                  <a:gs pos="0">
                    <a:srgbClr val="fefefe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19280" y="1014480"/>
            <a:ext cx="590544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雨铃铛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71640" y="404640"/>
            <a:ext cx="396108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                      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87280" y="1306440"/>
            <a:ext cx="712800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沙沙响     盖新房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挂水珠 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串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招 呼       房檐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丁零当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3500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422440"/>
            <a:ext cx="1224000" cy="93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573360"/>
            <a:ext cx="100800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2200" y="476280"/>
            <a:ext cx="22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ā    xi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476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8560" y="2060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42940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hāo  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20574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uà    z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494172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līn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lā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2637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2565360"/>
            <a:ext cx="208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407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407664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5516640"/>
            <a:ext cx="295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1306440"/>
            <a:ext cx="712800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沙沙响     盖新房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挂水珠 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串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招 呼       房檐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丁零当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422440"/>
            <a:ext cx="1224000" cy="93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573360"/>
            <a:ext cx="100800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2200" y="476280"/>
            <a:ext cx="22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ā    xi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476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78560" y="2060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42940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hāo  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20574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uà    z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ng     l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2637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2565360"/>
            <a:ext cx="208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407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407664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5516640"/>
            <a:ext cx="295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04:14:28Z</dcterms:created>
  <dc:creator>USER</dc:creator>
  <dc:description/>
  <dc:language>en-US</dc:language>
  <cp:lastModifiedBy>User</cp:lastModifiedBy>
  <dcterms:modified xsi:type="dcterms:W3CDTF">2013-04-17T15:13:05Z</dcterms:modified>
  <cp:revision>118</cp:revision>
  <dc:subject/>
  <dc:title>幻灯片 1</dc:title>
</cp:coreProperties>
</file>