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bo.wav" ContentType="audio/x-wav"/>
  <Override PartName="/ppt/media/image11.jpeg" ContentType="image/jpeg"/>
  <Override PartName="/ppt/media/image9.png" ContentType="image/png"/>
  <Override PartName="/ppt/media/image7.gif" ContentType="image/gif"/>
  <Override PartName="/ppt/media/image6.jpeg" ContentType="image/jpeg"/>
  <Override PartName="/ppt/media/image10.png" ContentType="image/png"/>
  <Override PartName="/ppt/media/image8.gif" ContentType="image/gif"/>
  <Override PartName="/ppt/media/image18.jpeg" ContentType="image/jpeg"/>
  <Override PartName="/ppt/media/image19.png" ContentType="image/png"/>
  <Override PartName="/ppt/media/image15.jpeg" ContentType="image/jpeg"/>
  <Override PartName="/ppt/media/image14.jpeg" ContentType="image/jpeg"/>
  <Override PartName="/ppt/media/image12.gif" ContentType="image/gif"/>
  <Override PartName="/ppt/media/image16.jpeg" ContentType="image/jpeg"/>
  <Override PartName="/ppt/media/image13.gif" ContentType="image/gif"/>
  <Override PartName="/ppt/media/image4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do.wav" ContentType="audio/x-wav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1B25-63CA-4F06-B785-6A57F4132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0067-F30A-44FB-A674-510A83CF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8406-9805-4535-BAAE-9AF38FA7B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ADB3-4FC6-4DDB-8B0E-135F78C85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AC08-2571-4320-83DF-84EB6029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F37C-068C-4836-9C69-A966EC82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1E83-BEDD-429B-B690-4B0E1352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03FB-7834-4346-8E81-3E73CA58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1690-0F24-4EAF-B433-6AD81467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AFA3-FEE8-4929-BE4F-28467873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57C3-FB2B-44B4-8042-D73CD574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3721-46BC-4A5D-B31F-9C11B852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76CB-D296-4BC1-9791-B3BE71843D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audio" Target="../media/bo.wav"/><Relationship Id="rId4" Type="http://schemas.openxmlformats.org/officeDocument/2006/relationships/audio" Target="../media/do.wav"/><Relationship Id="rId5" Type="http://schemas.openxmlformats.org/officeDocument/2006/relationships/audio" Target="../media/bo.wav"/><Relationship Id="rId6" Type="http://schemas.openxmlformats.org/officeDocument/2006/relationships/audio" Target="../media/bo.wav"/><Relationship Id="rId7" Type="http://schemas.openxmlformats.org/officeDocument/2006/relationships/audio" Target="../media/do.wav"/><Relationship Id="rId8" Type="http://schemas.openxmlformats.org/officeDocument/2006/relationships/audio" Target="../media/do.wav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1931" r="0" b="11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1152000" y="195120"/>
            <a:ext cx="4431600" cy="6402600"/>
            <a:chOff x="1152000" y="195120"/>
            <a:chExt cx="4431600" cy="6402600"/>
          </a:xfrm>
        </p:grpSpPr>
        <p:sp>
          <p:nvSpPr>
            <p:cNvPr id="45" name=""/>
            <p:cNvSpPr/>
            <p:nvPr/>
          </p:nvSpPr>
          <p:spPr>
            <a:xfrm>
              <a:off x="1152000" y="195120"/>
              <a:ext cx="4431600" cy="6402600"/>
            </a:xfrm>
            <a:prstGeom prst="plus">
              <a:avLst>
                <a:gd name="adj" fmla="val 12903"/>
              </a:avLst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沾衣欲湿</a:t>
              </a:r>
              <a:r>
                <a:rPr b="1" lang="zh-CN" sz="48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杏花雨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吹面不寒杨柳风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——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僧志南 《绝句》</a:t>
              </a:r>
              <a:r>
                <a:rPr b="1" lang="zh-CN" sz="6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06480" y="298440"/>
              <a:ext cx="173160" cy="17316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4776120" y="293760"/>
              <a:ext cx="183960" cy="17280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05040" y="6303240"/>
              <a:ext cx="173160" cy="16020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4775040" y="6298560"/>
              <a:ext cx="184320" cy="16020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975672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443640" y="5084640"/>
            <a:ext cx="1944720" cy="158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798" t="3104" r="19825" b="2485"/>
          <a:stretch/>
        </p:blipFill>
        <p:spPr>
          <a:xfrm>
            <a:off x="0" y="692280"/>
            <a:ext cx="9144000" cy="5533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3924360" y="907920"/>
            <a:ext cx="2087640" cy="1079640"/>
          </a:xfrm>
          <a:prstGeom prst="wedgeEllipseCallout">
            <a:avLst>
              <a:gd name="adj1" fmla="val -140037"/>
              <a:gd name="adj2" fmla="val 63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房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68360" y="3141720"/>
            <a:ext cx="2016360" cy="936720"/>
          </a:xfrm>
          <a:prstGeom prst="wedgeEllipseCallout">
            <a:avLst>
              <a:gd name="adj1" fmla="val -35986"/>
              <a:gd name="adj2" fmla="val -1108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0320" y="754200"/>
            <a:ext cx="3092400" cy="2149200"/>
          </a:xfrm>
          <a:custGeom>
            <a:avLst/>
            <a:gdLst/>
            <a:ahLst/>
            <a:rect l="l" t="t" r="r" b="b"/>
            <a:pathLst>
              <a:path w="1948" h="1354">
                <a:moveTo>
                  <a:pt x="1948" y="0"/>
                </a:moveTo>
                <a:cubicBezTo>
                  <a:pt x="1911" y="12"/>
                  <a:pt x="1875" y="25"/>
                  <a:pt x="1838" y="37"/>
                </a:cubicBezTo>
                <a:cubicBezTo>
                  <a:pt x="1821" y="43"/>
                  <a:pt x="1808" y="57"/>
                  <a:pt x="1792" y="64"/>
                </a:cubicBezTo>
                <a:cubicBezTo>
                  <a:pt x="1781" y="69"/>
                  <a:pt x="1768" y="71"/>
                  <a:pt x="1756" y="74"/>
                </a:cubicBezTo>
                <a:cubicBezTo>
                  <a:pt x="1707" y="110"/>
                  <a:pt x="1652" y="126"/>
                  <a:pt x="1600" y="156"/>
                </a:cubicBezTo>
                <a:cubicBezTo>
                  <a:pt x="1527" y="198"/>
                  <a:pt x="1452" y="239"/>
                  <a:pt x="1381" y="284"/>
                </a:cubicBezTo>
                <a:cubicBezTo>
                  <a:pt x="1356" y="300"/>
                  <a:pt x="1325" y="305"/>
                  <a:pt x="1299" y="320"/>
                </a:cubicBezTo>
                <a:cubicBezTo>
                  <a:pt x="1255" y="345"/>
                  <a:pt x="1225" y="380"/>
                  <a:pt x="1180" y="403"/>
                </a:cubicBezTo>
                <a:cubicBezTo>
                  <a:pt x="1142" y="422"/>
                  <a:pt x="1157" y="399"/>
                  <a:pt x="1116" y="430"/>
                </a:cubicBezTo>
                <a:cubicBezTo>
                  <a:pt x="1047" y="482"/>
                  <a:pt x="1110" y="457"/>
                  <a:pt x="1052" y="476"/>
                </a:cubicBezTo>
                <a:cubicBezTo>
                  <a:pt x="999" y="529"/>
                  <a:pt x="939" y="555"/>
                  <a:pt x="878" y="595"/>
                </a:cubicBezTo>
                <a:cubicBezTo>
                  <a:pt x="812" y="639"/>
                  <a:pt x="748" y="691"/>
                  <a:pt x="686" y="741"/>
                </a:cubicBezTo>
                <a:cubicBezTo>
                  <a:pt x="671" y="753"/>
                  <a:pt x="652" y="763"/>
                  <a:pt x="640" y="778"/>
                </a:cubicBezTo>
                <a:cubicBezTo>
                  <a:pt x="593" y="836"/>
                  <a:pt x="534" y="879"/>
                  <a:pt x="485" y="933"/>
                </a:cubicBezTo>
                <a:cubicBezTo>
                  <a:pt x="446" y="976"/>
                  <a:pt x="441" y="1001"/>
                  <a:pt x="393" y="1034"/>
                </a:cubicBezTo>
                <a:cubicBezTo>
                  <a:pt x="374" y="1073"/>
                  <a:pt x="362" y="1093"/>
                  <a:pt x="320" y="1107"/>
                </a:cubicBezTo>
                <a:cubicBezTo>
                  <a:pt x="279" y="1148"/>
                  <a:pt x="263" y="1172"/>
                  <a:pt x="211" y="1189"/>
                </a:cubicBezTo>
                <a:cubicBezTo>
                  <a:pt x="187" y="1223"/>
                  <a:pt x="166" y="1235"/>
                  <a:pt x="128" y="1253"/>
                </a:cubicBezTo>
                <a:cubicBezTo>
                  <a:pt x="99" y="1282"/>
                  <a:pt x="74" y="1298"/>
                  <a:pt x="37" y="1317"/>
                </a:cubicBezTo>
                <a:cubicBezTo>
                  <a:pt x="15" y="1350"/>
                  <a:pt x="29" y="1339"/>
                  <a:pt x="0" y="135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900000" y="692280"/>
            <a:ext cx="4103640" cy="2889000"/>
          </a:xfrm>
          <a:custGeom>
            <a:avLst/>
            <a:gdLst/>
            <a:ahLst/>
            <a:rect l="l" t="t" r="r" b="b"/>
            <a:pathLst>
              <a:path w="2449" h="1724">
                <a:moveTo>
                  <a:pt x="2449" y="46"/>
                </a:moveTo>
                <a:lnTo>
                  <a:pt x="0" y="1724"/>
                </a:lnTo>
                <a:lnTo>
                  <a:pt x="0" y="0"/>
                </a:lnTo>
                <a:lnTo>
                  <a:pt x="2404" y="0"/>
                </a:lnTo>
                <a:lnTo>
                  <a:pt x="2449" y="4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28440" y="1625760"/>
            <a:ext cx="2060280" cy="1349280"/>
          </a:xfrm>
          <a:custGeom>
            <a:avLst/>
            <a:gdLst/>
            <a:ahLst/>
            <a:rect l="l" t="t" r="r" b="b"/>
            <a:pathLst>
              <a:path w="1298" h="850">
                <a:moveTo>
                  <a:pt x="0" y="850"/>
                </a:moveTo>
                <a:cubicBezTo>
                  <a:pt x="134" y="784"/>
                  <a:pt x="311" y="736"/>
                  <a:pt x="457" y="704"/>
                </a:cubicBezTo>
                <a:cubicBezTo>
                  <a:pt x="498" y="674"/>
                  <a:pt x="541" y="657"/>
                  <a:pt x="585" y="631"/>
                </a:cubicBezTo>
                <a:cubicBezTo>
                  <a:pt x="611" y="591"/>
                  <a:pt x="648" y="579"/>
                  <a:pt x="676" y="539"/>
                </a:cubicBezTo>
                <a:cubicBezTo>
                  <a:pt x="682" y="530"/>
                  <a:pt x="686" y="519"/>
                  <a:pt x="695" y="512"/>
                </a:cubicBezTo>
                <a:cubicBezTo>
                  <a:pt x="722" y="490"/>
                  <a:pt x="758" y="479"/>
                  <a:pt x="786" y="457"/>
                </a:cubicBezTo>
                <a:cubicBezTo>
                  <a:pt x="827" y="425"/>
                  <a:pt x="858" y="389"/>
                  <a:pt x="905" y="366"/>
                </a:cubicBezTo>
                <a:cubicBezTo>
                  <a:pt x="939" y="330"/>
                  <a:pt x="988" y="319"/>
                  <a:pt x="1024" y="283"/>
                </a:cubicBezTo>
                <a:cubicBezTo>
                  <a:pt x="1032" y="275"/>
                  <a:pt x="1035" y="264"/>
                  <a:pt x="1042" y="256"/>
                </a:cubicBezTo>
                <a:cubicBezTo>
                  <a:pt x="1080" y="210"/>
                  <a:pt x="1139" y="170"/>
                  <a:pt x="1188" y="137"/>
                </a:cubicBezTo>
                <a:cubicBezTo>
                  <a:pt x="1217" y="96"/>
                  <a:pt x="1255" y="63"/>
                  <a:pt x="1289" y="27"/>
                </a:cubicBezTo>
                <a:cubicBezTo>
                  <a:pt x="1292" y="18"/>
                  <a:pt x="1298" y="0"/>
                  <a:pt x="1298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181080" y="765000"/>
            <a:ext cx="3600720" cy="3311640"/>
          </a:xfrm>
          <a:custGeom>
            <a:avLst/>
            <a:gdLst/>
            <a:ahLst/>
            <a:rect l="l" t="t" r="r" b="b"/>
            <a:pathLst>
              <a:path w="2268" h="2086">
                <a:moveTo>
                  <a:pt x="2132" y="0"/>
                </a:moveTo>
                <a:lnTo>
                  <a:pt x="2268" y="136"/>
                </a:lnTo>
                <a:lnTo>
                  <a:pt x="2132" y="499"/>
                </a:lnTo>
                <a:lnTo>
                  <a:pt x="0" y="2086"/>
                </a:lnTo>
                <a:lnTo>
                  <a:pt x="0" y="1451"/>
                </a:lnTo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290520" y="1052640"/>
            <a:ext cx="3133800" cy="5184720"/>
          </a:xfrm>
          <a:custGeom>
            <a:avLst/>
            <a:gdLst/>
            <a:ahLst/>
            <a:rect l="l" t="t" r="r" b="b"/>
            <a:pathLst>
              <a:path w="1974" h="3266">
                <a:moveTo>
                  <a:pt x="1974" y="0"/>
                </a:moveTo>
                <a:lnTo>
                  <a:pt x="1929" y="3266"/>
                </a:lnTo>
                <a:lnTo>
                  <a:pt x="1022" y="3266"/>
                </a:lnTo>
                <a:lnTo>
                  <a:pt x="1657" y="2586"/>
                </a:lnTo>
                <a:lnTo>
                  <a:pt x="1838" y="2631"/>
                </a:lnTo>
                <a:lnTo>
                  <a:pt x="1838" y="1134"/>
                </a:lnTo>
                <a:lnTo>
                  <a:pt x="1430" y="1134"/>
                </a:lnTo>
                <a:lnTo>
                  <a:pt x="523" y="1860"/>
                </a:lnTo>
                <a:lnTo>
                  <a:pt x="387" y="2268"/>
                </a:lnTo>
                <a:lnTo>
                  <a:pt x="432" y="3266"/>
                </a:lnTo>
                <a:lnTo>
                  <a:pt x="24" y="3266"/>
                </a:lnTo>
                <a:cubicBezTo>
                  <a:pt x="16" y="2819"/>
                  <a:pt x="8" y="2371"/>
                  <a:pt x="0" y="1924"/>
                </a:cubicBezTo>
                <a:lnTo>
                  <a:pt x="0" y="1316"/>
                </a:ln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115920"/>
            <a:ext cx="2305080" cy="1008000"/>
          </a:xfrm>
          <a:prstGeom prst="wedgeEllipseCallout">
            <a:avLst>
              <a:gd name="adj1" fmla="val -38361"/>
              <a:gd name="adj2" fmla="val 73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房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evt="end">
                                        <p:tn val="63"/>
                                      </p:cond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evt="end">
                                        <p:tn val="92"/>
                                      </p:cond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798" t="3104" r="19825" b="2485"/>
          <a:stretch/>
        </p:blipFill>
        <p:spPr>
          <a:xfrm>
            <a:off x="0" y="692280"/>
            <a:ext cx="9144000" cy="5533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0" y="115920"/>
            <a:ext cx="9144000" cy="460836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afaf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43640" y="5084640"/>
            <a:ext cx="1944720" cy="158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87640" y="184464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房檐上，挂水珠，好像串串小铃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40360" y="3645000"/>
            <a:ext cx="502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26680" y="24400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1484280"/>
            <a:ext cx="648180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rcRect l="798" t="3104" r="61912" b="2485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grpSp>
        <p:nvGrpSpPr>
          <p:cNvPr id="148" name=""/>
          <p:cNvGrpSpPr/>
          <p:nvPr/>
        </p:nvGrpSpPr>
        <p:grpSpPr>
          <a:xfrm>
            <a:off x="6281640" y="794880"/>
            <a:ext cx="1027080" cy="1441440"/>
            <a:chOff x="6281640" y="794880"/>
            <a:chExt cx="1027080" cy="1441440"/>
          </a:xfrm>
        </p:grpSpPr>
        <p:grpSp>
          <p:nvGrpSpPr>
            <p:cNvPr id="149" name=""/>
            <p:cNvGrpSpPr/>
            <p:nvPr/>
          </p:nvGrpSpPr>
          <p:grpSpPr>
            <a:xfrm>
              <a:off x="6325200" y="794880"/>
              <a:ext cx="955440" cy="1441440"/>
              <a:chOff x="6325200" y="794880"/>
              <a:chExt cx="955440" cy="1441440"/>
            </a:xfrm>
          </p:grpSpPr>
          <p:sp>
            <p:nvSpPr>
              <p:cNvPr id="150" name=""/>
              <p:cNvSpPr/>
              <p:nvPr/>
            </p:nvSpPr>
            <p:spPr>
              <a:xfrm rot="900000">
                <a:off x="6480720" y="125352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0800000">
                <a:off x="6424560" y="86616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0800000">
                <a:off x="6384240" y="79488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0415000">
                <a:off x="6890040" y="84960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415000">
                <a:off x="6393600" y="157356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700000">
                <a:off x="6683400" y="152532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6281640" y="105372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…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405240" y="2088720"/>
            <a:ext cx="1027080" cy="1441440"/>
            <a:chOff x="3405240" y="2088720"/>
            <a:chExt cx="1027080" cy="1441440"/>
          </a:xfrm>
        </p:grpSpPr>
        <p:grpSp>
          <p:nvGrpSpPr>
            <p:cNvPr id="158" name=""/>
            <p:cNvGrpSpPr/>
            <p:nvPr/>
          </p:nvGrpSpPr>
          <p:grpSpPr>
            <a:xfrm>
              <a:off x="3448800" y="2088720"/>
              <a:ext cx="955440" cy="1441440"/>
              <a:chOff x="3448800" y="2088720"/>
              <a:chExt cx="955440" cy="1441440"/>
            </a:xfrm>
          </p:grpSpPr>
          <p:sp>
            <p:nvSpPr>
              <p:cNvPr id="159" name=""/>
              <p:cNvSpPr/>
              <p:nvPr/>
            </p:nvSpPr>
            <p:spPr>
              <a:xfrm rot="900000">
                <a:off x="3604320" y="254736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0800000">
                <a:off x="3548160" y="216000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10800000">
                <a:off x="3507840" y="208872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0415000">
                <a:off x="4013640" y="214344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20415000">
                <a:off x="3517200" y="286740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700000">
                <a:off x="3807000" y="281916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3405240" y="234756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慢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067280" y="1773000"/>
            <a:ext cx="1027080" cy="1441440"/>
            <a:chOff x="4067280" y="1773000"/>
            <a:chExt cx="1027080" cy="1441440"/>
          </a:xfrm>
        </p:grpSpPr>
        <p:grpSp>
          <p:nvGrpSpPr>
            <p:cNvPr id="167" name=""/>
            <p:cNvGrpSpPr/>
            <p:nvPr/>
          </p:nvGrpSpPr>
          <p:grpSpPr>
            <a:xfrm>
              <a:off x="4110840" y="1773000"/>
              <a:ext cx="955440" cy="1441440"/>
              <a:chOff x="4110840" y="1773000"/>
              <a:chExt cx="955440" cy="1441440"/>
            </a:xfrm>
          </p:grpSpPr>
          <p:sp>
            <p:nvSpPr>
              <p:cNvPr id="168" name=""/>
              <p:cNvSpPr/>
              <p:nvPr/>
            </p:nvSpPr>
            <p:spPr>
              <a:xfrm rot="900000">
                <a:off x="4266360" y="223164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0800000">
                <a:off x="4210200" y="184428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0800000">
                <a:off x="4169880" y="177300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20415000">
                <a:off x="4675680" y="182772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20415000">
                <a:off x="4179240" y="255168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2700000">
                <a:off x="4469040" y="250344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4067280" y="203184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怕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4716360" y="1483920"/>
            <a:ext cx="1027080" cy="1441440"/>
            <a:chOff x="4716360" y="1483920"/>
            <a:chExt cx="1027080" cy="1441440"/>
          </a:xfrm>
        </p:grpSpPr>
        <p:grpSp>
          <p:nvGrpSpPr>
            <p:cNvPr id="176" name=""/>
            <p:cNvGrpSpPr/>
            <p:nvPr/>
          </p:nvGrpSpPr>
          <p:grpSpPr>
            <a:xfrm>
              <a:off x="4759920" y="1483920"/>
              <a:ext cx="955440" cy="1441440"/>
              <a:chOff x="4759920" y="1483920"/>
              <a:chExt cx="955440" cy="1441440"/>
            </a:xfrm>
          </p:grpSpPr>
          <p:sp>
            <p:nvSpPr>
              <p:cNvPr id="177" name=""/>
              <p:cNvSpPr/>
              <p:nvPr/>
            </p:nvSpPr>
            <p:spPr>
              <a:xfrm rot="900000">
                <a:off x="4915440" y="194256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0800000">
                <a:off x="4859280" y="155520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0800000">
                <a:off x="4818960" y="148392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20415000">
                <a:off x="5324760" y="153864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20415000">
                <a:off x="4828320" y="226260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2700000">
                <a:off x="5118120" y="221436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4716360" y="174276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435640" y="1153800"/>
            <a:ext cx="1027080" cy="1441440"/>
            <a:chOff x="5435640" y="1153800"/>
            <a:chExt cx="1027080" cy="1441440"/>
          </a:xfrm>
        </p:grpSpPr>
        <p:grpSp>
          <p:nvGrpSpPr>
            <p:cNvPr id="185" name=""/>
            <p:cNvGrpSpPr/>
            <p:nvPr/>
          </p:nvGrpSpPr>
          <p:grpSpPr>
            <a:xfrm>
              <a:off x="5479200" y="1153800"/>
              <a:ext cx="955440" cy="1441440"/>
              <a:chOff x="5479200" y="1153800"/>
              <a:chExt cx="955440" cy="1441440"/>
            </a:xfrm>
          </p:grpSpPr>
          <p:sp>
            <p:nvSpPr>
              <p:cNvPr id="186" name=""/>
              <p:cNvSpPr/>
              <p:nvPr/>
            </p:nvSpPr>
            <p:spPr>
              <a:xfrm rot="900000">
                <a:off x="5634720" y="161244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0800000">
                <a:off x="5578560" y="122508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0800000">
                <a:off x="5538240" y="115380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20415000">
                <a:off x="6044040" y="120852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20415000">
                <a:off x="5547600" y="193248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700000">
                <a:off x="5837400" y="188424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5435640" y="141264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怪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68360" y="3314520"/>
            <a:ext cx="1027080" cy="1441440"/>
            <a:chOff x="468360" y="3314520"/>
            <a:chExt cx="1027080" cy="1441440"/>
          </a:xfrm>
        </p:grpSpPr>
        <p:grpSp>
          <p:nvGrpSpPr>
            <p:cNvPr id="194" name=""/>
            <p:cNvGrpSpPr/>
            <p:nvPr/>
          </p:nvGrpSpPr>
          <p:grpSpPr>
            <a:xfrm>
              <a:off x="511920" y="3314520"/>
              <a:ext cx="955440" cy="1441440"/>
              <a:chOff x="511920" y="3314520"/>
              <a:chExt cx="955440" cy="1441440"/>
            </a:xfrm>
          </p:grpSpPr>
          <p:sp>
            <p:nvSpPr>
              <p:cNvPr id="195" name=""/>
              <p:cNvSpPr/>
              <p:nvPr/>
            </p:nvSpPr>
            <p:spPr>
              <a:xfrm rot="900000">
                <a:off x="667440" y="377316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0800000">
                <a:off x="611280" y="338580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0800000">
                <a:off x="570960" y="331452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20415000">
                <a:off x="1076760" y="336924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20415000">
                <a:off x="580320" y="409320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2700000">
                <a:off x="870120" y="404496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468360" y="357336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沙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12920" y="2997000"/>
            <a:ext cx="1027080" cy="1441440"/>
            <a:chOff x="1312920" y="2997000"/>
            <a:chExt cx="1027080" cy="1441440"/>
          </a:xfrm>
        </p:grpSpPr>
        <p:grpSp>
          <p:nvGrpSpPr>
            <p:cNvPr id="203" name=""/>
            <p:cNvGrpSpPr/>
            <p:nvPr/>
          </p:nvGrpSpPr>
          <p:grpSpPr>
            <a:xfrm>
              <a:off x="1356480" y="2997000"/>
              <a:ext cx="955440" cy="1441440"/>
              <a:chOff x="1356480" y="2997000"/>
              <a:chExt cx="955440" cy="1441440"/>
            </a:xfrm>
          </p:grpSpPr>
          <p:sp>
            <p:nvSpPr>
              <p:cNvPr id="204" name=""/>
              <p:cNvSpPr/>
              <p:nvPr/>
            </p:nvSpPr>
            <p:spPr>
              <a:xfrm rot="900000">
                <a:off x="1512000" y="345564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10800000">
                <a:off x="1455840" y="306828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0800000">
                <a:off x="1415520" y="299700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20415000">
                <a:off x="1921320" y="305172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20415000">
                <a:off x="1424880" y="377568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2700000">
                <a:off x="1714680" y="372744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1312920" y="325584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珠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2608200" y="2420640"/>
            <a:ext cx="1027080" cy="1441440"/>
            <a:chOff x="2608200" y="2420640"/>
            <a:chExt cx="1027080" cy="1441440"/>
          </a:xfrm>
        </p:grpSpPr>
        <p:grpSp>
          <p:nvGrpSpPr>
            <p:cNvPr id="212" name=""/>
            <p:cNvGrpSpPr/>
            <p:nvPr/>
          </p:nvGrpSpPr>
          <p:grpSpPr>
            <a:xfrm>
              <a:off x="2651760" y="2420640"/>
              <a:ext cx="955440" cy="1441440"/>
              <a:chOff x="2651760" y="2420640"/>
              <a:chExt cx="955440" cy="1441440"/>
            </a:xfrm>
          </p:grpSpPr>
          <p:sp>
            <p:nvSpPr>
              <p:cNvPr id="213" name=""/>
              <p:cNvSpPr/>
              <p:nvPr/>
            </p:nvSpPr>
            <p:spPr>
              <a:xfrm rot="900000">
                <a:off x="2807280" y="287928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10800000">
                <a:off x="2751120" y="249192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0800000">
                <a:off x="2710800" y="242064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20415000">
                <a:off x="3216600" y="247536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20415000">
                <a:off x="2720160" y="319932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2700000">
                <a:off x="3009960" y="315108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2608200" y="267948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快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905280" y="1874520"/>
            <a:ext cx="1027080" cy="1441440"/>
            <a:chOff x="3905280" y="1874520"/>
            <a:chExt cx="1027080" cy="1441440"/>
          </a:xfrm>
        </p:grpSpPr>
        <p:grpSp>
          <p:nvGrpSpPr>
            <p:cNvPr id="221" name=""/>
            <p:cNvGrpSpPr/>
            <p:nvPr/>
          </p:nvGrpSpPr>
          <p:grpSpPr>
            <a:xfrm>
              <a:off x="3948840" y="1874520"/>
              <a:ext cx="955440" cy="1441440"/>
              <a:chOff x="3948840" y="1874520"/>
              <a:chExt cx="955440" cy="1441440"/>
            </a:xfrm>
          </p:grpSpPr>
          <p:sp>
            <p:nvSpPr>
              <p:cNvPr id="222" name=""/>
              <p:cNvSpPr/>
              <p:nvPr/>
            </p:nvSpPr>
            <p:spPr>
              <a:xfrm rot="900000">
                <a:off x="4104360" y="233316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0800000">
                <a:off x="4048200" y="194580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0800000">
                <a:off x="4007880" y="187452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20415000">
                <a:off x="4513680" y="192924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20415000">
                <a:off x="4017240" y="265320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2700000">
                <a:off x="4307040" y="260496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3905280" y="213336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盖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697280" y="1557000"/>
            <a:ext cx="1027080" cy="1441440"/>
            <a:chOff x="4697280" y="1557000"/>
            <a:chExt cx="1027080" cy="1441440"/>
          </a:xfrm>
        </p:grpSpPr>
        <p:grpSp>
          <p:nvGrpSpPr>
            <p:cNvPr id="230" name=""/>
            <p:cNvGrpSpPr/>
            <p:nvPr/>
          </p:nvGrpSpPr>
          <p:grpSpPr>
            <a:xfrm>
              <a:off x="4740840" y="1557000"/>
              <a:ext cx="955440" cy="1441440"/>
              <a:chOff x="4740840" y="1557000"/>
              <a:chExt cx="955440" cy="1441440"/>
            </a:xfrm>
          </p:grpSpPr>
          <p:sp>
            <p:nvSpPr>
              <p:cNvPr id="231" name=""/>
              <p:cNvSpPr/>
              <p:nvPr/>
            </p:nvSpPr>
            <p:spPr>
              <a:xfrm rot="900000">
                <a:off x="4896360" y="201564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10800000">
                <a:off x="4840200" y="162828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0800000">
                <a:off x="4799880" y="155700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0415000">
                <a:off x="5305680" y="161172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20415000">
                <a:off x="4809240" y="233568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2700000">
                <a:off x="5099040" y="228744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4697280" y="181584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响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435640" y="1196640"/>
            <a:ext cx="1027080" cy="1441440"/>
            <a:chOff x="5435640" y="1196640"/>
            <a:chExt cx="1027080" cy="1441440"/>
          </a:xfrm>
        </p:grpSpPr>
        <p:grpSp>
          <p:nvGrpSpPr>
            <p:cNvPr id="239" name=""/>
            <p:cNvGrpSpPr/>
            <p:nvPr/>
          </p:nvGrpSpPr>
          <p:grpSpPr>
            <a:xfrm>
              <a:off x="5479200" y="1196640"/>
              <a:ext cx="955440" cy="1441440"/>
              <a:chOff x="5479200" y="1196640"/>
              <a:chExt cx="955440" cy="1441440"/>
            </a:xfrm>
          </p:grpSpPr>
          <p:sp>
            <p:nvSpPr>
              <p:cNvPr id="240" name=""/>
              <p:cNvSpPr/>
              <p:nvPr/>
            </p:nvSpPr>
            <p:spPr>
              <a:xfrm rot="900000">
                <a:off x="5634720" y="165528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0800000">
                <a:off x="5578560" y="126792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0800000">
                <a:off x="5538240" y="119664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20415000">
                <a:off x="6044040" y="125136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20415000">
                <a:off x="5547600" y="197532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2700000">
                <a:off x="5837400" y="192708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5435640" y="145548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铃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208560" y="866520"/>
            <a:ext cx="1027440" cy="1441440"/>
            <a:chOff x="6208560" y="866520"/>
            <a:chExt cx="1027440" cy="1441440"/>
          </a:xfrm>
        </p:grpSpPr>
        <p:grpSp>
          <p:nvGrpSpPr>
            <p:cNvPr id="248" name=""/>
            <p:cNvGrpSpPr/>
            <p:nvPr/>
          </p:nvGrpSpPr>
          <p:grpSpPr>
            <a:xfrm>
              <a:off x="6252480" y="866520"/>
              <a:ext cx="955440" cy="1441440"/>
              <a:chOff x="6252480" y="866520"/>
              <a:chExt cx="955440" cy="1441440"/>
            </a:xfrm>
          </p:grpSpPr>
          <p:sp>
            <p:nvSpPr>
              <p:cNvPr id="249" name=""/>
              <p:cNvSpPr/>
              <p:nvPr/>
            </p:nvSpPr>
            <p:spPr>
              <a:xfrm rot="900000">
                <a:off x="6408000" y="132516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10800000">
                <a:off x="6351480" y="937800"/>
                <a:ext cx="74052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10800000">
                <a:off x="6311880" y="866520"/>
                <a:ext cx="81864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0415000">
                <a:off x="6817680" y="92124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0415000">
                <a:off x="6320880" y="164520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700000">
                <a:off x="6610680" y="159696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6208560" y="1125360"/>
              <a:ext cx="102744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铛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.wav"/>
                                        </p:tgtEl>
                                      </p:cMediaNode>
                                    </p:audio>
                                    <p:animMotion origin="layout" path="M -1.66667E-006 2.96296E-006 L -1.66667E-006 0.6331 E">
                                      <p:cBhvr>
                                        <p:cTn id="148" dur="5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o.wav"/>
                                        </p:tgtEl>
                                      </p:cMediaNode>
                                    </p:audio>
                                    <p:animMotion origin="layout" path="M -1.66667E-006 2.96296E-006 L -1.66667E-006 0.87893 E">
                                      <p:cBhvr>
                                        <p:cTn id="153" dur="5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.wav"/>
                                        </p:tgtEl>
                                      </p:cMediaNode>
                                    </p:audio>
                                    <p:animMotion origin="layout" path="M 2.77778E-007 -3.33333E-006 L 2.77778E-007 0.84306 E">
                                      <p:cBhvr>
                                        <p:cTn id="158" dur="5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.wav"/>
                                        </p:tgtEl>
                                      </p:cMediaNode>
                                    </p:audio>
                                    <p:animMotion origin="layout" path="M 5.55556E-007 -2.59259E-006 L 5.55556E-007 0.97963 E">
                                      <p:cBhvr>
                                        <p:cTn id="163" dur="5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o.wav"/>
                                        </p:tgtEl>
                                      </p:cMediaNode>
                                    </p:audio>
                                    <p:animMotion origin="layout" path="M -8.33333E-007 -7.40741E-007 L -8.33333E-007 0.93148 E">
                                      <p:cBhvr>
                                        <p:cTn id="168" dur="5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o.wav"/>
                                        </p:tgtEl>
                                      </p:cMediaNode>
                                    </p:audio>
                                    <p:animMotion origin="layout" path="M -2.77778E-006 -7.40741E-007 L -2.77778E-006 0.6794 E">
                                      <p:cBhvr>
                                        <p:cTn id="173" dur="5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340000" y="47628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雨铃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263520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房檐上，挂水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像串串小铃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82920" y="1484280"/>
            <a:ext cx="39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沙沙响，沙沙响，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雨洒在房檐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382104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丁零当啷……                      丁零当啷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4984920"/>
            <a:ext cx="3960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在招呼小燕子，                      快快回来盖新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482920" y="274320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房檐上，挂水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像串串小铃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82920" y="1484280"/>
            <a:ext cx="39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沙沙响，沙沙响，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雨洒在房檐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20960" y="2637000"/>
            <a:ext cx="73080" cy="72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482920" y="177336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丁零当啷……                      丁零当啷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987640" y="1341360"/>
            <a:ext cx="238752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招</a:t>
            </a:r>
            <a:endParaRPr b="0" lang="en-US" sz="19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987640" y="1700280"/>
            <a:ext cx="2736720" cy="2736720"/>
            <a:chOff x="2987640" y="1700280"/>
            <a:chExt cx="2736720" cy="2736720"/>
          </a:xfrm>
        </p:grpSpPr>
        <p:sp>
          <p:nvSpPr>
            <p:cNvPr id="271" name=""/>
            <p:cNvSpPr/>
            <p:nvPr/>
          </p:nvSpPr>
          <p:spPr>
            <a:xfrm>
              <a:off x="2987640" y="1700280"/>
              <a:ext cx="2736720" cy="2736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56000" y="1700280"/>
              <a:ext cx="0" cy="2736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987640" y="3068640"/>
              <a:ext cx="27367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2"/>
          <a:srcRect l="798" t="3104" r="29513" b="248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76" name=""/>
          <p:cNvSpPr/>
          <p:nvPr/>
        </p:nvSpPr>
        <p:spPr>
          <a:xfrm>
            <a:off x="-1405080" y="-1179360"/>
            <a:ext cx="11736360" cy="849600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afaf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916360" y="180648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丁零当啷……                      丁零当啷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16360" y="2970360"/>
            <a:ext cx="3960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在招呼小燕子，                      快快回来盖新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>
            <a:hlinkClick r:id="rId2" action="ppaction://hlinksldjump"/>
          </p:cNvPr>
          <p:cNvSpPr/>
          <p:nvPr/>
        </p:nvSpPr>
        <p:spPr>
          <a:xfrm>
            <a:off x="0" y="5994360"/>
            <a:ext cx="576360" cy="8636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4360" y="1773360"/>
            <a:ext cx="741672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春雨招呼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rcRect l="4394" t="6534" r="4709" b="13599"/>
          <a:stretch/>
        </p:blipFill>
        <p:spPr>
          <a:xfrm>
            <a:off x="0" y="836640"/>
            <a:ext cx="9144000" cy="51037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9468000" y="530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1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>
            <a:lum contrast="6000"/>
          </a:blip>
          <a:srcRect l="-1224" t="4698" r="0" b="1030"/>
          <a:stretch/>
        </p:blipFill>
        <p:spPr>
          <a:xfrm>
            <a:off x="-231840" y="-42840"/>
            <a:ext cx="9653760" cy="7029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9120" y="0"/>
            <a:ext cx="79380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626720" y="260280"/>
            <a:ext cx="3198960" cy="6338880"/>
            <a:chOff x="4626720" y="260280"/>
            <a:chExt cx="3198960" cy="6338880"/>
          </a:xfrm>
        </p:grpSpPr>
        <p:sp>
          <p:nvSpPr>
            <p:cNvPr id="55" name=""/>
            <p:cNvSpPr/>
            <p:nvPr/>
          </p:nvSpPr>
          <p:spPr>
            <a:xfrm>
              <a:off x="4626720" y="260280"/>
              <a:ext cx="3198960" cy="6338880"/>
            </a:xfrm>
            <a:prstGeom prst="plus">
              <a:avLst>
                <a:gd name="adj" fmla="val 12903"/>
              </a:avLst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夜来</a:t>
              </a:r>
              <a:r>
                <a:rPr b="1" lang="zh-CN" sz="48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风雨声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花落知多少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——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孟浩然《春晓》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721040" y="331560"/>
              <a:ext cx="172800" cy="17316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518960" y="326880"/>
              <a:ext cx="183960" cy="17316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719600" y="6336360"/>
              <a:ext cx="172440" cy="16020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7518240" y="6331680"/>
              <a:ext cx="183600" cy="16020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11344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113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80640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836640"/>
            <a:ext cx="9144000" cy="5113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rcRect l="0" t="22299" r="0" b="0"/>
          <a:stretch/>
        </p:blipFill>
        <p:spPr>
          <a:xfrm>
            <a:off x="0" y="836640"/>
            <a:ext cx="9144000" cy="5100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rcRect l="0" t="0" r="0" b="15062"/>
          <a:stretch/>
        </p:blipFill>
        <p:spPr>
          <a:xfrm>
            <a:off x="0" y="828720"/>
            <a:ext cx="9144000" cy="5121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rcRect l="4394" t="6534" r="4709" b="13599"/>
          <a:stretch/>
        </p:blipFill>
        <p:spPr>
          <a:xfrm>
            <a:off x="0" y="836640"/>
            <a:ext cx="9144000" cy="51037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rcRect l="4394" t="6534" r="4709" b="13599"/>
          <a:stretch/>
        </p:blipFill>
        <p:spPr>
          <a:xfrm>
            <a:off x="0" y="836640"/>
            <a:ext cx="9144000" cy="51037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295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340000" y="260280"/>
            <a:ext cx="3960720" cy="74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雨铃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沙沙响，沙沙响，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雨洒在房檐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房檐上，挂水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像串串小铃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丁零当啷……                      丁零当啷……                      它在招呼小燕子，                      快快回来盖新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9612360" y="5805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8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97160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《雨铃铛》_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0" y="0"/>
            <a:ext cx="781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小雨小雨沙沙响，沙沙响，洒在洒在房檐上房檐上，哎呀呀，水珠真美，哎呀呀，像串小铃铛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2060640"/>
            <a:ext cx="781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小雨小雨沙沙响，沙沙响，它在招呼小燕子小燕子，哎呀呀，快快回来，哎呀呀，回来盖新房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838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" dur="indefinite" restart="never" nodeType="tmRoot">
          <p:childTnLst>
            <p:seq>
              <p:cTn id="225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" dur="1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0" r="0" b="1115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3763440" y="227160"/>
            <a:ext cx="4836960" cy="6460920"/>
            <a:chOff x="3763440" y="227160"/>
            <a:chExt cx="4836960" cy="6460920"/>
          </a:xfrm>
        </p:grpSpPr>
        <p:sp>
          <p:nvSpPr>
            <p:cNvPr id="65" name=""/>
            <p:cNvSpPr/>
            <p:nvPr/>
          </p:nvSpPr>
          <p:spPr>
            <a:xfrm>
              <a:off x="4521240" y="1055520"/>
              <a:ext cx="1098720" cy="44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63440" y="227160"/>
              <a:ext cx="4836960" cy="6460920"/>
            </a:xfrm>
            <a:prstGeom prst="plus">
              <a:avLst>
                <a:gd name="adj" fmla="val 12903"/>
              </a:avLst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清明时节</a:t>
              </a:r>
              <a:r>
                <a:rPr b="1" lang="zh-CN" sz="48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雨纷纷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路上行人欲断魂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　　   ——杜牧《清明》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26200" y="376920"/>
              <a:ext cx="172800" cy="17208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7738560" y="372240"/>
              <a:ext cx="183960" cy="17172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4424400" y="6346800"/>
              <a:ext cx="173160" cy="15912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7737480" y="6342120"/>
              <a:ext cx="184320" cy="15912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268360" y="2565360"/>
            <a:ext cx="4896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谢谢！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>
            <a:lum bright="18000"/>
          </a:blip>
          <a:srcRect l="0" t="0" r="0" b="80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250560" y="907920"/>
            <a:ext cx="8623800" cy="5041800"/>
            <a:chOff x="250560" y="907920"/>
            <a:chExt cx="8623800" cy="5041800"/>
          </a:xfrm>
        </p:grpSpPr>
        <p:sp>
          <p:nvSpPr>
            <p:cNvPr id="74" name=""/>
            <p:cNvSpPr/>
            <p:nvPr/>
          </p:nvSpPr>
          <p:spPr>
            <a:xfrm>
              <a:off x="250560" y="907920"/>
              <a:ext cx="8623800" cy="5041800"/>
            </a:xfrm>
            <a:prstGeom prst="plus">
              <a:avLst>
                <a:gd name="adj" fmla="val 12903"/>
              </a:avLst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 vert="eaVer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好雨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知时节，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当春乃发生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随风潜入夜，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润物细无声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——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杜甫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《春夜喜雨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45800" y="992160"/>
              <a:ext cx="347400" cy="34740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7679160" y="987120"/>
              <a:ext cx="369720" cy="34776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1045800" y="5522760"/>
              <a:ext cx="336240" cy="31104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7671960" y="5515560"/>
              <a:ext cx="358560" cy="31284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42920" y="404640"/>
            <a:ext cx="4248360" cy="3911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580000" y="1341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铃铛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 rot="1921800">
            <a:off x="7524720" y="260280"/>
            <a:ext cx="1150920" cy="104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-4286160" y="1450080"/>
            <a:ext cx="5905440" cy="18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0">
                  <a:noFill/>
                </a:ln>
                <a:gradFill rotWithShape="0">
                  <a:gsLst>
                    <a:gs pos="0">
                      <a:srgbClr val="fefefe">
                        <a:alpha val="7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atin typeface="华文新魏"/>
              </a:rPr>
              <a:t>雨铃铛</a:t>
            </a:r>
            <a:endParaRPr b="0" lang="en-US" sz="8000" spc="1" strike="noStrike">
              <a:ln w="0">
                <a:noFill/>
              </a:ln>
              <a:gradFill rotWithShape="0">
                <a:gsLst>
                  <a:gs pos="0">
                    <a:srgbClr val="fefefe">
                      <a:alpha val="7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619280" y="1014480"/>
            <a:ext cx="5905440" cy="25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雨铃铛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771640" y="404640"/>
            <a:ext cx="3961080" cy="74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雨铃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沙沙响，沙沙响，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雨洒在房檐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房檐上，挂水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像串串小铃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丁零当啷……                      丁零当啷……                      它在招呼小燕子，                      快快回来盖新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87280" y="1306440"/>
            <a:ext cx="712800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沙沙响     盖新房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挂水珠 </a:t>
            </a:r>
            <a:r>
              <a:rPr b="1" i="1" lang="zh-CN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串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招 呼       房檐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丁零当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76720" y="3500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2422440"/>
            <a:ext cx="1224000" cy="935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3573360"/>
            <a:ext cx="100800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62200" y="476280"/>
            <a:ext cx="223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ā    xiǎ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47628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g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8560" y="2060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hu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42940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63640" y="3500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zhāo  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20574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guà    zh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19640" y="494172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līn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lān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47640" y="112536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84720" y="112536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263700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00720" y="2565360"/>
            <a:ext cx="208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19280" y="407664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56000" y="4076640"/>
            <a:ext cx="165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16360" y="5516640"/>
            <a:ext cx="2951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87280" y="1306440"/>
            <a:ext cx="712800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沙沙响     盖新房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挂水珠 </a:t>
            </a:r>
            <a:r>
              <a:rPr b="1" i="1" lang="zh-CN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串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招 呼       房檐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丁零当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76720" y="35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2422440"/>
            <a:ext cx="1224000" cy="935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3573360"/>
            <a:ext cx="100800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2200" y="476280"/>
            <a:ext cx="223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ā    xiǎ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27640" y="47628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g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78560" y="2060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hu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42940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3500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zhāo  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63640" y="20574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guà    zh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43280" y="49370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ng     lā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47640" y="112536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84720" y="112536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92360" y="263700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00720" y="2565360"/>
            <a:ext cx="208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19280" y="407664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56000" y="4076640"/>
            <a:ext cx="165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16360" y="5516640"/>
            <a:ext cx="2951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04:14:28Z</dcterms:created>
  <dc:creator>USER</dc:creator>
  <dc:description/>
  <dc:language>en-US</dc:language>
  <cp:lastModifiedBy>User</cp:lastModifiedBy>
  <dcterms:modified xsi:type="dcterms:W3CDTF">2013-04-17T15:13:05Z</dcterms:modified>
  <cp:revision>118</cp:revision>
  <dc:subject/>
  <dc:title>幻灯片 1</dc:title>
</cp:coreProperties>
</file>