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.jpeg" ContentType="image/jpeg"/>
  <Override PartName="/ppt/media/image2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0.jpeg" ContentType="image/jpeg"/>
  <Override PartName="/ppt/media/image22.jpeg" ContentType="image/jpeg"/>
  <Override PartName="/ppt/media/image19.jpeg" ContentType="image/jpe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488E-F7E5-489E-BF33-5E78D49F9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60CB-871A-4875-94F4-9E22A347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BB5E-DE04-4863-B6A0-BCF7959ED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78CA-CBBC-4A23-80A9-3BD382C73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ED0F-7FD2-4B51-8EA1-55CC29B8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265E-6A89-422C-831F-2F6D4C80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F020-677F-442D-940B-2B79D216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1F99-D05F-4F7C-98B6-1A834A3A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05EE-F448-41D0-B5DF-BD8B2BA4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B1F3-B5C6-4077-80DA-D83C1C04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9C86-1161-488F-BF64-06B1D9B0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D2B1-2A1D-4C93-B2ED-B1BA4650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06BE-FFED-49FB-B730-5277211721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6.jpeg"/><Relationship Id="rId6" Type="http://schemas.openxmlformats.org/officeDocument/2006/relationships/image" Target="../media/image22.jpeg"/><Relationship Id="rId7" Type="http://schemas.openxmlformats.org/officeDocument/2006/relationships/image" Target="../media/image10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692360" y="2060640"/>
            <a:ext cx="6192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7320b"/>
                </a:solidFill>
                <a:latin typeface="Times New Roman"/>
                <a:ea typeface="楷体_GB2312"/>
              </a:rPr>
              <a:t>丁丁和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牵牛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白色牵牛花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-541440" y="0"/>
            <a:ext cx="10369800" cy="77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6084720" y="0"/>
            <a:ext cx="16849440" cy="10679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5280" y="2708280"/>
            <a:ext cx="100090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266560" cy="74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-684360" y="0"/>
            <a:ext cx="10982520" cy="73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14160" cy="69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-396720" y="0"/>
            <a:ext cx="10117080" cy="758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826560" y="2421000"/>
            <a:ext cx="7993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牵牛花，请你快快发芽长大，让王奶奶也能看到鲜花吧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59280" y="2852640"/>
            <a:ext cx="14436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32360" y="278136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8000" y="1413000"/>
            <a:ext cx="5400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57120" cy="74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842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-900000" y="-1684440"/>
            <a:ext cx="13209480" cy="940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619280" y="1844640"/>
            <a:ext cx="61214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35280" y="1125360"/>
            <a:ext cx="6697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牵牛花攀着竹竿往上爬，一路吹着快活的小喇叭。白的花、紫的花、粉的花，向着王奶奶张开了笑脸，好像在说：“滴滴答，滴滴答，王奶奶，你好哇！”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859280" y="-603360"/>
            <a:ext cx="4716360" cy="3284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619280" y="1844640"/>
            <a:ext cx="61214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619280" y="1989000"/>
            <a:ext cx="3024000" cy="4365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-1044720" y="2276640"/>
            <a:ext cx="2737080" cy="2879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4427640" y="2565360"/>
            <a:ext cx="5400720" cy="6696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2195640" y="0"/>
            <a:ext cx="2736720" cy="2565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-1044720" y="0"/>
            <a:ext cx="3240360" cy="2565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-1044720" y="4941720"/>
            <a:ext cx="5472360" cy="4248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16000" y="2565360"/>
            <a:ext cx="7634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</a:rPr>
              <a:t>滴滴答，滴滴答，王奶奶，你好哇！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老奶奶"/>
          <p:cNvPicPr/>
          <p:nvPr/>
        </p:nvPicPr>
        <p:blipFill>
          <a:blip r:embed="rId2"/>
          <a:stretch/>
        </p:blipFill>
        <p:spPr>
          <a:xfrm>
            <a:off x="6156360" y="981000"/>
            <a:ext cx="2376360" cy="2305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42920" y="3500280"/>
            <a:ext cx="900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谢谢你，好孩子！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3"/>
          <p:cNvSpPr/>
          <p:nvPr/>
        </p:nvSpPr>
        <p:spPr>
          <a:xfrm>
            <a:off x="826920" y="2852640"/>
            <a:ext cx="77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谢谢你，好朋友，帮我实现了愿望！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4724280"/>
            <a:ext cx="29509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547640" y="4149720"/>
            <a:ext cx="576360" cy="79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547640" y="4436640"/>
            <a:ext cx="287640" cy="64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692360" y="3933360"/>
            <a:ext cx="142920" cy="115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"/>
          <p:cNvPicPr/>
          <p:nvPr/>
        </p:nvPicPr>
        <p:blipFill>
          <a:blip r:embed="rId2"/>
          <a:stretch/>
        </p:blipFill>
        <p:spPr>
          <a:xfrm>
            <a:off x="5219640" y="1557360"/>
            <a:ext cx="3097440" cy="3166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3"/>
          <a:stretch/>
        </p:blipFill>
        <p:spPr>
          <a:xfrm>
            <a:off x="1187280" y="1557360"/>
            <a:ext cx="32403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11280" y="234936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楼上的王奶奶上了年纪，不能下楼了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72360" y="2781360"/>
            <a:ext cx="7164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"/>
          <p:cNvPicPr/>
          <p:nvPr/>
        </p:nvPicPr>
        <p:blipFill>
          <a:blip r:embed="rId2"/>
          <a:stretch/>
        </p:blipFill>
        <p:spPr>
          <a:xfrm>
            <a:off x="2556000" y="1557360"/>
            <a:ext cx="453708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>
            <a:off x="2700360" y="155736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2268360" y="1484280"/>
            <a:ext cx="496908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2"/>
          <a:stretch/>
        </p:blipFill>
        <p:spPr>
          <a:xfrm>
            <a:off x="1187280" y="1844640"/>
            <a:ext cx="3600720" cy="3565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3"/>
          <a:stretch/>
        </p:blipFill>
        <p:spPr>
          <a:xfrm>
            <a:off x="5148360" y="1844640"/>
            <a:ext cx="34560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26560" y="2421000"/>
            <a:ext cx="7993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f7320b"/>
                </a:solidFill>
                <a:latin typeface="楷体_GB2312"/>
                <a:ea typeface="楷体_GB2312"/>
              </a:rPr>
              <a:t>牵牛花，请你快快发芽长大，让王奶奶也能看到鲜花吧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2852640"/>
            <a:ext cx="14436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32360" y="278136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08000" y="1413000"/>
            <a:ext cx="5400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26560" y="2421000"/>
            <a:ext cx="7993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  </a:t>
            </a:r>
            <a:r>
              <a:rPr b="1" lang="zh-CN" sz="5400" spc="-1" strike="noStrike">
                <a:solidFill>
                  <a:srgbClr val="f7320b"/>
                </a:solidFill>
                <a:latin typeface="楷体_GB2312"/>
                <a:ea typeface="楷体_GB2312"/>
              </a:rPr>
              <a:t>牵牛花，</a:t>
            </a:r>
            <a:r>
              <a:rPr b="1" lang="zh-CN" sz="5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请</a:t>
            </a:r>
            <a:r>
              <a:rPr b="1" lang="zh-CN" sz="5400" spc="-1" strike="noStrike">
                <a:solidFill>
                  <a:srgbClr val="f7320b"/>
                </a:solidFill>
                <a:latin typeface="楷体_GB2312"/>
                <a:ea typeface="楷体_GB2312"/>
              </a:rPr>
              <a:t>你</a:t>
            </a:r>
            <a:r>
              <a:rPr b="1" lang="zh-CN" sz="5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快快</a:t>
            </a:r>
            <a:r>
              <a:rPr b="1" lang="zh-CN" sz="5400" spc="-1" strike="noStrike">
                <a:solidFill>
                  <a:srgbClr val="f7320b"/>
                </a:solidFill>
                <a:latin typeface="楷体_GB2312"/>
                <a:ea typeface="楷体_GB2312"/>
              </a:rPr>
              <a:t>发芽长大，让王奶奶也能看到鲜花</a:t>
            </a:r>
            <a:r>
              <a:rPr b="1" lang="zh-CN" sz="5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吧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59280" y="2852640"/>
            <a:ext cx="14436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32360" y="278136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9612360" cy="177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2997360"/>
            <a:ext cx="84582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牵牛花，请你</a:t>
            </a:r>
            <a:r>
              <a:rPr b="1" lang="en-US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——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，让</a:t>
            </a:r>
            <a:r>
              <a:rPr b="1" lang="en-US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——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吧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久，牵牛花发芽了，长出了嫩叶。一天晚上，丁丁梦见牵牛花对他说 ：“</a:t>
            </a:r>
            <a:r>
              <a:rPr b="1" lang="zh-CN" sz="4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给我一根竹竿吧，我可以爬到上面去开花，满足你的愿望。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blinds dir="vert"/>
  </p:transition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8T03:29:40Z</dcterms:created>
  <dc:creator>li gang</dc:creator>
  <dc:description/>
  <dc:language>en-US</dc:language>
  <cp:lastModifiedBy>User</cp:lastModifiedBy>
  <dcterms:modified xsi:type="dcterms:W3CDTF">2013-04-21T07:53:39Z</dcterms:modified>
  <cp:revision>173</cp:revision>
  <dc:subject/>
  <dc:title>PowerPoint 演示文稿</dc:title>
</cp:coreProperties>
</file>