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.jpeg" ContentType="image/jpeg"/>
  <Override PartName="/ppt/media/image2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13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31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0.jpeg" ContentType="image/jpeg"/>
  <Override PartName="/ppt/media/image22.jpeg" ContentType="image/jpeg"/>
  <Override PartName="/ppt/media/image19.jpeg" ContentType="image/jpe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F5D7-3F84-4220-B50E-9FC5497C3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ED20-24FB-47E9-90C1-22664F83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5A55-457F-49BD-8521-AC0F5342D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128E-F9C4-4EC3-B605-05D4359C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C2E-311B-4960-B20B-82D1DF92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20D1-0CF0-4377-AC9F-0D499814B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DE33-9F19-4405-926E-1F8601933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E2CD-EB2B-4705-A39D-12324B07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9A24-5BEA-465F-800F-69C23D829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D4AC-4295-4375-BDC3-E7030187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0CCA-EBC5-4699-ABA1-D2C22B7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65AA-775E-44BF-BD15-8109DEF8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12855-0850-4A5D-8833-81EA89FB5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6.jpeg"/><Relationship Id="rId6" Type="http://schemas.openxmlformats.org/officeDocument/2006/relationships/image" Target="../media/image22.jpeg"/><Relationship Id="rId7" Type="http://schemas.openxmlformats.org/officeDocument/2006/relationships/image" Target="../media/image10.jpeg"/><Relationship Id="rId8" Type="http://schemas.openxmlformats.org/officeDocument/2006/relationships/image" Target="../media/image23.jpe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692360" y="2060640"/>
            <a:ext cx="61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7320b"/>
                </a:solidFill>
                <a:latin typeface="Times New Roman"/>
                <a:ea typeface="楷体_GB2312"/>
              </a:rPr>
              <a:t>丁丁和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牵牛花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白色牵牛花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-541440" y="0"/>
            <a:ext cx="10369800" cy="777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-6084720" y="0"/>
            <a:ext cx="16849440" cy="10679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2708280"/>
            <a:ext cx="100090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266560" cy="748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-684360" y="0"/>
            <a:ext cx="10982520" cy="73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514160" cy="69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-609480" y="0"/>
            <a:ext cx="975348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396720" y="0"/>
            <a:ext cx="10117080" cy="758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157120" cy="745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53480" cy="842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-900000" y="-1684440"/>
            <a:ext cx="13209480" cy="940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1125360"/>
            <a:ext cx="6697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牵牛花攀着竹竿往上爬，一路吹着快活的小喇叭。白的花、紫的花、粉的花，向着王奶奶张开了笑脸，好像在说：“滴滴答，滴滴答，王奶奶，你好哇！”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859280" y="-60336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19280" y="1844640"/>
            <a:ext cx="612144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1619280" y="1989000"/>
            <a:ext cx="3024000" cy="43657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-1044720" y="2276640"/>
            <a:ext cx="2737080" cy="28796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4427640" y="2565360"/>
            <a:ext cx="5400720" cy="66960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6"/>
          <a:stretch/>
        </p:blipFill>
        <p:spPr>
          <a:xfrm>
            <a:off x="2195640" y="0"/>
            <a:ext cx="2736720" cy="2565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7"/>
          <a:stretch/>
        </p:blipFill>
        <p:spPr>
          <a:xfrm>
            <a:off x="-1044720" y="0"/>
            <a:ext cx="3240360" cy="25653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8"/>
          <a:stretch/>
        </p:blipFill>
        <p:spPr>
          <a:xfrm>
            <a:off x="-1044720" y="4941720"/>
            <a:ext cx="5472360" cy="42483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116000" y="2565360"/>
            <a:ext cx="76341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00"/>
                </a:solidFill>
                <a:latin typeface="Times New Roman"/>
              </a:rPr>
              <a:t>滴滴答，滴滴答，王奶奶，你好哇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87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733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9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96">
                                          <p:stCondLst>
                                            <p:cond delay="99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498">
                                          <p:stCondLst>
                                            <p:cond delay="198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46">
                                          <p:stCondLst>
                                            <p:cond delay="248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" dur="39" fill="hold">
                                          <p:stCondLst>
                                            <p:cond delay="975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" dur="249" fill="hold">
                                          <p:stCondLst>
                                            <p:cond delay="101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39" fill="hold">
                                          <p:stCondLst>
                                            <p:cond delay="19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9" dur="249" fill="hold">
                                          <p:stCondLst>
                                            <p:cond delay="2007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39" fill="hold">
                                          <p:stCondLst>
                                            <p:cond delay="2463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" dur="249" fill="hold">
                                          <p:stCondLst>
                                            <p:cond delay="250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39" fill="hold">
                                          <p:stCondLst>
                                            <p:cond delay="27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" dur="249" fill="hold">
                                          <p:stCondLst>
                                            <p:cond delay="2751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老奶奶"/>
          <p:cNvPicPr/>
          <p:nvPr/>
        </p:nvPicPr>
        <p:blipFill>
          <a:blip r:embed="rId2"/>
          <a:stretch/>
        </p:blipFill>
        <p:spPr>
          <a:xfrm>
            <a:off x="6156360" y="981000"/>
            <a:ext cx="2376360" cy="23050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2920" y="3500280"/>
            <a:ext cx="900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Times New Roman"/>
              </a:rPr>
              <a:t>谢谢你，好孩子！</a:t>
            </a: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826920" y="2852640"/>
            <a:ext cx="7775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谢谢你，好朋友，帮我实现了愿望！</a:t>
            </a:r>
            <a:endParaRPr b="1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4724280"/>
            <a:ext cx="295092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547640" y="4149720"/>
            <a:ext cx="576360" cy="79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547640" y="4436640"/>
            <a:ext cx="287640" cy="647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1692360" y="3933360"/>
            <a:ext cx="142920" cy="1150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"/>
          <p:cNvPicPr/>
          <p:nvPr/>
        </p:nvPicPr>
        <p:blipFill>
          <a:blip r:embed="rId2"/>
          <a:stretch/>
        </p:blipFill>
        <p:spPr>
          <a:xfrm>
            <a:off x="5219640" y="1557360"/>
            <a:ext cx="3097440" cy="31669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1187280" y="1557360"/>
            <a:ext cx="324036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11280" y="2349360"/>
            <a:ext cx="77724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楼上的王奶奶上了年纪，不能下楼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172360" y="2781360"/>
            <a:ext cx="7164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"/>
          <p:cNvPicPr/>
          <p:nvPr/>
        </p:nvPicPr>
        <p:blipFill>
          <a:blip r:embed="rId2"/>
          <a:stretch/>
        </p:blipFill>
        <p:spPr>
          <a:xfrm>
            <a:off x="2556000" y="1557360"/>
            <a:ext cx="4537080" cy="38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"/>
          <p:cNvPicPr/>
          <p:nvPr/>
        </p:nvPicPr>
        <p:blipFill>
          <a:blip r:embed="rId2"/>
          <a:stretch/>
        </p:blipFill>
        <p:spPr>
          <a:xfrm>
            <a:off x="2700360" y="155736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268360" y="1484280"/>
            <a:ext cx="4969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1187280" y="1844640"/>
            <a:ext cx="3600720" cy="35654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3"/>
          <a:stretch/>
        </p:blipFill>
        <p:spPr>
          <a:xfrm>
            <a:off x="5148360" y="1844640"/>
            <a:ext cx="3456000" cy="36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请你快快发芽长大，让王奶奶也能看到鲜花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8000" y="1413000"/>
            <a:ext cx="540072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826560" y="2421000"/>
            <a:ext cx="79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   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牵牛花，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请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你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快快</a:t>
            </a:r>
            <a:r>
              <a:rPr b="1" lang="zh-CN" sz="5400" spc="-1" strike="noStrike">
                <a:solidFill>
                  <a:srgbClr val="f7320b"/>
                </a:solidFill>
                <a:latin typeface="楷体_GB2312"/>
                <a:ea typeface="楷体_GB2312"/>
              </a:rPr>
              <a:t>发芽长大，让王奶奶也能看到鲜花</a:t>
            </a:r>
            <a:r>
              <a:rPr b="1" lang="zh-CN" sz="5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吧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59280" y="2852640"/>
            <a:ext cx="144360" cy="716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932360" y="2781360"/>
            <a:ext cx="14436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-181080" y="0"/>
            <a:ext cx="9612360" cy="177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440" y="2997360"/>
            <a:ext cx="845820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牵牛花，请你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，让</a:t>
            </a:r>
            <a:r>
              <a:rPr b="1" lang="en-US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吧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20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918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久，牵牛花发芽了，长出了嫩叶。一天晚上，丁丁梦见牵牛花对他说 ：“</a:t>
            </a:r>
            <a:r>
              <a:rPr b="1" lang="zh-CN" sz="44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给我一根竹竿吧，我可以爬到上面去开花，满足你的愿望。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45964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</p:transition>
  <p:timing>
    <p:tnLst>
      <p:par>
        <p:cTn id="9" dur="indefinite" restart="never" nodeType="tmRoot">
          <p:childTnLst>
            <p:seq>
              <p:cTn id="10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8T03:29:40Z</dcterms:created>
  <dc:creator>li gang</dc:creator>
  <dc:description/>
  <dc:language>en-US</dc:language>
  <cp:lastModifiedBy>User</cp:lastModifiedBy>
  <dcterms:modified xsi:type="dcterms:W3CDTF">2013-04-21T07:53:39Z</dcterms:modified>
  <cp:revision>173</cp:revision>
  <dc:subject/>
  <dc:title>PowerPoint 演示文稿</dc:title>
</cp:coreProperties>
</file>