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EB6-E697-41FC-8D27-0B737A7C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27-07AF-412D-8910-DBDDCA0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75E-03B8-462A-81DC-1EC47305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5DD-5A4F-4EAA-8E9A-8F4E659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3DD-C3A4-41C9-BE97-26EC005F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B93-7443-460C-810E-452444E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6A5-357B-4B22-84AE-D1614DD8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F6B-F423-4C9A-A845-4DAE380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D93-1F58-4256-BDA1-A95BF0F7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502-64A2-4819-8D44-0E7F1F2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6A2-333B-4B15-8750-44E44E8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85E-14B3-4164-B765-3ABE8B1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6862-E27C-4A4A-A90F-E3DBA098C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10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692360" y="206064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320b"/>
                </a:solidFill>
                <a:latin typeface="Times New Roman"/>
                <a:ea typeface="楷体_GB2312"/>
              </a:rPr>
              <a:t>丁丁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白色牵牛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369800" cy="77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084720" y="0"/>
            <a:ext cx="16849440" cy="1067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708280"/>
            <a:ext cx="10009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26656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98252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1416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117080" cy="75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57120" cy="74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84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900000" y="-1684440"/>
            <a:ext cx="13209480" cy="940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125360"/>
            <a:ext cx="66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牵牛花攀着竹竿往上爬，一路吹着快活的小喇叭。白的花、紫的花、粉的花，向着王奶奶张开了笑脸，好像在说：“滴滴答，滴滴答，王奶奶，你好哇！”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-60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2400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1044720" y="2276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5400720" cy="669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73672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1044720" y="0"/>
            <a:ext cx="324036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1044720" y="4941720"/>
            <a:ext cx="547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2565360"/>
            <a:ext cx="76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滴滴答，滴滴答，王奶奶，你好哇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老奶奶"/>
          <p:cNvPicPr/>
          <p:nvPr/>
        </p:nvPicPr>
        <p:blipFill>
          <a:blip r:embed="rId2"/>
          <a:stretch/>
        </p:blipFill>
        <p:spPr>
          <a:xfrm>
            <a:off x="6156360" y="98100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350028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你，好孩子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26920" y="285264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谢谢你，好朋友，帮我实现了愿望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724280"/>
            <a:ext cx="2950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47640" y="4149720"/>
            <a:ext cx="57636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47640" y="4436640"/>
            <a:ext cx="28764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3933360"/>
            <a:ext cx="14292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31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楼上的王奶奶上了年纪，不能下楼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781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96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600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快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发芽长大，让王奶奶也能看到鲜花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612360" cy="177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2997360"/>
            <a:ext cx="84582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牵牛花，请你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让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久，牵牛花发芽了，长出了嫩叶。一天晚上，丁丁梦见牵牛花对他说 ：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给我一根竹竿吧，我可以爬到上面去开花，满足你的愿望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3:29:40Z</dcterms:created>
  <dc:creator>li gang</dc:creator>
  <dc:description/>
  <dc:language>en-US</dc:language>
  <cp:lastModifiedBy>User</cp:lastModifiedBy>
  <dcterms:modified xsi:type="dcterms:W3CDTF">2013-04-21T07:53:39Z</dcterms:modified>
  <cp:revision>173</cp:revision>
  <dc:subject/>
  <dc:title>PowerPoint 演示文稿</dc:title>
</cp:coreProperties>
</file>