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jpeg" ContentType="image/jpeg"/>
  <Override PartName="/ppt/media/image2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2.jpeg" ContentType="image/jpeg"/>
  <Override PartName="/ppt/media/image19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EBB-E7AB-487F-8E69-2E447CA8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1DF-72A9-4ECB-9869-9794EB6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D90-6611-4F75-9CD0-EB3C7D6E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C97-682D-4FC4-B54D-1248F107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7DD-6EC1-4AFC-AA09-66461BB6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715-9E84-46D1-AB95-81A09E05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8CC-49A0-4D7F-A33C-524C7212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148-46C8-4AA4-9D0C-169021AE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89F-0FA6-4580-B918-E73435A3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2E8-D863-410B-8CF8-C3F45D21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6A9-5328-4534-AE0C-150109B5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C64-574B-43BE-8A50-1C2B3A37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E8A3-6EF4-4A1E-A0DB-ED0A72C37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6.jpeg"/><Relationship Id="rId6" Type="http://schemas.openxmlformats.org/officeDocument/2006/relationships/image" Target="../media/image22.jpeg"/><Relationship Id="rId7" Type="http://schemas.openxmlformats.org/officeDocument/2006/relationships/image" Target="../media/image10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692360" y="2060640"/>
            <a:ext cx="6192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7320b"/>
                </a:solidFill>
                <a:latin typeface="Times New Roman"/>
                <a:ea typeface="楷体_GB2312"/>
              </a:rPr>
              <a:t>丁丁和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牵牛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白色牵牛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10369800" cy="77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084720" y="0"/>
            <a:ext cx="16849440" cy="10679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2708280"/>
            <a:ext cx="100090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266560" cy="74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684360" y="0"/>
            <a:ext cx="10982520" cy="73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14160" cy="69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117080" cy="75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牵牛花，请你快快发芽长大，让王奶奶也能看到鲜花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413000"/>
            <a:ext cx="54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57120" cy="74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84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900000" y="-1684440"/>
            <a:ext cx="13209480" cy="940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19280" y="1844640"/>
            <a:ext cx="6121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1125360"/>
            <a:ext cx="669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牵牛花攀着竹竿往上爬，一路吹着快活的小喇叭。白的花、紫的花、粉的花，向着王奶奶张开了笑脸，好像在说：“滴滴答，滴滴答，王奶奶，你好哇！”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59280" y="-603360"/>
            <a:ext cx="4716360" cy="3284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19280" y="1844640"/>
            <a:ext cx="6121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19280" y="1989000"/>
            <a:ext cx="3024000" cy="436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-1044720" y="227664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427640" y="2565360"/>
            <a:ext cx="5400720" cy="669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195640" y="0"/>
            <a:ext cx="2736720" cy="256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-1044720" y="0"/>
            <a:ext cx="3240360" cy="2565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-1044720" y="4941720"/>
            <a:ext cx="5472360" cy="424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2565360"/>
            <a:ext cx="76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滴滴答，滴滴答，王奶奶，你好哇！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老奶奶"/>
          <p:cNvPicPr/>
          <p:nvPr/>
        </p:nvPicPr>
        <p:blipFill>
          <a:blip r:embed="rId2"/>
          <a:stretch/>
        </p:blipFill>
        <p:spPr>
          <a:xfrm>
            <a:off x="6156360" y="981000"/>
            <a:ext cx="2376360" cy="230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2920" y="3500280"/>
            <a:ext cx="90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谢谢你，好孩子！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826920" y="285264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谢谢你，好朋友，帮我实现了愿望！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724280"/>
            <a:ext cx="29509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47640" y="4149720"/>
            <a:ext cx="576360" cy="79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547640" y="4436640"/>
            <a:ext cx="287640" cy="64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692360" y="3933360"/>
            <a:ext cx="142920" cy="11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097440" cy="3166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楼上的王奶奶上了年纪，不能下楼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781360"/>
            <a:ext cx="7164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45370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4969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3600720" cy="35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45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牵牛花，请你快快发芽长大，让王奶奶也能看到鲜花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1413000"/>
            <a:ext cx="54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牵牛花，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请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你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快快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发芽长大，让王奶奶也能看到鲜花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612360" cy="177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2997360"/>
            <a:ext cx="84582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牵牛花，请你</a:t>
            </a:r>
            <a:r>
              <a:rPr b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让</a:t>
            </a:r>
            <a:r>
              <a:rPr b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吧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久，牵牛花发芽了，长出了嫩叶。一天晚上，丁丁梦见牵牛花对他说 ：“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给我一根竹竿吧，我可以爬到上面去开花，满足你的愿望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3:29:40Z</dcterms:created>
  <dc:creator>li gang</dc:creator>
  <dc:description/>
  <dc:language>en-US</dc:language>
  <cp:lastModifiedBy>User</cp:lastModifiedBy>
  <dcterms:modified xsi:type="dcterms:W3CDTF">2013-04-21T07:53:39Z</dcterms:modified>
  <cp:revision>173</cp:revision>
  <dc:subject/>
  <dc:title>PowerPoint 演示文稿</dc:title>
</cp:coreProperties>
</file>