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4D3-8D65-41D9-889B-61B02674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FC1-EE03-47BB-8E95-8D29E772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AE9-C720-4C12-849D-5CF92E2C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300-B779-4220-A54F-601F7D07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DCB-9758-429F-B961-7E8D2D85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904-C68A-4DBB-B3B1-3E4509C1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6A7-B74B-4928-936F-8370467A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C4D-0977-41A3-9D7F-A3349F89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C5E-88D9-40F9-A6CD-E4AFE864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023-B291-4B39-8FC8-9F4A56C8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E90-C5D5-49B8-95C8-46A6C42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D47-44D4-4AAD-8E64-1EA5A6C8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65AC-FBAF-4826-A8A4-5CAAE850F7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5200">
            <a:off x="2531880" y="990720"/>
            <a:ext cx="456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数星星的孩子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28320" y="836640"/>
            <a:ext cx="850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牛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1880" y="476280"/>
            <a:ext cx="1642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织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114300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张衡是汉朝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78--139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我国著名的天文学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9640" y="112536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张衡是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276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这个数星星的孩子名字叫张衡，是汉朝人。他长大以后刻苦钻研天文，成为著名的天文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1905120"/>
            <a:ext cx="46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晚上，无边无际的星空是怎样的美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96252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蓝天  满天星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闪一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27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满天的星星像无数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珍珠撒在夜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371628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喻句：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  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71628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060640"/>
            <a:ext cx="739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较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空中有无数星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满天的星星像无数颗珍珠撒在夜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1080" y="1143000"/>
            <a:ext cx="46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张衡在干什么？圈出动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933720"/>
            <a:ext cx="54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到了几百颗（说明了什么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1143000"/>
            <a:ext cx="52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爷爷的话告诉张衡哪些知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909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斗星像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勺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19:54Z</dcterms:created>
  <dc:creator>X-man</dc:creator>
  <dc:description/>
  <dc:language>en-US</dc:language>
  <cp:lastModifiedBy>微软用户</cp:lastModifiedBy>
  <dcterms:modified xsi:type="dcterms:W3CDTF">2012-04-24T02:31:19Z</dcterms:modified>
  <cp:revision>50</cp:revision>
  <dc:subject/>
  <dc:title>PowerPoint 演示文稿</dc:title>
</cp:coreProperties>
</file>