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1E1B-CC43-4A60-99F2-F6DA50BD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5947-4700-45CD-9FE0-7140C62D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1966-3A14-44A4-A14E-D6C5918A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CF00-1E88-437B-B644-2DB1353D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EDD7-D06E-4FAC-8F04-BD810C92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930A-1184-4B3A-8B21-3203228B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DD0E-B34E-42A8-B0B9-9703B254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88C1-9208-434F-A72D-5ED4997C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DA0C-0324-4EC9-918E-AFE88DFC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EB81-27CA-4C48-A0BC-AF996F62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C3B4-AD4C-4A01-87DA-07130752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3577-2C86-4E96-9925-8313C12E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470B-3FF1-423F-A672-CE685DB4CC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5200">
            <a:off x="2531880" y="990720"/>
            <a:ext cx="45669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数星星的孩子</a:t>
            </a:r>
            <a:endParaRPr b="0" lang="en-US" sz="6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43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北师大版一年级语文下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28320" y="836640"/>
            <a:ext cx="850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牛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41880" y="476280"/>
            <a:ext cx="1642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织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pull dir="lu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pull dir="l"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32720" y="1143000"/>
            <a:ext cx="2411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张衡是汉朝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(78--139)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，我国著名的天文学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79640" y="112536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张衡是怎样的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2276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这个数星星的孩子名字叫张衡，是汉朝人。他长大以后刻苦钻研天文，成为著名的天文学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  <p:sndAc>
      <p:stSnd>
        <p:snd r:embed="rId3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0" y="1905120"/>
            <a:ext cx="46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晚上，无边无际的星空是怎样的美丽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3962520"/>
            <a:ext cx="29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蓝天  满天星星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闪一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chimes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4360" y="227664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满天的星星像无数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颗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珍珠撒在夜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3716280"/>
            <a:ext cx="698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比喻句：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星星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比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        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3716280"/>
            <a:ext cx="11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珍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3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71640" y="2060640"/>
            <a:ext cx="7397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比较句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天空中有无数星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满天的星星像无数颗珍珠撒在夜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3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81080" y="1143000"/>
            <a:ext cx="46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张衡在干什么？圈出动词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3933720"/>
            <a:ext cx="54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数到了几百颗（说明了什么？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cover dir="lu"/>
    <p:sndAc>
      <p:stSnd>
        <p:snd r:embed="rId3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447920" y="1143000"/>
            <a:ext cx="52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爷爷的话告诉张衡哪些知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259092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北斗星像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08360" y="4724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勺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02:19:54Z</dcterms:created>
  <dc:creator>X-man</dc:creator>
  <dc:description/>
  <dc:language>en-US</dc:language>
  <cp:lastModifiedBy>微软用户</cp:lastModifiedBy>
  <dcterms:modified xsi:type="dcterms:W3CDTF">2012-04-24T02:31:19Z</dcterms:modified>
  <cp:revision>50</cp:revision>
  <dc:subject/>
  <dc:title>PowerPoint 演示文稿</dc:title>
</cp:coreProperties>
</file>