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CA4-B02F-4A6E-A211-F38B6F07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7FF-89F7-4DAC-BB11-8C2696AF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50A-8CAD-47CA-BE98-518E0EA3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449-FBC2-4D98-B772-C539DFB9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06C-B38B-4B7A-815F-4F65B48A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407-B0E6-4AD1-A9AA-71A1DCED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E6B-BF94-4149-B86A-BC9AD2F8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D6C-7164-4660-9B98-D65C029B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784-54F5-4352-8727-FFABE6FB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B76-B72D-455C-9922-322EB2B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3A0-F436-47F4-A55B-3CC962E6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2BA-7B39-437C-A16F-44A47F5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B3CF-A799-4A3B-B6FC-172D84218D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不见，摸不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跑得快，又没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去永远不回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金万金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谁能说说，为什么时间一去永远不回头，千金万金买不到？</a:t>
            </a:r>
            <a:br>
              <a:rPr sz="3200"/>
            </a:b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85720" y="3429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（时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1189080" y="-1108080"/>
            <a:ext cx="11592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走进“一休屋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95407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</a:rPr>
              <a:t>请你把诗句与意思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百川东到海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什么时候才能再回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也是这样一去不回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何时复西归？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条条江河向东奔去，流入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少壮不努力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果年青的时候不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老大徒伤悲。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到年老时，再伤心后悔也来不及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2781360"/>
            <a:ext cx="1152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11280" y="2781000"/>
            <a:ext cx="115272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4076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87520" y="4508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1044720" y="-387360"/>
            <a:ext cx="12654000" cy="989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440" y="404640"/>
            <a:ext cx="655164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长　歌　行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青    青   园    中   葵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朝    露   待    日   晞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阳    春   布    德   泽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万    物   生    光   辉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常    恐   秋    节   至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焜    黄   华    叶   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百　川　东　到　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何　时　复　西　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少　壮　不　努　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老　大　徒　伤　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12706200" cy="8785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84360" y="1844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620640"/>
            <a:ext cx="1152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580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549360"/>
            <a:ext cx="1152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1120" y="905040"/>
            <a:ext cx="1508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72480" y="692280"/>
            <a:ext cx="2137320" cy="5138640"/>
            <a:chOff x="1572480" y="692280"/>
            <a:chExt cx="2137320" cy="5138640"/>
          </a:xfrm>
        </p:grpSpPr>
        <p:grpSp>
          <p:nvGrpSpPr>
            <p:cNvPr id="89" name=""/>
            <p:cNvGrpSpPr/>
            <p:nvPr/>
          </p:nvGrpSpPr>
          <p:grpSpPr>
            <a:xfrm>
              <a:off x="1572480" y="692280"/>
              <a:ext cx="2136240" cy="5138640"/>
              <a:chOff x="1572480" y="692280"/>
              <a:chExt cx="2136240" cy="5138640"/>
            </a:xfrm>
          </p:grpSpPr>
          <p:sp>
            <p:nvSpPr>
              <p:cNvPr id="90" name=""/>
              <p:cNvSpPr/>
              <p:nvPr/>
            </p:nvSpPr>
            <p:spPr>
              <a:xfrm>
                <a:off x="1572480" y="764640"/>
                <a:ext cx="2009160" cy="50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少壮不努力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484360" y="692280"/>
                <a:ext cx="1224360" cy="4609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2484720" y="4940640"/>
              <a:ext cx="1225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4164120" y="693720"/>
            <a:ext cx="2208240" cy="4967280"/>
            <a:chOff x="4164120" y="693720"/>
            <a:chExt cx="2208240" cy="4967280"/>
          </a:xfrm>
        </p:grpSpPr>
        <p:grpSp>
          <p:nvGrpSpPr>
            <p:cNvPr id="94" name=""/>
            <p:cNvGrpSpPr/>
            <p:nvPr/>
          </p:nvGrpSpPr>
          <p:grpSpPr>
            <a:xfrm>
              <a:off x="4164120" y="693720"/>
              <a:ext cx="2170800" cy="4967280"/>
              <a:chOff x="4164120" y="693720"/>
              <a:chExt cx="2170800" cy="4967280"/>
            </a:xfrm>
          </p:grpSpPr>
          <p:sp>
            <p:nvSpPr>
              <p:cNvPr id="95" name=""/>
              <p:cNvSpPr/>
              <p:nvPr/>
            </p:nvSpPr>
            <p:spPr>
              <a:xfrm>
                <a:off x="4164120" y="842760"/>
                <a:ext cx="2009160" cy="48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老大徒伤悲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11640" y="693720"/>
                <a:ext cx="1223280" cy="4607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5148360" y="4940640"/>
              <a:ext cx="12240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684360" y="-171360"/>
            <a:ext cx="12419280" cy="936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08000" y="1701720"/>
            <a:ext cx="48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珍惜时间　　努力学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3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15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2708280"/>
            <a:ext cx="4032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长歌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157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83664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川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东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到　海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何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时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复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西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归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壮　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不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努　力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伤　悲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189080" y="-963720"/>
            <a:ext cx="11626920" cy="864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260360" y="-1035000"/>
            <a:ext cx="11593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044720" y="-1035000"/>
            <a:ext cx="11017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67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1846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1768040" cy="890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1540000">
            <a:off x="522360" y="11667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69900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540000">
            <a:off x="234000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归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540000">
            <a:off x="428472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壮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540000">
            <a:off x="449280" y="227664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悲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540000">
            <a:off x="2340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四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1540000">
            <a:off x="4356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何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540000">
            <a:off x="46836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努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540000">
            <a:off x="241128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到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540000">
            <a:off x="4427640" y="37893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大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朋友们，我们又见面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69832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长歌行   百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川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何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复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西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归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少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壮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努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力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伤悲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cp:keywords/>
  <dc:language>en-US</dc:language>
  <cp:lastModifiedBy>User</cp:lastModifiedBy>
  <cp:lastPrinted>1899-12-30T00:00:00Z</cp:lastPrinted>
  <dcterms:modified xsi:type="dcterms:W3CDTF">2012-05-02T04:00:02Z</dcterms:modified>
  <cp:revision>21</cp:revision>
  <dc:subject/>
  <dc:title>幻灯片 1</dc:title>
</cp:coreProperties>
</file>