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6.gif" ContentType="image/gif"/>
  <Override PartName="/ppt/media/image11.png" ContentType="image/png"/>
  <Override PartName="/ppt/media/image7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4.gif" ContentType="image/gif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16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413-675E-4958-9C4E-558C9C10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791-4F1C-459F-96B8-15D5A295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F762-70CB-42EE-92B1-05AC41E8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B15-FB90-4B1C-AC59-57F75C99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BCB-B6F7-40EE-AB0E-415FDB8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BCA6-F081-47DA-BF8C-B98F03B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2DB-71F3-430E-A2A5-F12F42D3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058-25BD-452A-BA0E-85F8B44D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25B-3C0B-4967-9562-A3AB11F6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AAE-AF18-4020-A8F3-8A929E18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52EB-A6E0-4DE4-B48E-6D8A3319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A78-AFD4-42CA-AB6D-89B3956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20B8-8018-4BF4-92E2-0769AD5C7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-228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住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828720" y="-131760"/>
            <a:ext cx="10476000" cy="698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2058840"/>
            <a:ext cx="450072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生待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万事成蹉跎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60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时 间 像 小 马 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你我同坐一班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谁也少不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时间像小马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向前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大家各自做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答答答答答答答答那就不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458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2920"/>
            <a:ext cx="8928000" cy="7000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700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2349360"/>
            <a:ext cx="25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Arial"/>
              </a:rPr>
              <a:t>闹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2205000"/>
            <a:ext cx="28796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000000"/>
                </a:solidFill>
                <a:latin typeface="Arial"/>
              </a:rPr>
              <a:t>钟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1197000"/>
            <a:ext cx="208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nà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197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zhō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0920" y="4076640"/>
            <a:ext cx="180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热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吵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076640"/>
            <a:ext cx="158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时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钟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闹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908000" y="1206000"/>
            <a:ext cx="91440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207180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372360" y="21430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2360" y="47628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2143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11970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你能发现多音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85264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03640" y="692280"/>
            <a:ext cx="51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比一比再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1889280"/>
            <a:ext cx="7705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院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8200" y="98568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84464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26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35002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使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6160" y="443700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已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177336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完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73800" y="258588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院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5080" y="350028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种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8160" y="4437000"/>
            <a:ext cx="17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闹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dc:language>en-US</dc:language>
  <cp:lastModifiedBy>User</cp:lastModifiedBy>
  <dcterms:modified xsi:type="dcterms:W3CDTF">2013-05-07T14:25:02Z</dcterms:modified>
  <cp:revision>184</cp:revision>
  <dc:subject/>
  <dc:title>幻灯片 1</dc:title>
</cp:coreProperties>
</file>