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6.gif" ContentType="image/gif"/>
  <Override PartName="/ppt/media/image11.png" ContentType="image/png"/>
  <Override PartName="/ppt/media/image7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4.gif" ContentType="image/gif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6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DAB-32FD-404E-8A3B-F2E3AB83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ED4-E061-4D2E-BA62-D204FC29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ECE-9591-4F7B-8CE1-C42C8942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030-293E-42C4-A816-B1D1C237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043-D0AE-4B8E-9C28-DE4954E9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086-8ACA-43F2-8D4F-27CC60FE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E34-9150-4CFC-8378-A1B3BDD2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931-1029-446E-9EE5-5FAA794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A8E-D715-49A9-9631-401ED1F1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4F1-8141-4438-B178-04751984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FC6-0D65-41A8-B8D1-E9454749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0CE-DDE2-4C83-9AC0-78F7785E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9A40-FD41-4DA9-9B02-0FECBE8E0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060640"/>
            <a:ext cx="52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短短腿，圆脸膛，耳朵长在脑袋上。肚里声音嘀哒响，提醒我们早起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791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谜底：</a:t>
            </a:r>
            <a:r>
              <a:rPr b="1" i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-228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1c0b"/>
                </a:solidFill>
                <a:latin typeface="Arial"/>
              </a:rPr>
              <a:t>想一想，按课文内容填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28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（           ）、（           ）、（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是小闹钟的朋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有了小闹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再也不睡懒觉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155736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猫头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357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80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31417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动物是怎样抓住时间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97180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304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11788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521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30560" y="-144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寸光阴一寸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金难买寸光阴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84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少壮不努力，老大徒伤悲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458136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之计在于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日之计在于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2480" y="25884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抛弃时间的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时间也抛弃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2058840"/>
            <a:ext cx="450072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1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复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何其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生待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万事成蹉跎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1341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276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闹钟还有可能和谁做朋友，会帮助他做什么？同桌之间互相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763640" y="765000"/>
            <a:ext cx="18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60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时 间 像 小 马 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谁也少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那就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458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2920"/>
            <a:ext cx="8928000" cy="700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220500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小闹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72360" y="907920"/>
            <a:ext cx="169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700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8000" y="2349360"/>
            <a:ext cx="25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</a:rPr>
              <a:t>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2205000"/>
            <a:ext cx="2879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钟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197000"/>
            <a:ext cx="208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19700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zh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076640"/>
            <a:ext cx="180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热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吵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076640"/>
            <a:ext cx="158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时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钟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908000" y="1206000"/>
            <a:ext cx="91440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 鹰   休 息    兔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抓 住   使 劲    咱 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4920" y="214308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hu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20718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sh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1430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04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47628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549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t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1430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3656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rèn w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36561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á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4680" y="437508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任   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436572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一  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g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86240" y="43657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 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5167440"/>
            <a:ext cx="10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3600" y="5943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瞧一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51577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90680" y="588816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　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5238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ī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457200"/>
            <a:ext cx="2361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比一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1197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你能发现多音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85264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妈妈骑着自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，带我到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我看到路口有许多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，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门口写着一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27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2720" y="2492280"/>
            <a:ext cx="358560" cy="2305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242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一行）（银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4005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行了）（不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349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h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39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xí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69228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比一比再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889280"/>
            <a:ext cx="7705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己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8200" y="98568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84464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26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35002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使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6160" y="44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177336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完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3800" y="25858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院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5080" y="350028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种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8160" y="443700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闹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76920" y="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6:19:36Z</dcterms:created>
  <dc:creator>xinjl</dc:creator>
  <dc:description/>
  <dc:language>en-US</dc:language>
  <cp:lastModifiedBy>User</cp:lastModifiedBy>
  <dcterms:modified xsi:type="dcterms:W3CDTF">2013-05-07T14:25:02Z</dcterms:modified>
  <cp:revision>184</cp:revision>
  <dc:subject/>
  <dc:title>幻灯片 1</dc:title>
</cp:coreProperties>
</file>