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6.gif" ContentType="image/gif"/>
  <Override PartName="/ppt/media/image11.png" ContentType="image/png"/>
  <Override PartName="/ppt/media/image7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4.gif" ContentType="image/gif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16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F0A-0980-4C2B-9A9C-6CA6C6C1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CBE-2333-4508-B551-07CD7AA9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C13-583E-4D77-9109-79B883B3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61C-299F-4CC4-AA64-D4BBA12F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E30-F1AA-40D4-BD8C-00A5B2CB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F96-E6D4-4E73-B605-C8CCC97C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348-4D1A-44FE-BC1A-A78B30F5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420-2789-493D-AA09-1AAA1005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CBA-C76B-44FE-8A7C-B17FF1AA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CB0-B1EF-49FC-A3BF-4BF444A0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5B5-6145-44AD-83B2-1F2C0757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F51-4A42-49A2-B862-F786641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4F06-8B61-44B7-9424-9C90F131AB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51460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060640"/>
            <a:ext cx="525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短短腿，圆脸膛，耳朵长在脑袋上。肚里声音嘀哒响，提醒我们早起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5791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谜底：</a:t>
            </a:r>
            <a:r>
              <a:rPr b="1" i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闹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9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-228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260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1c0b"/>
                </a:solidFill>
                <a:latin typeface="Arial"/>
              </a:rPr>
              <a:t>想一想，按课文内容填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28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（           ）、（           ）、（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是小闹钟的朋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有了小闹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再也不睡懒觉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155736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猫头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兔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3573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3808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想一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314172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小动物是怎样抓住时间的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971800" cy="1523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3049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2117880" cy="237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5210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828720" y="-131760"/>
            <a:ext cx="10476000" cy="6989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30560" y="-144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寸光阴一寸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寸金难买寸光阴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844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少壮不努力，老大徒伤悲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4581360"/>
            <a:ext cx="57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年之计在于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日之计在于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828720" y="-131760"/>
            <a:ext cx="10476000" cy="698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2480" y="258840"/>
            <a:ext cx="30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抛弃时间的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时间也抛弃他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2058840"/>
            <a:ext cx="450072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1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复明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何其多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生待明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万事成蹉跎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3280" y="1341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276640"/>
            <a:ext cx="59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小闹钟还有可能和谁做朋友，会帮助他做什么？同桌之间互相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37672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763640" y="765000"/>
            <a:ext cx="187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想一想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6028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时 间 像 小 马 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向前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你我同坐一班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你我同坐一班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谁也少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向前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大家各自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大家各自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那就不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458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2920"/>
            <a:ext cx="8928000" cy="700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5661000"/>
            <a:ext cx="9144000" cy="78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7280" y="220500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小闹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72360" y="907920"/>
            <a:ext cx="1692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8928000" cy="700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8000" y="2349360"/>
            <a:ext cx="25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</a:rPr>
              <a:t>闹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2205000"/>
            <a:ext cx="2879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钟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1197000"/>
            <a:ext cx="208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nà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119700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zhō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4076640"/>
            <a:ext cx="180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热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吵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闹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076640"/>
            <a:ext cx="158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时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钟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闹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908000" y="1206000"/>
            <a:ext cx="91440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老 鹰   休 息    兔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抓 住   使 劲    咱 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4920" y="214308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zhu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20718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sh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21430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zá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04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ī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47628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54936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t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21430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3656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rèn w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36561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há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4680" y="4375080"/>
            <a:ext cx="15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任   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5560" y="4365720"/>
            <a:ext cx="163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一  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364500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gǎ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86240" y="436572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改 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5167440"/>
            <a:ext cx="100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3600" y="5943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瞧一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515772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qi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90680" y="588816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已　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523872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jī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2120" y="457200"/>
            <a:ext cx="2361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比一比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11970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你能发现多音字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85264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妈妈骑着自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车，带我到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我看到路口有许多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，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门口写着一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27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2720" y="2492280"/>
            <a:ext cx="358560" cy="2305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2421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一行）（银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4005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行了）（不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234936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há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3933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xí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3640" y="692280"/>
            <a:ext cx="51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比一比再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889280"/>
            <a:ext cx="77058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己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08200" y="985680"/>
            <a:ext cx="8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184464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263700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350028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使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6160" y="443700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177336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完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3800" y="258588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院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5080" y="3500280"/>
            <a:ext cx="17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种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8160" y="4437000"/>
            <a:ext cx="17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闹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10552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876920" y="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6:19:36Z</dcterms:created>
  <dc:creator>xinjl</dc:creator>
  <dc:description/>
  <dc:language>en-US</dc:language>
  <cp:lastModifiedBy>User</cp:lastModifiedBy>
  <dcterms:modified xsi:type="dcterms:W3CDTF">2013-05-07T14:25:02Z</dcterms:modified>
  <cp:revision>184</cp:revision>
  <dc:subject/>
  <dc:title>幻灯片 1</dc:title>
</cp:coreProperties>
</file>