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6.gif" ContentType="image/gif"/>
  <Override PartName="/ppt/media/image11.png" ContentType="image/png"/>
  <Override PartName="/ppt/media/image7.jpeg" ContentType="image/jpeg"/>
  <Override PartName="/ppt/media/image10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13.png" ContentType="image/png"/>
  <Override PartName="/ppt/media/image4.gif" ContentType="image/gif"/>
  <Override PartName="/ppt/media/image8.png" ContentType="image/png"/>
  <Override PartName="/ppt/media/image1.png" ContentType="image/png"/>
  <Override PartName="/ppt/media/image2.png" ContentType="image/png"/>
  <Override PartName="/ppt/media/image3.png" ContentType="image/png"/>
  <Override PartName="/ppt/media/chimes.wav" ContentType="audio/x-wav"/>
  <Override PartName="/ppt/media/image16.jpeg" ContentType="image/jpe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E2C3-A856-4BEB-B640-81D2F67B7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E67B-CC4A-4C53-BE7A-6AADC8BB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06D9-FD7A-4E5E-88D3-A3DF3B4F6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BD15-BEB2-4BA6-9BD1-69CC0CB27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4E1A-BC13-4AC3-A7D9-D841364D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F3C5-C2E3-4F06-BCD6-FEE979FB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DE8B-8422-47E3-887B-DE3BC9F1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DE3E-CB44-460D-BB4C-12D1C099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DEB1-EEC0-4FB0-9DF3-4F445467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0783-4D8C-4912-B2DA-E27A7718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8808-3978-4876-86C1-6178E110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17B6-543D-411C-9EE2-51E1AD5A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A102-B15C-43C6-93C2-697EF921FB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685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猜一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514600" cy="1143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743200" cy="2438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47640" y="2060640"/>
            <a:ext cx="525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短短腿，圆脸膛，耳朵长在脑袋上。肚里声音嘀哒响，提醒我们早起床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67280" y="57913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谜底：</a:t>
            </a:r>
            <a:r>
              <a:rPr b="1" i="1" lang="zh-CN" sz="40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闹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6094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猜一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0" y="-22860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9280" y="260280"/>
            <a:ext cx="878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71c0b"/>
                </a:solidFill>
                <a:latin typeface="Arial"/>
              </a:rPr>
              <a:t>想一想，按课文内容填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62864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（           ）、（           ）、（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       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是小闹钟的朋友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有了小闹钟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     ）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再也不睡懒觉了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58920" y="1557360"/>
            <a:ext cx="28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猫头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56000" y="155736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兔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08720" y="155736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04000" y="357336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80880" y="38088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想一想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314172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小动物是怎样抓住时间的呢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248520" y="228600"/>
            <a:ext cx="1904760" cy="1752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3520" y="0"/>
            <a:ext cx="2971800" cy="1523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85800" y="30492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想一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300720" y="4292640"/>
            <a:ext cx="2117880" cy="2376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79280" y="1916280"/>
            <a:ext cx="1521000" cy="15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-828720" y="-131760"/>
            <a:ext cx="10476000" cy="69897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230560" y="-1440"/>
            <a:ext cx="155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寸光阴一寸金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寸金难买寸光阴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184464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少壮不努力，老大徒伤悲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51280" y="4581360"/>
            <a:ext cx="57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一年之计在于春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一日之计在于晨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-828720" y="-131760"/>
            <a:ext cx="10476000" cy="69897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212480" y="258840"/>
            <a:ext cx="30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抛弃时间的人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时间也抛弃他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76720" y="2058840"/>
            <a:ext cx="4500720" cy="34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71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明日复明日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明日何其多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我生待明日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万事成蹉跎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99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403280" y="134136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47640" y="2276640"/>
            <a:ext cx="59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小闹钟还有可能和谁做朋友，会帮助他做什么？同桌之间互相说一说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547640" y="476280"/>
            <a:ext cx="2376720" cy="1944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1763640" y="765000"/>
            <a:ext cx="1871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想一想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60280"/>
            <a:ext cx="9144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zh-CN" sz="3200" spc="-1" strike="noStrike">
                <a:solidFill>
                  <a:srgbClr val="ff5050"/>
                </a:solidFill>
                <a:latin typeface="黑体"/>
                <a:ea typeface="黑体"/>
              </a:rPr>
              <a:t>时 间 像 小 马 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时间像小马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时间像小马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答答答答答答答答向前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你我同坐一班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你我同坐一班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答答答答答答答答谁也少不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时间像小马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时间像小马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答答答答答答答答向前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大家各自做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大家各自做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答答答答答答答答那就不同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824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45845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142920"/>
            <a:ext cx="8928000" cy="7000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11280" y="5661000"/>
            <a:ext cx="9144000" cy="789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27280" y="2205000"/>
            <a:ext cx="40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小闹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372360" y="907920"/>
            <a:ext cx="1692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6000" y="0"/>
            <a:ext cx="8928000" cy="7000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08000" y="2349360"/>
            <a:ext cx="25210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000000"/>
                </a:solidFill>
                <a:latin typeface="Arial"/>
              </a:rPr>
              <a:t>闹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48360" y="2205000"/>
            <a:ext cx="28796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000000"/>
                </a:solidFill>
                <a:latin typeface="Arial"/>
              </a:rPr>
              <a:t>钟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35280" y="1197000"/>
            <a:ext cx="208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nà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03640" y="119700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zhō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50920" y="4076640"/>
            <a:ext cx="1800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热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吵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闹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076640"/>
            <a:ext cx="158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时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钟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闹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1708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908000" y="1206000"/>
            <a:ext cx="91440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老 鹰   休 息    兔 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抓 住   使 劲    咱 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4920" y="2143080"/>
            <a:ext cx="22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zhu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51280" y="207180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sh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372360" y="214308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zá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11280" y="40464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yī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2360" y="476280"/>
            <a:ext cx="144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x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72360" y="549360"/>
            <a:ext cx="194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t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48360" y="214308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jì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19280" y="365616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rèn w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43280" y="3656160"/>
            <a:ext cx="26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há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84680" y="4375080"/>
            <a:ext cx="15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任   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35560" y="4365720"/>
            <a:ext cx="163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一  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88000" y="3645000"/>
            <a:ext cx="18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gǎ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86240" y="4365720"/>
            <a:ext cx="11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改 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88000" y="5167440"/>
            <a:ext cx="100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y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03600" y="59436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瞧一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0920" y="5157720"/>
            <a:ext cx="302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qiá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90680" y="5888160"/>
            <a:ext cx="168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已　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67280" y="523872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jīn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762120" y="457200"/>
            <a:ext cx="23619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比一比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0" name=""/>
          <p:cNvSpPr/>
          <p:nvPr/>
        </p:nvSpPr>
        <p:spPr>
          <a:xfrm>
            <a:off x="3995640" y="119700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你能发现多音字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285264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、妈妈骑着自</a:t>
            </a:r>
            <a:r>
              <a:rPr b="1" lang="zh-CN" sz="40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车，带我到银</a:t>
            </a:r>
            <a:r>
              <a:rPr b="1" lang="zh-CN" sz="40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、我看到路口有许多</a:t>
            </a:r>
            <a:r>
              <a:rPr b="1" lang="zh-CN" sz="40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人，银</a:t>
            </a:r>
            <a:r>
              <a:rPr b="1" lang="zh-CN" sz="40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门口写着一</a:t>
            </a:r>
            <a:r>
              <a:rPr b="1" lang="zh-CN" sz="40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大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0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55640" y="2781360"/>
            <a:ext cx="136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52720" y="2492280"/>
            <a:ext cx="358560" cy="2305080"/>
          </a:xfrm>
          <a:custGeom>
            <a:avLst/>
            <a:gdLst>
              <a:gd name="textAreaLeft" fmla="*/ 228960 w 358560"/>
              <a:gd name="textAreaRight" fmla="*/ 358560 w 35856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92360" y="242100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（一行）（银行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48000" y="400536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（行了）（不行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11280" y="2349360"/>
            <a:ext cx="187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hán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11280" y="3933720"/>
            <a:ext cx="187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xín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03640" y="692280"/>
            <a:ext cx="511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比一比再组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1889280"/>
            <a:ext cx="77058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己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       ）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完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      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已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       ）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院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      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劲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       ）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种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      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经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       ）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钟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     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08200" y="985680"/>
            <a:ext cx="88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1844640"/>
            <a:ext cx="17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自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84360" y="2637000"/>
            <a:ext cx="17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已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84360" y="3500280"/>
            <a:ext cx="17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使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86160" y="4437000"/>
            <a:ext cx="17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已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00720" y="1773360"/>
            <a:ext cx="17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完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73800" y="2585880"/>
            <a:ext cx="17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院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45080" y="3500280"/>
            <a:ext cx="179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种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8160" y="4437000"/>
            <a:ext cx="179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闹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5105520" y="35812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876920" y="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06:19:36Z</dcterms:created>
  <dc:creator>xinjl</dc:creator>
  <dc:description/>
  <dc:language>en-US</dc:language>
  <cp:lastModifiedBy>User</cp:lastModifiedBy>
  <dcterms:modified xsi:type="dcterms:W3CDTF">2013-05-07T14:25:02Z</dcterms:modified>
  <cp:revision>184</cp:revision>
  <dc:subject/>
  <dc:title>幻灯片 1</dc:title>
</cp:coreProperties>
</file>