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3.jpeg" ContentType="image/jpeg"/>
  <Override PartName="/ppt/media/image12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4.png" ContentType="image/png"/>
  <Override PartName="/ppt/media/laser.wav" ContentType="audio/x-wav"/>
  <Override PartName="/ppt/media/image6.jpeg" ContentType="image/jpeg"/>
  <Override PartName="/ppt/media/chimes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2BE2-D3B6-440E-AE13-13DCDB597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C778-73DB-4602-8DBF-56AFDBBE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40A4-5517-404B-A386-055E1F48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57B-4167-4110-94B7-D8CA86EC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A8A-41C7-4DBC-8895-68B8EF282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7D67-B7F6-402D-80E9-F861F9F5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D1F3-97E6-445F-A4BA-C090968DC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6CF3-8942-48C5-B5FC-B62B36F5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A52-0535-4147-9616-98ECE478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A4D6-41C8-4A24-BEE3-E9206928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940-595D-4A70-998C-62D9642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C996-4276-4D54-8F70-1954D62F9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103-7762-4BE3-BC3B-60F36035AD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44360" y="0"/>
            <a:ext cx="9288360" cy="6967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xīng    kō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</a:rPr>
              <a:t>星  空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14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颗一颗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数星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3654360"/>
            <a:ext cx="597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棵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9672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549440" y="2276640"/>
            <a:ext cx="633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一颗一颗数星星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数到几百颗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32000" y="3141720"/>
            <a:ext cx="18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2411280" y="1268280"/>
            <a:ext cx="4104720" cy="4248720"/>
            <a:chOff x="2411280" y="1268280"/>
            <a:chExt cx="4104720" cy="4248720"/>
          </a:xfrm>
        </p:grpSpPr>
        <p:sp>
          <p:nvSpPr>
            <p:cNvPr id="92" name=""/>
            <p:cNvSpPr/>
            <p:nvPr/>
          </p:nvSpPr>
          <p:spPr>
            <a:xfrm>
              <a:off x="4463640" y="1268280"/>
              <a:ext cx="0" cy="4248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11280" y="3391920"/>
              <a:ext cx="410472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11280" y="1268280"/>
              <a:ext cx="4104720" cy="424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2863440" y="1800360"/>
              <a:ext cx="3241800" cy="3129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直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56000" y="19162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满天的星星像无数颗珍珠撒在夜空。一个孩子跟爷爷坐在院子里，仰着头，一颗一颗数星星，一直数到几百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357474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55640" y="90792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星星那么多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闪一闪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数得清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2435400"/>
            <a:ext cx="79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说：“能看见，就应当能数的清。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，所以数得很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3876840"/>
            <a:ext cx="784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26920" y="3509640"/>
            <a:ext cx="266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体 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重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272736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zhò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1000080"/>
            <a:ext cx="2952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chó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重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复</a:t>
            </a: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   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26920" y="981000"/>
            <a:ext cx="79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星星那么多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一闪一闪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能数的清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2435400"/>
            <a:ext cx="792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说：“能看见，就应当能数的清。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怕数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，所以数得很慢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5640" y="3876840"/>
            <a:ext cx="784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天上的星星那么多，一闪一闪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树上的叶子那么——， ———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——那么——， ———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826920" y="981000"/>
            <a:ext cx="79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11120" y="230976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435400"/>
            <a:ext cx="7920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1970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爷爷说：“我们的祖先把星星分成一组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组，给它们起了名字。要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一组一组地数，就不容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重了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87640" y="4076640"/>
            <a:ext cx="352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组一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523880" y="2590920"/>
            <a:ext cx="340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08360" y="47242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427640" y="5877000"/>
            <a:ext cx="40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北斗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pull dir="l"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79640" y="1125360"/>
            <a:ext cx="511344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170028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cc00cc"/>
                </a:solidFill>
                <a:latin typeface="Times New Roman"/>
              </a:rPr>
              <a:t>这个数星星的孩子名字叫张衡，是汉朝人。他长大以后刻苦钻研天文，成为著名的天文学家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732720" y="1143000"/>
            <a:ext cx="24112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zh-CN" sz="7200" spc="-1" strike="noStrike">
                <a:solidFill>
                  <a:srgbClr val="ff0000"/>
                </a:solidFill>
                <a:latin typeface="Times New Roman"/>
              </a:rPr>
              <a:t>衡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24000" y="333360"/>
            <a:ext cx="43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北师大版一年级语文下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00000" y="220500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</a:rPr>
              <a:t>数星星的孩子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5280" y="4437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晚上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满天的星星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像无数颗珍珠撒在夜空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050920" y="981000"/>
            <a:ext cx="466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坐在     一组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198900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直      正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0920" y="3284640"/>
            <a:ext cx="47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祖先      很慢</a:t>
            </a: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1640" y="4437000"/>
            <a:ext cx="882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北极星  织女星  没有停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56000" y="1916280"/>
            <a:ext cx="58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晚上，满天的星星像无数颗珍珠撒在夜空。一个孩子跟爷爷坐在院子里，仰着头，一颗一颗数星星，一直数到几百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6070680"/>
            <a:ext cx="1854360" cy="7873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411280" y="1341360"/>
            <a:ext cx="4318560" cy="4247280"/>
            <a:chOff x="2411280" y="1341360"/>
            <a:chExt cx="4318560" cy="4247280"/>
          </a:xfrm>
        </p:grpSpPr>
        <p:sp>
          <p:nvSpPr>
            <p:cNvPr id="67" name=""/>
            <p:cNvSpPr/>
            <p:nvPr/>
          </p:nvSpPr>
          <p:spPr>
            <a:xfrm>
              <a:off x="4570560" y="1341360"/>
              <a:ext cx="0" cy="42472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411280" y="3464280"/>
              <a:ext cx="431856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11280" y="1341360"/>
              <a:ext cx="4318560" cy="4247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887200" y="1873080"/>
              <a:ext cx="3411000" cy="3128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坐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</p:grpSp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6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坐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请坐  坐下 坐车  坐飞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座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一座桥  一座彩虹     座位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座        坐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4280" y="2387520"/>
            <a:ext cx="25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请  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  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32480" y="3232080"/>
            <a:ext cx="252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   ）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6320" y="4022640"/>
            <a:ext cx="355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（   ）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位上看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9T02:19:54Z</dcterms:created>
  <dc:creator>X-man</dc:creator>
  <dc:description/>
  <dc:language>en-US</dc:language>
  <cp:lastModifiedBy>Windows 用户</cp:lastModifiedBy>
  <dcterms:modified xsi:type="dcterms:W3CDTF">2013-04-23T15:30:41Z</dcterms:modified>
  <cp:revision>56</cp:revision>
  <dc:subject/>
  <dc:title>PowerPoint 演示文稿</dc:title>
</cp:coreProperties>
</file>