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5.png" ContentType="image/png"/>
  <Override PartName="/ppt/media/image14.png" ContentType="image/png"/>
  <Override PartName="/ppt/media/image5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11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BFCB-AE42-459F-9EB6-E86185B9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515-22EA-42C6-8A78-F317EE8D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049-5A01-4801-A936-C37C545B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2A17-E47D-462B-BAB2-D9EB73E3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4BD-FAD2-463F-97D5-057E2B59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CF0-A4C3-47A6-B4A5-1EB47283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D9A8-A443-4793-9BA8-BA50238F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442A-ABA6-42F1-A321-F38F2B736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D74C-E52A-4553-99CC-E78FEDA1F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30E9-D115-4A30-AC5C-3A652FD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1A7-881C-4213-9D53-D4AEFF2A2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6D27-8463-4B11-97C6-CB89FB76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C0A7-4E2B-45C9-884A-9278C49063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ku.cc/xzy/sctx/66627.htm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image" Target="../media/image15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8.xml"/><Relationship Id="rId6" Type="http://schemas.openxmlformats.org/officeDocument/2006/relationships/image" Target="../media/image5.gif"/><Relationship Id="rId7" Type="http://schemas.openxmlformats.org/officeDocument/2006/relationships/slide" Target="slide9.xm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9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3.xml"/><Relationship Id="rId7" Type="http://schemas.openxmlformats.org/officeDocument/2006/relationships/slide" Target="slide14.xml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8kedd.mid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l绿草地"/>
          <p:cNvPicPr/>
          <p:nvPr/>
        </p:nvPicPr>
        <p:blipFill>
          <a:blip r:embed="rId2"/>
          <a:stretch/>
        </p:blipFill>
        <p:spPr>
          <a:xfrm>
            <a:off x="71280" y="4219560"/>
            <a:ext cx="9144000" cy="3822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房子"/>
          <p:cNvPicPr/>
          <p:nvPr/>
        </p:nvPicPr>
        <p:blipFill>
          <a:blip r:embed="rId3"/>
          <a:stretch/>
        </p:blipFill>
        <p:spPr>
          <a:xfrm>
            <a:off x="-612720" y="3930480"/>
            <a:ext cx="4680000" cy="3437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0" descr="影片12"/>
          <p:cNvPicPr/>
          <p:nvPr/>
        </p:nvPicPr>
        <p:blipFill>
          <a:blip r:embed="rId4"/>
          <a:stretch/>
        </p:blipFill>
        <p:spPr>
          <a:xfrm flipH="1">
            <a:off x="2123640" y="260280"/>
            <a:ext cx="6048360" cy="6180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"/>
          <p:cNvSpPr/>
          <p:nvPr/>
        </p:nvSpPr>
        <p:spPr>
          <a:xfrm>
            <a:off x="1332000" y="1268280"/>
            <a:ext cx="71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快乐的小公鸡</a:t>
            </a:r>
            <a:endParaRPr b="0" lang="en-US" sz="7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62064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牛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帮助人们耕种田地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4360" y="184464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蛙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庄稼捉害虫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852640"/>
            <a:ext cx="93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蜜蜂说：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飞来飞去给花儿传播花粉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4437000"/>
            <a:ext cx="590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50864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3333ff"/>
                </a:solidFill>
                <a:latin typeface="Arial"/>
              </a:rPr>
              <a:t>帮助别人，你就会得到快乐。”</a:t>
            </a:r>
            <a:endParaRPr b="0" lang="en-US" sz="4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1" descr="ggg"/>
          <p:cNvPicPr/>
          <p:nvPr/>
        </p:nvPicPr>
        <p:blipFill>
          <a:blip r:embed="rId1"/>
          <a:stretch/>
        </p:blipFill>
        <p:spPr>
          <a:xfrm>
            <a:off x="4932360" y="449280"/>
            <a:ext cx="5591160" cy="640872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4"/>
          <p:cNvGrpSpPr/>
          <p:nvPr/>
        </p:nvGrpSpPr>
        <p:grpSpPr>
          <a:xfrm>
            <a:off x="1187280" y="2060640"/>
            <a:ext cx="4968720" cy="1728720"/>
            <a:chOff x="1187280" y="2060640"/>
            <a:chExt cx="4968720" cy="1728720"/>
          </a:xfrm>
        </p:grpSpPr>
        <p:sp>
          <p:nvSpPr>
            <p:cNvPr id="110" name="AutoShape 13"/>
            <p:cNvSpPr/>
            <p:nvPr/>
          </p:nvSpPr>
          <p:spPr>
            <a:xfrm>
              <a:off x="1187280" y="2060640"/>
              <a:ext cx="4895640" cy="1728720"/>
            </a:xfrm>
            <a:prstGeom prst="wedgeRoundRectCallout">
              <a:avLst>
                <a:gd name="adj1" fmla="val 63037"/>
                <a:gd name="adj2" fmla="val -3585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  <p:sp>
          <p:nvSpPr>
            <p:cNvPr id="111" name="Text Box 14"/>
            <p:cNvSpPr/>
            <p:nvPr/>
          </p:nvSpPr>
          <p:spPr>
            <a:xfrm>
              <a:off x="1260360" y="2133360"/>
              <a:ext cx="489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“</a:t>
              </a:r>
              <a:r>
                <a:rPr b="1" lang="zh-CN" sz="4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帮助别人，你就会得到快乐。</a:t>
              </a:r>
              <a:r>
                <a:rPr b="1" lang="zh-CN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”</a:t>
              </a:r>
              <a:endParaRPr b="0" lang="en-US" sz="48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  <p:grpSp>
        <p:nvGrpSpPr>
          <p:cNvPr id="112" name="Group 7"/>
          <p:cNvGrpSpPr/>
          <p:nvPr/>
        </p:nvGrpSpPr>
        <p:grpSpPr>
          <a:xfrm>
            <a:off x="3635280" y="6093000"/>
            <a:ext cx="1081080" cy="431640"/>
            <a:chOff x="3635280" y="6093000"/>
            <a:chExt cx="1081080" cy="431640"/>
          </a:xfrm>
        </p:grpSpPr>
        <p:sp>
          <p:nvSpPr>
            <p:cNvPr id="113" name="Oval 8"/>
            <p:cNvSpPr/>
            <p:nvPr/>
          </p:nvSpPr>
          <p:spPr>
            <a:xfrm>
              <a:off x="3635280" y="6093000"/>
              <a:ext cx="1081080" cy="43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3851280" y="6093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返回</a:t>
              </a:r>
              <a:endParaRPr b="0" lang="en-US" sz="18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8292156434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0" y="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从此，小公鸡每天早早起床，和爸爸一起为人们报时。它成了一只快乐的小公鸡。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l绿草地"/>
          <p:cNvPicPr/>
          <p:nvPr/>
        </p:nvPicPr>
        <p:blipFill>
          <a:blip r:embed="rId1"/>
          <a:stretch/>
        </p:blipFill>
        <p:spPr>
          <a:xfrm>
            <a:off x="0" y="357336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179280" y="260280"/>
            <a:ext cx="835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99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ff6699"/>
                </a:solidFill>
                <a:latin typeface="Arial"/>
                <a:ea typeface="楷体_GB2312"/>
              </a:rPr>
              <a:t>小朋友们，你们做过哪些快乐的事呢？说一说吧，让大家一起分享你的快乐。</a:t>
            </a:r>
            <a:endParaRPr b="0" lang="en-US" sz="4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852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什么时候），我帮助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让我得到了快乐。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快乐.wav" descr=""/>
          <p:cNvPicPr/>
          <p:nvPr/>
        </p:nvPicPr>
        <p:blipFill>
          <a:blip r:embed="rId1"/>
          <a:stretch/>
        </p:blipFill>
        <p:spPr>
          <a:xfrm>
            <a:off x="19051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27" descr="xywpapera1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28" descr="l绿草地"/>
          <p:cNvPicPr/>
          <p:nvPr/>
        </p:nvPicPr>
        <p:blipFill>
          <a:blip r:embed="rId3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29" descr="ggg"/>
          <p:cNvPicPr/>
          <p:nvPr/>
        </p:nvPicPr>
        <p:blipFill>
          <a:blip r:embed="rId4"/>
          <a:stretch/>
        </p:blipFill>
        <p:spPr>
          <a:xfrm>
            <a:off x="4643280" y="3483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30" descr="房子"/>
          <p:cNvPicPr/>
          <p:nvPr/>
        </p:nvPicPr>
        <p:blipFill>
          <a:blip r:embed="rId5"/>
          <a:stretch/>
        </p:blipFill>
        <p:spPr>
          <a:xfrm>
            <a:off x="-324000" y="1989000"/>
            <a:ext cx="5832720" cy="4332600"/>
          </a:xfrm>
          <a:prstGeom prst="rect">
            <a:avLst/>
          </a:prstGeom>
          <a:ln w="0">
            <a:noFill/>
          </a:ln>
        </p:spPr>
      </p:pic>
      <p:pic>
        <p:nvPicPr>
          <p:cNvPr id="125" name="WordArt 1033" descr=""/>
          <p:cNvPicPr/>
          <p:nvPr/>
        </p:nvPicPr>
        <p:blipFill>
          <a:blip r:embed="rId6"/>
          <a:stretch/>
        </p:blipFill>
        <p:spPr>
          <a:xfrm>
            <a:off x="1036800" y="828720"/>
            <a:ext cx="7862760" cy="1585800"/>
          </a:xfrm>
          <a:prstGeom prst="rect">
            <a:avLst/>
          </a:prstGeom>
          <a:ln w="0">
            <a:noFill/>
          </a:ln>
        </p:spPr>
      </p:pic>
      <p:pic>
        <p:nvPicPr>
          <p:cNvPr id="126" name="8kedd.mid" descr=""/>
          <p:cNvPicPr/>
          <p:nvPr/>
        </p:nvPicPr>
        <p:blipFill>
          <a:blip r:embed="rId7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l绿草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>
            <a:hlinkClick r:id="rId2" action="ppaction://hlinksldjump"/>
          </p:cNvPr>
          <p:cNvSpPr/>
          <p:nvPr/>
        </p:nvSpPr>
        <p:spPr>
          <a:xfrm>
            <a:off x="287280" y="1341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8" name="Text Box 5">
            <a:hlinkClick r:id="rId3" action="ppaction://hlinksldjump"/>
          </p:cNvPr>
          <p:cNvSpPr/>
          <p:nvPr/>
        </p:nvSpPr>
        <p:spPr>
          <a:xfrm>
            <a:off x="324000" y="24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539640" y="211680"/>
            <a:ext cx="82803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跑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就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庄稼  害虫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丛 蜜蜂 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牛  苦恼 帮助 得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报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66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l绿草地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7396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289080" y="18900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87280" y="476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24000" y="213372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24000" y="378936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5" name="AutoShape 20"/>
          <p:cNvSpPr/>
          <p:nvPr/>
        </p:nvSpPr>
        <p:spPr>
          <a:xfrm>
            <a:off x="7020000" y="6308640"/>
            <a:ext cx="503280" cy="692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92280"/>
              <a:gd name="textAreaBottom" fmla="*/ 659880 h 692280"/>
            </a:gdLst>
            <a:ahLst/>
            <a:rect l="textAreaLeft" t="textAreaTop" r="textAreaRight" b="textAreaBottom"/>
            <a:pathLst>
              <a:path w="21600" h="29706">
                <a:moveTo>
                  <a:pt x="0" y="0"/>
                </a:moveTo>
                <a:lnTo>
                  <a:pt x="21600" y="0"/>
                </a:lnTo>
                <a:lnTo>
                  <a:pt x="21600" y="29706"/>
                </a:lnTo>
                <a:lnTo>
                  <a:pt x="0" y="29706"/>
                </a:lnTo>
                <a:close/>
              </a:path>
              <a:path fill="lightenLess" w="21600" h="297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6">
                <a:moveTo>
                  <a:pt x="21600" y="0"/>
                </a:moveTo>
                <a:lnTo>
                  <a:pt x="21600" y="29706"/>
                </a:lnTo>
                <a:lnTo>
                  <a:pt x="20200" y="28306"/>
                </a:lnTo>
                <a:lnTo>
                  <a:pt x="20200" y="1400"/>
                </a:lnTo>
                <a:close/>
              </a:path>
              <a:path fill="darkenLess" w="21600" h="29706">
                <a:moveTo>
                  <a:pt x="21600" y="29706"/>
                </a:moveTo>
                <a:lnTo>
                  <a:pt x="0" y="29706"/>
                </a:lnTo>
                <a:lnTo>
                  <a:pt x="1400" y="28306"/>
                </a:lnTo>
                <a:lnTo>
                  <a:pt x="20200" y="28306"/>
                </a:lnTo>
                <a:close/>
              </a:path>
              <a:path fill="lighten" w="21600" h="29706">
                <a:moveTo>
                  <a:pt x="0" y="297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6"/>
                </a:lnTo>
                <a:close/>
              </a:path>
              <a:path fill="darken" w="21600" h="29706">
                <a:moveTo>
                  <a:pt x="10800" y="7890"/>
                </a:moveTo>
                <a:lnTo>
                  <a:pt x="13376" y="10501"/>
                </a:ln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lnTo>
                  <a:pt x="17763" y="14853"/>
                </a:lnTo>
                <a:lnTo>
                  <a:pt x="16109" y="14853"/>
                </a:lnTo>
                <a:lnTo>
                  <a:pt x="16109" y="22042"/>
                </a:lnTo>
                <a:lnTo>
                  <a:pt x="5491" y="22042"/>
                </a:lnTo>
                <a:lnTo>
                  <a:pt x="5491" y="14853"/>
                </a:lnTo>
                <a:lnTo>
                  <a:pt x="3837" y="14853"/>
                </a:lnTo>
                <a:close/>
              </a:path>
              <a:path fill="darkenLess" w="21600" h="29706">
                <a:moveTo>
                  <a:pt x="13376" y="10501"/>
                </a:move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close/>
              </a:path>
              <a:path fill="darkenLess" w="21600" h="29706">
                <a:moveTo>
                  <a:pt x="9877" y="18352"/>
                </a:moveTo>
                <a:lnTo>
                  <a:pt x="11723" y="18352"/>
                </a:lnTo>
                <a:lnTo>
                  <a:pt x="11723" y="22042"/>
                </a:lnTo>
                <a:lnTo>
                  <a:pt x="16109" y="22042"/>
                </a:lnTo>
                <a:lnTo>
                  <a:pt x="16109" y="14853"/>
                </a:lnTo>
                <a:lnTo>
                  <a:pt x="5491" y="14853"/>
                </a:lnTo>
                <a:lnTo>
                  <a:pt x="5491" y="22042"/>
                </a:lnTo>
                <a:lnTo>
                  <a:pt x="9877" y="220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6" name="AutoShape 21"/>
          <p:cNvSpPr/>
          <p:nvPr/>
        </p:nvSpPr>
        <p:spPr>
          <a:xfrm>
            <a:off x="766764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8675640" y="6237360"/>
            <a:ext cx="289080" cy="620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620640"/>
              <a:gd name="textAreaBottom" fmla="*/ 601920 h 620640"/>
            </a:gdLst>
            <a:ahLst/>
            <a:rect l="textAreaLeft" t="textAreaTop" r="textAreaRight" b="textAreaBottom"/>
            <a:pathLst>
              <a:path w="21600" h="46343">
                <a:moveTo>
                  <a:pt x="0" y="0"/>
                </a:moveTo>
                <a:lnTo>
                  <a:pt x="21600" y="0"/>
                </a:lnTo>
                <a:lnTo>
                  <a:pt x="21600" y="46343"/>
                </a:lnTo>
                <a:lnTo>
                  <a:pt x="0" y="46343"/>
                </a:lnTo>
                <a:close/>
              </a:path>
              <a:path fill="lightenLess" w="21600" h="463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6343">
                <a:moveTo>
                  <a:pt x="21600" y="0"/>
                </a:moveTo>
                <a:lnTo>
                  <a:pt x="21600" y="46343"/>
                </a:lnTo>
                <a:lnTo>
                  <a:pt x="20200" y="44943"/>
                </a:lnTo>
                <a:lnTo>
                  <a:pt x="20200" y="1400"/>
                </a:lnTo>
                <a:close/>
              </a:path>
              <a:path fill="darkenLess" w="21600" h="46343">
                <a:moveTo>
                  <a:pt x="21600" y="46343"/>
                </a:moveTo>
                <a:lnTo>
                  <a:pt x="0" y="46343"/>
                </a:lnTo>
                <a:lnTo>
                  <a:pt x="1400" y="44943"/>
                </a:lnTo>
                <a:lnTo>
                  <a:pt x="20200" y="44943"/>
                </a:lnTo>
                <a:close/>
              </a:path>
              <a:path fill="lighten" w="21600" h="46343">
                <a:moveTo>
                  <a:pt x="0" y="46343"/>
                </a:moveTo>
                <a:lnTo>
                  <a:pt x="0" y="0"/>
                </a:lnTo>
                <a:lnTo>
                  <a:pt x="1400" y="1400"/>
                </a:lnTo>
                <a:lnTo>
                  <a:pt x="1400" y="449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20500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公鸡整天没有事情做，心里很苦恼。他想，怎样才能得到快乐呢？</a:t>
            </a:r>
            <a:endParaRPr b="0" lang="en-US" sz="54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l绿草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>
            <a:hlinkClick r:id="rId2" action="ppaction://hlinksldjump"/>
          </p:cNvPr>
          <p:cNvSpPr/>
          <p:nvPr/>
        </p:nvSpPr>
        <p:spPr>
          <a:xfrm>
            <a:off x="289080" y="18900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61" name="Text Box 5">
            <a:hlinkClick r:id="rId3" action="ppaction://hlinksldjump"/>
          </p:cNvPr>
          <p:cNvSpPr/>
          <p:nvPr/>
        </p:nvSpPr>
        <p:spPr>
          <a:xfrm>
            <a:off x="324000" y="24922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62" name="Text Box 6">
            <a:hlinkClick r:id="rId4" action="ppaction://hlinksldjump"/>
          </p:cNvPr>
          <p:cNvSpPr/>
          <p:nvPr/>
        </p:nvSpPr>
        <p:spPr>
          <a:xfrm>
            <a:off x="324000" y="3789360"/>
            <a:ext cx="8532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5076720" y="5923080"/>
            <a:ext cx="987480" cy="934920"/>
            <a:chOff x="5076720" y="5923080"/>
            <a:chExt cx="987480" cy="934920"/>
          </a:xfrm>
        </p:grpSpPr>
        <p:pic>
          <p:nvPicPr>
            <p:cNvPr id="64" name="Picture 8" descr="gif012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5076720" y="5965920"/>
              <a:ext cx="98748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9"/>
            <p:cNvSpPr/>
            <p:nvPr/>
          </p:nvSpPr>
          <p:spPr>
            <a:xfrm>
              <a:off x="5221080" y="5923080"/>
              <a:ext cx="64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  <p:grpSp>
        <p:nvGrpSpPr>
          <p:cNvPr id="66" name="Group 10"/>
          <p:cNvGrpSpPr/>
          <p:nvPr/>
        </p:nvGrpSpPr>
        <p:grpSpPr>
          <a:xfrm>
            <a:off x="6300720" y="5923080"/>
            <a:ext cx="987480" cy="934920"/>
            <a:chOff x="6300720" y="5923080"/>
            <a:chExt cx="987480" cy="934920"/>
          </a:xfrm>
        </p:grpSpPr>
        <p:pic>
          <p:nvPicPr>
            <p:cNvPr id="67" name="Picture 11" descr="gif012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6300720" y="5965920"/>
              <a:ext cx="987480" cy="89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2"/>
            <p:cNvSpPr/>
            <p:nvPr/>
          </p:nvSpPr>
          <p:spPr>
            <a:xfrm>
              <a:off x="6445080" y="5923080"/>
              <a:ext cx="649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  <p:sp>
        <p:nvSpPr>
          <p:cNvPr id="69" name="Text Box 14"/>
          <p:cNvSpPr/>
          <p:nvPr/>
        </p:nvSpPr>
        <p:spPr>
          <a:xfrm>
            <a:off x="179280" y="2421000"/>
            <a:ext cx="89647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ff"/>
                </a:solidFill>
                <a:latin typeface="Arial"/>
                <a:ea typeface="宋体"/>
              </a:rPr>
              <a:t> </a:t>
            </a:r>
            <a:r>
              <a:rPr b="1" lang="zh-CN" sz="8000" spc="-1" strike="noStrike">
                <a:solidFill>
                  <a:srgbClr val="3333ff"/>
                </a:solidFill>
                <a:latin typeface="Arial"/>
                <a:ea typeface="宋体"/>
              </a:rPr>
              <a:t>怎样才能快乐呢？</a:t>
            </a:r>
            <a:endParaRPr b="0" lang="en-US" sz="8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l绿草地"/>
          <p:cNvPicPr/>
          <p:nvPr/>
        </p:nvPicPr>
        <p:blipFill>
          <a:blip r:embed="rId1"/>
          <a:stretch/>
        </p:blipFill>
        <p:spPr>
          <a:xfrm>
            <a:off x="0" y="4365720"/>
            <a:ext cx="9144000" cy="739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>
            <a:hlinkClick r:id="rId2" action="ppaction://hlinksldjump"/>
          </p:cNvPr>
          <p:cNvSpPr/>
          <p:nvPr/>
        </p:nvSpPr>
        <p:spPr>
          <a:xfrm>
            <a:off x="289080" y="18900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2" name="Text Box 4">
            <a:hlinkClick r:id="rId3" action="ppaction://hlinksldjump"/>
          </p:cNvPr>
          <p:cNvSpPr/>
          <p:nvPr/>
        </p:nvSpPr>
        <p:spPr>
          <a:xfrm>
            <a:off x="287280" y="47628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跑到田野里问老牛：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老牛爷爷，怎样才能快乐呢？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牛说：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帮助人们耕种田地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3" name="Text Box 5">
            <a:hlinkClick r:id="rId4" action="ppaction://hlinksldjump"/>
          </p:cNvPr>
          <p:cNvSpPr/>
          <p:nvPr/>
        </p:nvSpPr>
        <p:spPr>
          <a:xfrm>
            <a:off x="324000" y="2133720"/>
            <a:ext cx="8532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跑到池塘边问青蛙：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青蛙哥哥，怎样才能快乐呢？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蛙说：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为庄稼捉害虫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4" name="Text Box 6">
            <a:hlinkClick r:id="rId5" action="ppaction://hlinksldjump"/>
          </p:cNvPr>
          <p:cNvSpPr/>
          <p:nvPr/>
        </p:nvSpPr>
        <p:spPr>
          <a:xfrm>
            <a:off x="324000" y="3789360"/>
            <a:ext cx="85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跑到花丛中问蜜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：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蜜蜂姐姐，怎样才能快乐呢？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蜜蜂说：“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飞来飞去给花儿传播花粉，就快乐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5" name="AutoShape 7">
            <a:hlinkClick r:id="rId6" action="ppaction://hlinksldjump"/>
          </p:cNvPr>
          <p:cNvSpPr/>
          <p:nvPr/>
        </p:nvSpPr>
        <p:spPr>
          <a:xfrm>
            <a:off x="6300720" y="6165720"/>
            <a:ext cx="503280" cy="692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692280"/>
              <a:gd name="textAreaBottom" fmla="*/ 659880 h 692280"/>
            </a:gdLst>
            <a:ahLst/>
            <a:rect l="textAreaLeft" t="textAreaTop" r="textAreaRight" b="textAreaBottom"/>
            <a:pathLst>
              <a:path w="21600" h="29706">
                <a:moveTo>
                  <a:pt x="0" y="0"/>
                </a:moveTo>
                <a:lnTo>
                  <a:pt x="21600" y="0"/>
                </a:lnTo>
                <a:lnTo>
                  <a:pt x="21600" y="29706"/>
                </a:lnTo>
                <a:lnTo>
                  <a:pt x="0" y="29706"/>
                </a:lnTo>
                <a:close/>
              </a:path>
              <a:path fill="lightenLess" w="21600" h="297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706">
                <a:moveTo>
                  <a:pt x="21600" y="0"/>
                </a:moveTo>
                <a:lnTo>
                  <a:pt x="21600" y="29706"/>
                </a:lnTo>
                <a:lnTo>
                  <a:pt x="20200" y="28306"/>
                </a:lnTo>
                <a:lnTo>
                  <a:pt x="20200" y="1400"/>
                </a:lnTo>
                <a:close/>
              </a:path>
              <a:path fill="darkenLess" w="21600" h="29706">
                <a:moveTo>
                  <a:pt x="21600" y="29706"/>
                </a:moveTo>
                <a:lnTo>
                  <a:pt x="0" y="29706"/>
                </a:lnTo>
                <a:lnTo>
                  <a:pt x="1400" y="28306"/>
                </a:lnTo>
                <a:lnTo>
                  <a:pt x="20200" y="28306"/>
                </a:lnTo>
                <a:close/>
              </a:path>
              <a:path fill="lighten" w="21600" h="29706">
                <a:moveTo>
                  <a:pt x="0" y="297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8306"/>
                </a:lnTo>
                <a:close/>
              </a:path>
              <a:path fill="darken" w="21600" h="29706">
                <a:moveTo>
                  <a:pt x="10800" y="7890"/>
                </a:moveTo>
                <a:lnTo>
                  <a:pt x="13376" y="10501"/>
                </a:ln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lnTo>
                  <a:pt x="17763" y="14853"/>
                </a:lnTo>
                <a:lnTo>
                  <a:pt x="16109" y="14853"/>
                </a:lnTo>
                <a:lnTo>
                  <a:pt x="16109" y="22042"/>
                </a:lnTo>
                <a:lnTo>
                  <a:pt x="5491" y="22042"/>
                </a:lnTo>
                <a:lnTo>
                  <a:pt x="5491" y="14853"/>
                </a:lnTo>
                <a:lnTo>
                  <a:pt x="3837" y="14853"/>
                </a:lnTo>
                <a:close/>
              </a:path>
              <a:path fill="darkenLess" w="21600" h="29706">
                <a:moveTo>
                  <a:pt x="13376" y="10501"/>
                </a:moveTo>
                <a:lnTo>
                  <a:pt x="13376" y="8760"/>
                </a:lnTo>
                <a:lnTo>
                  <a:pt x="15152" y="8760"/>
                </a:lnTo>
                <a:lnTo>
                  <a:pt x="15152" y="12277"/>
                </a:lnTo>
                <a:close/>
              </a:path>
              <a:path fill="darkenLess" w="21600" h="29706">
                <a:moveTo>
                  <a:pt x="9877" y="18352"/>
                </a:moveTo>
                <a:lnTo>
                  <a:pt x="11723" y="18352"/>
                </a:lnTo>
                <a:lnTo>
                  <a:pt x="11723" y="22042"/>
                </a:lnTo>
                <a:lnTo>
                  <a:pt x="16109" y="22042"/>
                </a:lnTo>
                <a:lnTo>
                  <a:pt x="16109" y="14853"/>
                </a:lnTo>
                <a:lnTo>
                  <a:pt x="5491" y="14853"/>
                </a:lnTo>
                <a:lnTo>
                  <a:pt x="5491" y="22042"/>
                </a:lnTo>
                <a:lnTo>
                  <a:pt x="9877" y="2204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6" name="AutoShape 8">
            <a:hlinkClick r:id="rId7" action="ppaction://hlinksldjump"/>
          </p:cNvPr>
          <p:cNvSpPr/>
          <p:nvPr/>
        </p:nvSpPr>
        <p:spPr>
          <a:xfrm>
            <a:off x="709308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1127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2539" h="21600">
                <a:moveTo>
                  <a:pt x="1127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2539" h="21600">
                <a:moveTo>
                  <a:pt x="8693" y="8224"/>
                </a:moveTo>
                <a:lnTo>
                  <a:pt x="12558" y="8224"/>
                </a:lnTo>
                <a:lnTo>
                  <a:pt x="12558" y="15221"/>
                </a:lnTo>
                <a:lnTo>
                  <a:pt x="13846" y="15221"/>
                </a:lnTo>
                <a:lnTo>
                  <a:pt x="13846" y="16144"/>
                </a:lnTo>
                <a:lnTo>
                  <a:pt x="8693" y="16144"/>
                </a:lnTo>
                <a:lnTo>
                  <a:pt x="8693" y="15221"/>
                </a:lnTo>
                <a:lnTo>
                  <a:pt x="9981" y="15221"/>
                </a:lnTo>
                <a:lnTo>
                  <a:pt x="9981" y="9129"/>
                </a:lnTo>
                <a:lnTo>
                  <a:pt x="8693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7" name="AutoShape 9">
            <a:hlinkClick r:id="rId8" action="ppaction://hlinksldjump"/>
          </p:cNvPr>
          <p:cNvSpPr/>
          <p:nvPr/>
        </p:nvSpPr>
        <p:spPr>
          <a:xfrm>
            <a:off x="7885080" y="6237360"/>
            <a:ext cx="289080" cy="62064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620640"/>
              <a:gd name="textAreaBottom" fmla="*/ 601920 h 620640"/>
            </a:gdLst>
            <a:ahLst/>
            <a:rect l="textAreaLeft" t="textAreaTop" r="textAreaRight" b="textAreaBottom"/>
            <a:pathLst>
              <a:path w="21600" h="46343">
                <a:moveTo>
                  <a:pt x="0" y="0"/>
                </a:moveTo>
                <a:lnTo>
                  <a:pt x="21600" y="0"/>
                </a:lnTo>
                <a:lnTo>
                  <a:pt x="21600" y="46343"/>
                </a:lnTo>
                <a:lnTo>
                  <a:pt x="0" y="46343"/>
                </a:lnTo>
                <a:close/>
              </a:path>
              <a:path fill="lightenLess" w="21600" h="463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6343">
                <a:moveTo>
                  <a:pt x="21600" y="0"/>
                </a:moveTo>
                <a:lnTo>
                  <a:pt x="21600" y="46343"/>
                </a:lnTo>
                <a:lnTo>
                  <a:pt x="20200" y="44943"/>
                </a:lnTo>
                <a:lnTo>
                  <a:pt x="20200" y="1400"/>
                </a:lnTo>
                <a:close/>
              </a:path>
              <a:path fill="darkenLess" w="21600" h="46343">
                <a:moveTo>
                  <a:pt x="21600" y="46343"/>
                </a:moveTo>
                <a:lnTo>
                  <a:pt x="0" y="46343"/>
                </a:lnTo>
                <a:lnTo>
                  <a:pt x="1400" y="44943"/>
                </a:lnTo>
                <a:lnTo>
                  <a:pt x="20200" y="44943"/>
                </a:lnTo>
                <a:close/>
              </a:path>
              <a:path fill="lighten" w="21600" h="46343">
                <a:moveTo>
                  <a:pt x="0" y="46343"/>
                </a:moveTo>
                <a:lnTo>
                  <a:pt x="0" y="0"/>
                </a:lnTo>
                <a:lnTo>
                  <a:pt x="1400" y="1400"/>
                </a:lnTo>
                <a:lnTo>
                  <a:pt x="1400" y="449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78" name="AutoShape 10"/>
          <p:cNvSpPr/>
          <p:nvPr/>
        </p:nvSpPr>
        <p:spPr>
          <a:xfrm>
            <a:off x="8388360" y="638172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39" h="21600">
                <a:moveTo>
                  <a:pt x="16013" y="8406"/>
                </a:moveTo>
                <a:lnTo>
                  <a:pt x="20443" y="8406"/>
                </a:lnTo>
                <a:lnTo>
                  <a:pt x="24864" y="3794"/>
                </a:lnTo>
                <a:lnTo>
                  <a:pt x="24864" y="17806"/>
                </a:lnTo>
                <a:lnTo>
                  <a:pt x="20443" y="13194"/>
                </a:lnTo>
                <a:lnTo>
                  <a:pt x="16013" y="13194"/>
                </a:lnTo>
                <a:close/>
              </a:path>
              <a:path fill="darken" w="46039" h="21600">
                <a:moveTo>
                  <a:pt x="26518" y="10800"/>
                </a:moveTo>
                <a:lnTo>
                  <a:pt x="30026" y="10800"/>
                </a:lnTo>
              </a:path>
              <a:path fill="darken" w="46039" h="21600">
                <a:moveTo>
                  <a:pt x="26518" y="8406"/>
                </a:moveTo>
                <a:lnTo>
                  <a:pt x="30026" y="5639"/>
                </a:lnTo>
              </a:path>
              <a:path fill="darken" w="46039" h="21600">
                <a:moveTo>
                  <a:pt x="26518" y="13194"/>
                </a:moveTo>
                <a:lnTo>
                  <a:pt x="3002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01300000167299125378508967238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990720" y="18900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啄木鸟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0" y="1628640"/>
            <a:ext cx="419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为大树治病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3708360" y="907920"/>
            <a:ext cx="590544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跑到（   ）问（   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才能快乐呢？（  ）</a:t>
            </a: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），就快乐了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6516720" y="90792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森林里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3995640" y="1557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啄木鸟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6516720" y="155412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啄木鸟哥哥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7991640" y="220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啄木鸟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87" name="Text Box 19"/>
          <p:cNvSpPr/>
          <p:nvPr/>
        </p:nvSpPr>
        <p:spPr>
          <a:xfrm>
            <a:off x="5435640" y="30686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为大树治病</a:t>
            </a:r>
            <a:endParaRPr b="0" lang="en-US" sz="32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maotouying2_019"/>
          <p:cNvPicPr/>
          <p:nvPr/>
        </p:nvPicPr>
        <p:blipFill>
          <a:blip r:embed="rId1"/>
          <a:stretch/>
        </p:blipFill>
        <p:spPr>
          <a:xfrm>
            <a:off x="0" y="0"/>
            <a:ext cx="4319640" cy="6840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609480" y="38088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猫头鹰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0880" y="18288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为庄稼捉田鼠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140360" y="476280"/>
            <a:ext cx="557532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跑到（       ）问（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才能快乐呢？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 ），就快乐了。”  </a:t>
            </a: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db19b890837a1b21d31b7045"/>
          <p:cNvPicPr/>
          <p:nvPr/>
        </p:nvPicPr>
        <p:blipFill>
          <a:blip r:embed="rId1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79280" y="0"/>
            <a:ext cx="41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蜻蜓   飞来飞去捉害虫</a:t>
            </a:r>
            <a:endParaRPr b="0" lang="en-US" sz="6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140360" y="476280"/>
            <a:ext cx="5256000" cy="40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跑到（       ）问（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才能快乐呢？（    ）说：“（          ），就快乐了。”  </a:t>
            </a: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ffff00"/>
              </a:solidFill>
              <a:uFillTx/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影片7"/>
          <p:cNvPicPr/>
          <p:nvPr/>
        </p:nvPicPr>
        <p:blipFill>
          <a:blip r:embed="rId1"/>
          <a:stretch/>
        </p:blipFill>
        <p:spPr>
          <a:xfrm>
            <a:off x="-3276720" y="-3479760"/>
            <a:ext cx="7775640" cy="6958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ggg"/>
          <p:cNvPicPr/>
          <p:nvPr/>
        </p:nvPicPr>
        <p:blipFill>
          <a:blip r:embed="rId2"/>
          <a:stretch/>
        </p:blipFill>
        <p:spPr>
          <a:xfrm>
            <a:off x="4957920" y="1773360"/>
            <a:ext cx="5591160" cy="640872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4"/>
          <p:cNvGrpSpPr/>
          <p:nvPr/>
        </p:nvGrpSpPr>
        <p:grpSpPr>
          <a:xfrm>
            <a:off x="971640" y="3716280"/>
            <a:ext cx="4968720" cy="1728720"/>
            <a:chOff x="971640" y="3716280"/>
            <a:chExt cx="4968720" cy="1728720"/>
          </a:xfrm>
        </p:grpSpPr>
        <p:sp>
          <p:nvSpPr>
            <p:cNvPr id="98" name="AutoShape 13"/>
            <p:cNvSpPr/>
            <p:nvPr/>
          </p:nvSpPr>
          <p:spPr>
            <a:xfrm>
              <a:off x="971640" y="3716280"/>
              <a:ext cx="4895640" cy="1728720"/>
            </a:xfrm>
            <a:prstGeom prst="wedgeRoundRectCallout">
              <a:avLst>
                <a:gd name="adj1" fmla="val 63037"/>
                <a:gd name="adj2" fmla="val -35856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  <p:sp>
          <p:nvSpPr>
            <p:cNvPr id="99" name="Text Box 14"/>
            <p:cNvSpPr/>
            <p:nvPr/>
          </p:nvSpPr>
          <p:spPr>
            <a:xfrm>
              <a:off x="1044720" y="3789000"/>
              <a:ext cx="4895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 </a:t>
              </a:r>
              <a:r>
                <a:rPr b="1" lang="en-US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“</a:t>
              </a:r>
              <a:r>
                <a:rPr b="1" lang="zh-CN" sz="48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帮助别人，你就会得到快乐。</a:t>
              </a:r>
              <a:r>
                <a:rPr b="1" lang="zh-CN" sz="4800" spc="-1" strike="noStrike">
                  <a:solidFill>
                    <a:srgbClr val="3333ff"/>
                  </a:solidFill>
                  <a:latin typeface="Arial"/>
                  <a:ea typeface="楷体_GB2312"/>
                </a:rPr>
                <a:t>”</a:t>
              </a:r>
              <a:endParaRPr b="0" lang="en-US" sz="48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  <p:grpSp>
        <p:nvGrpSpPr>
          <p:cNvPr id="100" name="Group 5"/>
          <p:cNvGrpSpPr/>
          <p:nvPr/>
        </p:nvGrpSpPr>
        <p:grpSpPr>
          <a:xfrm>
            <a:off x="2016000" y="836640"/>
            <a:ext cx="7127640" cy="1800360"/>
            <a:chOff x="2016000" y="836640"/>
            <a:chExt cx="7127640" cy="1800360"/>
          </a:xfrm>
        </p:grpSpPr>
        <p:sp>
          <p:nvSpPr>
            <p:cNvPr id="101" name="AutoShape 3"/>
            <p:cNvSpPr/>
            <p:nvPr/>
          </p:nvSpPr>
          <p:spPr>
            <a:xfrm>
              <a:off x="2016000" y="836640"/>
              <a:ext cx="6742800" cy="1800360"/>
            </a:xfrm>
            <a:prstGeom prst="wedgeRoundRectCallout">
              <a:avLst>
                <a:gd name="adj1" fmla="val -56916"/>
                <a:gd name="adj2" fmla="val -44884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  <p:sp>
          <p:nvSpPr>
            <p:cNvPr id="102" name="Text Box 6"/>
            <p:cNvSpPr/>
            <p:nvPr/>
          </p:nvSpPr>
          <p:spPr>
            <a:xfrm>
              <a:off x="2093760" y="836640"/>
              <a:ext cx="7049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爸爸，做什么事最快乐？为什么老牛爷爷、青蛙哥哥、蜜蜂姐姐说的不一样呢？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”</a:t>
              </a:r>
              <a:endParaRPr b="0" lang="en-US" sz="3600" spc="-1" strike="noStrike" u="sng">
                <a:solidFill>
                  <a:srgbClr val="ffff00"/>
                </a:solidFill>
                <a:uFillTx/>
                <a:latin typeface="Arial"/>
              </a:endParaRPr>
            </a:p>
          </p:txBody>
        </p:sp>
      </p:grpSp>
    </p:spTree>
  </p:cSld>
  <p:transition spd="med">
    <p:wedg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8T09:41:53Z</dcterms:created>
  <dc:creator>aaa</dc:creator>
  <dc:description/>
  <dc:language>en-US</dc:language>
  <cp:lastModifiedBy>Windows 用户</cp:lastModifiedBy>
  <dcterms:modified xsi:type="dcterms:W3CDTF">2013-04-23T14:02:29Z</dcterms:modified>
  <cp:revision>134</cp:revision>
  <dc:subject/>
  <dc:title>幻灯片 1</dc:title>
</cp:coreProperties>
</file>