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laser.wav" ContentType="audio/x-wav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437-F232-4BC9-9598-138290F46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5C9-2444-4534-B8A7-C2E4D198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F6D-16EB-42BC-976C-6443FEDAB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CCD7-38C3-4990-975F-754018C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4CB2-A1F7-4F8C-9E4A-B3BCD302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2C97-834D-4035-958D-2A1DF330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F219-AA8A-4731-B9F3-C16A3D0F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C30B-7577-47B9-90EE-67FAB4FE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95009-E03A-46D1-B0A1-B979E603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2E9-52A0-420B-AF8C-137256AA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9AE5-617A-4C3E-BAAA-C2718EB7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E243-92EC-4217-BA09-7A7498B5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4A4C-6AAE-4444-9D97-BBBA20D8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850C-362E-41FE-BD14-AF57FF1B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3443C-88A9-4FC1-AF6F-005813F1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E46C-9CEC-49FA-AF21-890AC164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3AC5-8206-4421-98A3-ADC1B9F1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EFE-564C-4592-9B09-C31A9538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CB3E-F9A5-462A-9613-C3FCBA2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DB4-45DE-4313-9471-643D916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CF5F-8619-4998-A3A7-77F9FCA2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FB4-78E3-4E5D-B4BC-08B51F14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3F0-33C3-4FF6-8ECF-D548E727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63C7-7B0A-4737-A0D7-33C1E2A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906B-01B7-46A4-9005-EAFB1FD5B7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8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4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3921-E8FC-4685-B33E-7FE6A9C609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Local%20Settings/Temp/HZ$D.138.744/Local%20Settings/Temporary%20Internet%20Files/Content.IE5/XISO8ZFI/&#28436;&#31034;&#25991;&#31295;2.ppt#12. &#24187;&#28783;&#29255; 12" TargetMode="External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01300000350891123692762340550_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5"/>
          <p:cNvSpPr/>
          <p:nvPr/>
        </p:nvSpPr>
        <p:spPr>
          <a:xfrm>
            <a:off x="1332000" y="2421000"/>
            <a:ext cx="619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好事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1258920" y="765000"/>
            <a:ext cx="338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010_s"/>
          <p:cNvPicPr/>
          <p:nvPr/>
        </p:nvPicPr>
        <p:blipFill>
          <a:blip r:embed="rId2"/>
          <a:stretch/>
        </p:blipFill>
        <p:spPr>
          <a:xfrm>
            <a:off x="4032360" y="1413000"/>
            <a:ext cx="5111640" cy="3168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762340550_s"/>
          <p:cNvPicPr/>
          <p:nvPr/>
        </p:nvPicPr>
        <p:blipFill>
          <a:blip r:embed="rId3"/>
          <a:stretch/>
        </p:blipFill>
        <p:spPr>
          <a:xfrm>
            <a:off x="0" y="3738600"/>
            <a:ext cx="4427640" cy="3119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8"/>
          <p:cNvSpPr/>
          <p:nvPr/>
        </p:nvSpPr>
        <p:spPr>
          <a:xfrm>
            <a:off x="539640" y="1700280"/>
            <a:ext cx="49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马莎掉到河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跳下去救她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5" descr="2340550_s"/>
          <p:cNvPicPr/>
          <p:nvPr/>
        </p:nvPicPr>
        <p:blipFill>
          <a:blip r:embed="rId2"/>
          <a:stretch/>
        </p:blipFill>
        <p:spPr>
          <a:xfrm>
            <a:off x="4788000" y="1341360"/>
            <a:ext cx="4356000" cy="307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762340550_s"/>
          <p:cNvPicPr/>
          <p:nvPr/>
        </p:nvPicPr>
        <p:blipFill>
          <a:blip r:embed="rId3"/>
          <a:stretch/>
        </p:blipFill>
        <p:spPr>
          <a:xfrm>
            <a:off x="0" y="3484440"/>
            <a:ext cx="4788000" cy="33735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755640" y="1700280"/>
            <a:ext cx="46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狼来抓小狗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开枪把狼打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23692762340550_s"/>
          <p:cNvPicPr/>
          <p:nvPr/>
        </p:nvPicPr>
        <p:blipFill>
          <a:blip r:embed="rId2"/>
          <a:stretch/>
        </p:blipFill>
        <p:spPr>
          <a:xfrm>
            <a:off x="4572000" y="1484280"/>
            <a:ext cx="4572000" cy="3233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762340550_s"/>
          <p:cNvPicPr/>
          <p:nvPr/>
        </p:nvPicPr>
        <p:blipFill>
          <a:blip r:embed="rId3"/>
          <a:stretch/>
        </p:blipFill>
        <p:spPr>
          <a:xfrm>
            <a:off x="0" y="3637080"/>
            <a:ext cx="4572000" cy="32209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7"/>
          <p:cNvSpPr/>
          <p:nvPr/>
        </p:nvSpPr>
        <p:spPr>
          <a:xfrm>
            <a:off x="792000" y="1628640"/>
            <a:ext cx="42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如果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奶奶不小心摔断了腿，我</a:t>
            </a:r>
            <a:r>
              <a:rPr b="1" lang="zh-CN" sz="3600" spc="-1" strike="noStrike">
                <a:solidFill>
                  <a:srgbClr val="ff5050"/>
                </a:solidFill>
                <a:latin typeface="Arial"/>
                <a:ea typeface="楷体_GB2312"/>
              </a:rPr>
              <a:t>就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  <a:ea typeface="楷体_GB2312"/>
              </a:rPr>
              <a:t>背着她去医院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2"/>
          <p:cNvSpPr/>
          <p:nvPr/>
        </p:nvSpPr>
        <p:spPr>
          <a:xfrm>
            <a:off x="1042920" y="206064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奶奶不小心摔断了腿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背着她去医院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"/>
          <p:cNvSpPr/>
          <p:nvPr/>
        </p:nvSpPr>
        <p:spPr>
          <a:xfrm>
            <a:off x="2387880" y="692280"/>
            <a:ext cx="49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马莎掉到河里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跳下去救她！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"/>
          <p:cNvSpPr/>
          <p:nvPr/>
        </p:nvSpPr>
        <p:spPr>
          <a:xfrm>
            <a:off x="3142440" y="1413000"/>
            <a:ext cx="340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“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如果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狼来抓小狗，我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就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开枪把狼打死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005480" y="3213000"/>
            <a:ext cx="73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我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就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"/>
          <p:cNvSpPr/>
          <p:nvPr/>
        </p:nvSpPr>
        <p:spPr>
          <a:xfrm>
            <a:off x="2523600" y="4221000"/>
            <a:ext cx="286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三件事情是好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三件事发生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4"/>
          <p:cNvSpPr/>
          <p:nvPr/>
        </p:nvSpPr>
        <p:spPr>
          <a:xfrm>
            <a:off x="826920" y="76500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1403280" y="4365720"/>
            <a:ext cx="532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1187280" y="3789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事如果尤拉去做了，算不算好事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1706400" y="4498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332000" y="4437000"/>
            <a:ext cx="58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187280" y="4365720"/>
            <a:ext cx="6840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6767ff"/>
                </a:solidFill>
                <a:uFillTx/>
                <a:latin typeface="楷体_GB2312"/>
                <a:ea typeface="楷体_GB2312"/>
                <a:hlinkClick r:id="rId2"/>
              </a:rPr>
              <a:t>尤拉有没有帮助他们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0" y="765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马莎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拉，带我到山上玩吧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狗摇摇尾巴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拉，给我点水喝吧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奶奶喊尤拉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尤拉乖乖，帮奶奶刷碗  吧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1116000" y="479736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尤拉不做这些事情？他想得对不对？做得对不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3"/>
          <p:cNvSpPr/>
          <p:nvPr/>
        </p:nvSpPr>
        <p:spPr>
          <a:xfrm>
            <a:off x="1187280" y="981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来想去，想不出该做什么好事情，就去问妈妈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抚摸着尤拉的头，说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可以带马莎去玩，给小狗喝水，帮奶奶刷碗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403280" y="328464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767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</a:rPr>
              <a:t>、妈妈叫尤拉做的是好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4149720"/>
            <a:ext cx="640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767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6767ff"/>
                </a:solidFill>
                <a:latin typeface="Arial"/>
              </a:rPr>
              <a:t>、好事情应该从哪里做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084640"/>
            <a:ext cx="82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好事情应从身边的小事做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2"/>
          <p:cNvSpPr/>
          <p:nvPr/>
        </p:nvSpPr>
        <p:spPr>
          <a:xfrm>
            <a:off x="2050920" y="206064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2924280"/>
            <a:ext cx="70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事情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应从身边的小事做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5787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11280" y="1341360"/>
            <a:ext cx="3599640" cy="4102920"/>
            <a:chOff x="611280" y="1341360"/>
            <a:chExt cx="3599640" cy="4102920"/>
          </a:xfrm>
        </p:grpSpPr>
        <p:sp>
          <p:nvSpPr>
            <p:cNvPr id="108" name=""/>
            <p:cNvSpPr/>
            <p:nvPr/>
          </p:nvSpPr>
          <p:spPr>
            <a:xfrm>
              <a:off x="2410920" y="1341360"/>
              <a:ext cx="0" cy="4102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1280" y="3392280"/>
              <a:ext cx="3599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1280" y="1341360"/>
              <a:ext cx="3599640" cy="410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007640" y="1855080"/>
              <a:ext cx="2842920" cy="302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事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572000" y="1341360"/>
            <a:ext cx="3815640" cy="4102920"/>
            <a:chOff x="4572000" y="1341360"/>
            <a:chExt cx="3815640" cy="4102920"/>
          </a:xfrm>
        </p:grpSpPr>
        <p:sp>
          <p:nvSpPr>
            <p:cNvPr id="113" name=""/>
            <p:cNvSpPr/>
            <p:nvPr/>
          </p:nvSpPr>
          <p:spPr>
            <a:xfrm>
              <a:off x="6479640" y="1341360"/>
              <a:ext cx="0" cy="41029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72000" y="3392280"/>
              <a:ext cx="38156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0" y="1341360"/>
              <a:ext cx="3815640" cy="4102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 txBox="1"/>
            <p:nvPr/>
          </p:nvSpPr>
          <p:spPr>
            <a:xfrm>
              <a:off x="4992480" y="1855080"/>
              <a:ext cx="3013560" cy="3022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情</a:t>
              </a:r>
              <a:endPara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9"/>
          <p:cNvSpPr/>
          <p:nvPr/>
        </p:nvSpPr>
        <p:spPr>
          <a:xfrm>
            <a:off x="4211640" y="1812960"/>
            <a:ext cx="17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开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411280" y="184140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尤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39640" y="184464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老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631800" y="321300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抬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433600" y="316404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夹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84720" y="3110040"/>
            <a:ext cx="30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摔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断</a:t>
            </a:r>
            <a:r>
              <a:rPr b="1" lang="zh-CN" sz="4800" spc="-1" strike="noStrike">
                <a:solidFill>
                  <a:srgbClr val="ff33cc"/>
                </a:solidFill>
                <a:latin typeface="楷体"/>
                <a:ea typeface="楷体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84360" y="45813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医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441520" y="458136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厨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659640" y="458136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刷 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11318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l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40000" y="125568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yó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305240" y="1268280"/>
            <a:ext cx="187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qiā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256536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á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217600" y="251604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ji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2430360"/>
            <a:ext cx="194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du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596360" y="1728720"/>
            <a:ext cx="115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tu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3973680"/>
            <a:ext cx="122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y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98600" y="3900600"/>
            <a:ext cx="122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ch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3280" y="3900600"/>
            <a:ext cx="273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shuā wǎ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164120" y="45831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天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210200" y="318132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于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68360" y="7389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如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997440" y="738972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13200" y="390060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q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11640" y="2637000"/>
            <a:ext cx="79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1440" y="674208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rǔ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6742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bi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73800" y="6742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ɡěi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6551640" y="1846440"/>
            <a:ext cx="194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事 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53360" y="1319040"/>
            <a:ext cx="107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h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92880" y="128592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qi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280" y="-387360"/>
            <a:ext cx="316872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考 考 你 </a:t>
            </a:r>
            <a:r>
              <a:rPr b="0" lang="en-US" sz="4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!</a:t>
            </a:r>
            <a:endParaRPr b="0" lang="en-US" sz="4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539640" y="692280"/>
            <a:ext cx="8280360" cy="32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好事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上，尤拉醒了。他看看窗外，天气很好，于是想做点什么好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"/>
          <p:cNvSpPr/>
          <p:nvPr/>
        </p:nvSpPr>
        <p:spPr>
          <a:xfrm>
            <a:off x="539640" y="692280"/>
            <a:ext cx="8280360" cy="36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②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想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马莎掉到河里，我就跳下去救她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恰好马莎来了，她说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，带我到山上玩吧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，别打扰我想事情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说。马莎委屈地走开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684360" y="1125360"/>
            <a:ext cx="82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又想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狼来抓小狗，我就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开枪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狼打死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好小狗跑来了，它对尤拉抬起脑袋，摇摇尾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，给我点水喝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开，我正在想事情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说。小狗夹着尾巴跑开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684360" y="306864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684360" y="333360"/>
            <a:ext cx="82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84360" y="1413000"/>
            <a:ext cx="82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④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接着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奶奶不小心摔断了腿，我就背着她去医院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好奶奶在厨房喊尤拉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尤拉乖乖，帮奶奶刷碗吧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自己刷吧，我的事情更重要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大声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1187280" y="98100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⑤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来想去，想不出该做什么好事情，就去问妈妈。妈妈抚摸着尤拉的头，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可以带马莎去玩，给小狗喝水，帮奶奶刷碗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03280" y="3284640"/>
            <a:ext cx="6624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2"/>
          <p:cNvSpPr/>
          <p:nvPr/>
        </p:nvSpPr>
        <p:spPr>
          <a:xfrm>
            <a:off x="2050920" y="2060640"/>
            <a:ext cx="6048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拉想做什么好事情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想一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2:50:47Z</dcterms:created>
  <dc:creator>dongyun</dc:creator>
  <dc:description/>
  <dc:language>en-US</dc:language>
  <cp:lastModifiedBy>Windows 用户</cp:lastModifiedBy>
  <dcterms:modified xsi:type="dcterms:W3CDTF">2013-04-23T14:26:09Z</dcterms:modified>
  <cp:revision>39</cp:revision>
  <dc:subject/>
  <dc:title>幻灯片 1</dc:title>
</cp:coreProperties>
</file>