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FB6E-44EE-49F1-924D-BD606135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ACB-09E7-428E-8F03-CCD27F433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EC40-06B5-4087-B043-A200703A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A1A-7272-4F44-8DED-1C43A6D2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9BC-3978-43BB-902A-A8476384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3DC8-C4F6-4D04-8B67-7D853909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D76-247B-44B7-A86C-2AEF109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D29F-225C-4A84-B647-3E307687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125A-210D-454A-A701-F67842F0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A93D-8A81-4D07-A44F-9C866C1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59F-33E5-4F2F-B23B-F2EB677C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233-AD59-41D5-A0D8-0F1C7BF9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A1E8-510F-4030-B7F0-11201BD61F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28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84360" y="128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森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128736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7280" y="1360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244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杏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2440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枫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2368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柏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2000" y="244008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松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3664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11280" y="3664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35924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84720" y="35924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88808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休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811080"/>
            <a:ext cx="12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sē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936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xì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95640" y="19368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fē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1863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ǎ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96000" y="2008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sō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308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cá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3280" y="30877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ɡù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43280" y="3016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bǎ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72360" y="30160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tiá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427032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xi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3360"/>
            <a:ext cx="52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这些字为什么都有“木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00000" y="47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0360" y="476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森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54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16720" y="54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树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7002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杏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162864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枫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00720" y="1628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柏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88000" y="1773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松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4292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843280" y="285264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2781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木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42920" y="378936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休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92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92" fill="hold"/>
                                        <p:tgtEl>
                                          <p:spTgt spid="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192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92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192" fill="hold"/>
                                        <p:tgtEl>
                                          <p:spTgt spid="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192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192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92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192" fill="hold"/>
                                        <p:tgtEl>
                                          <p:spTgt spid="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192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家里还有什么东西写出来带“木字旁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桌椅     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衣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书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112536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chuán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1280" y="1125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ɡ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2924280"/>
            <a:ext cx="8229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框     板凳      水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981000"/>
            <a:ext cx="6480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春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李花开日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秋雨梧桐叶落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唐）白居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716280"/>
            <a:ext cx="7200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沾衣欲湿杏花雨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吹面不寒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杨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宋）僧志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000" y="549360"/>
            <a:ext cx="3240360" cy="15843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69228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读一读，记一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7636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76500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98920" y="4046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90792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19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6720" y="1484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270828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43640" y="29973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346860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5840" y="426096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5840" y="512604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3573360"/>
            <a:ext cx="10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580000" y="3716280"/>
            <a:ext cx="10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08:49:20Z</dcterms:created>
  <dc:creator>User</dc:creator>
  <dc:description/>
  <dc:language>en-US</dc:language>
  <cp:lastModifiedBy>User</cp:lastModifiedBy>
  <dcterms:modified xsi:type="dcterms:W3CDTF">2013-05-13T14:38:59Z</dcterms:modified>
  <cp:revision>10</cp:revision>
  <dc:subject/>
  <dc:title>幻灯片 1</dc:title>
</cp:coreProperties>
</file>