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3383-D324-434D-BEDF-9A317E01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F3DA-8D55-4C7C-B110-A570DE99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772-23C9-4632-A59F-F4644E293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526-358F-4080-B477-F9FA1B107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E922-8C97-42DB-9376-4DACBDE8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9BC7-71C4-4A94-A431-8C18A967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A88B-4255-476F-A64A-240DE696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37AA-78F0-4890-880A-B5196E71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37CD-A7BE-4779-9043-E369503D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F007-1565-4177-B293-F4605CCD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779E-1E16-46E4-A5BC-00D3FB7F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0A7-10FE-43F9-BA64-037A53C0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703F-EE53-428B-B24A-AE10B208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C906-2BE1-4108-A5AF-85F24269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DBA5-0E7B-425F-97C3-EAC6955E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C3B4B-EE55-4508-A352-D9DFA0020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7D56-8DF7-4AB3-8F0E-EB9D0AAB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AAA-7F7E-4494-A1A8-999DE4DD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25C-0DC6-43EE-907C-CF32FAF5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2230-3F75-47C1-B024-A1257662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402B-1DB1-4058-A033-8C45D3C6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6C1-DCAE-4A1C-B481-F96F04161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29AC-3B80-438D-AE9C-CDBCB505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1B90-CBE2-466E-9A2E-FB063FB5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9468-7E10-428D-B0A9-EE3C515C019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5B41-ACA8-4993-8156-4F3620C48FA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14.xml"/><Relationship Id="rId4" Type="http://schemas.openxmlformats.org/officeDocument/2006/relationships/image" Target="../media/image5.jpeg"/><Relationship Id="rId5" Type="http://schemas.openxmlformats.org/officeDocument/2006/relationships/slide" Target="slide17.xm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华文中宋"/>
              </a:rPr>
              <a:t>我的名字</a:t>
            </a:r>
            <a:endParaRPr b="0" lang="en-US" sz="66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6858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北师大版一年级语文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-762120" y="-990720"/>
            <a:ext cx="11506320" cy="8663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838080"/>
            <a:ext cx="4800600" cy="6019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105520" y="2376720"/>
            <a:ext cx="40384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雷锋叔叔是中国家喻户晓的全心全意为人民服务的模范。在他短暂的一生帮助过无数的人们。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6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，毛泽东爷爷亲笔题词：“向雷锋同志学习” 。此后，每年三月五日便成了全民学雷锋的日子。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-838080" y="-914400"/>
            <a:ext cx="11353680" cy="5943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0" y="10666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19320" y="228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老爷爷为什么称小男孩为“小雷锋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294920" y="1371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④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推车上坡的老大爷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不知道我的名字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叫我“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小雷锋”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-1066680" y="-1143000"/>
            <a:ext cx="11734560" cy="8834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09680" y="152280"/>
            <a:ext cx="5486400" cy="617220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5" action="ppaction://hlinksldjump"/>
          </p:cNvPr>
          <p:cNvSpPr/>
          <p:nvPr/>
        </p:nvSpPr>
        <p:spPr>
          <a:xfrm>
            <a:off x="8305920" y="6172200"/>
            <a:ext cx="457200" cy="380880"/>
          </a:xfrm>
          <a:prstGeom prst="star5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828800" y="1523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①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问路的叔叔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不知道我的名字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叫我“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小朋友”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>
            <a:hlinkClick r:id="rId2" action="ppaction://hlinksldjump"/>
          </p:cNvPr>
          <p:cNvSpPr/>
          <p:nvPr/>
        </p:nvSpPr>
        <p:spPr>
          <a:xfrm>
            <a:off x="8305920" y="6172200"/>
            <a:ext cx="457200" cy="380880"/>
          </a:xfrm>
          <a:prstGeom prst="star5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2133720" y="12193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②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扫垃圾的阿姨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不知道我的名字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叫我“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红领巾”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>
            <a:hlinkClick r:id="rId2" action="ppaction://hlinksldjump"/>
          </p:cNvPr>
          <p:cNvSpPr/>
          <p:nvPr/>
        </p:nvSpPr>
        <p:spPr>
          <a:xfrm>
            <a:off x="8305920" y="6172200"/>
            <a:ext cx="457200" cy="380880"/>
          </a:xfrm>
          <a:prstGeom prst="star5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980720" y="14479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③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上公交的老奶奶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不知道我的名字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叫我“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好孩子”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>
            <a:hlinkClick r:id="rId2" action="ppaction://hlinksldjump"/>
          </p:cNvPr>
          <p:cNvSpPr/>
          <p:nvPr/>
        </p:nvSpPr>
        <p:spPr>
          <a:xfrm>
            <a:off x="8305920" y="6172200"/>
            <a:ext cx="457200" cy="380880"/>
          </a:xfrm>
          <a:prstGeom prst="star5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440" y="121932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⑤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人们不知道我的名字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3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但是，大家都记住了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</a:rPr>
              <a:t>我的笑容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b200"/>
                </a:solidFill>
                <a:latin typeface="Comic Sans MS"/>
              </a:rPr>
              <a:t>想一想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703dff"/>
                </a:solidFill>
                <a:latin typeface="Comic Sans MS"/>
              </a:rPr>
              <a:t>大家为什么这样称呼“我”？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90720" y="53352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我也能说一说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38080" y="1981080"/>
            <a:ext cx="73152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幼儿园的小妹妹</a:t>
            </a:r>
            <a:r>
              <a:rPr b="0" lang="zh-CN" sz="60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      </a:t>
            </a: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不知道我的名字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叫我“小哥哥”</a:t>
            </a:r>
            <a:r>
              <a:rPr b="1" lang="zh-CN" sz="60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4191120"/>
            <a:ext cx="74678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⑤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人们不知道我的名字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　但是，大家都记住了我的笑容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/>
          <p:nvPr/>
        </p:nvSpPr>
        <p:spPr>
          <a:xfrm>
            <a:off x="5181120" y="771480"/>
            <a:ext cx="31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②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扫垃圾的阿姨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　不知道我的名字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　叫我“红领巾”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④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推车上坡的老大爷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　不知道我的名字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　叫我“小雷锋”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762120"/>
            <a:ext cx="5060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①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问路的叔叔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　不知道我的名字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　叫我“小朋友”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③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上公交的老奶奶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　不知道我的名字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　叫我“好孩子”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omic Sans MS"/>
                <a:ea typeface="华文中宋"/>
              </a:rPr>
              <a:t>我的名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90720" y="533520"/>
            <a:ext cx="670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我也能说一说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76520" y="2209680"/>
            <a:ext cx="670536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                     </a:t>
            </a: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不知道我的名字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叫</a:t>
            </a:r>
            <a:r>
              <a:rPr b="0" lang="zh-CN" sz="6000" spc="-1" strike="noStrike" u="sng">
                <a:solidFill>
                  <a:srgbClr val="000000"/>
                </a:solidFill>
                <a:uFillTx/>
                <a:latin typeface="Comic Sans MS"/>
                <a:ea typeface="楷体_GB2312"/>
              </a:rPr>
              <a:t>                   </a:t>
            </a:r>
            <a:r>
              <a:rPr b="0" lang="zh-CN" sz="6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175248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　　课文中的我有哪些名字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学词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2666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6600" spc="-1" strike="noStrike">
                <a:solidFill>
                  <a:srgbClr val="ff0000"/>
                </a:solidFill>
                <a:latin typeface="Comic Sans MS"/>
              </a:rPr>
              <a:t>知</a:t>
            </a:r>
            <a:r>
              <a:rPr b="1" lang="zh-CN" sz="6600" spc="-1" strike="noStrike">
                <a:solidFill>
                  <a:srgbClr val="0000ff"/>
                </a:solidFill>
                <a:latin typeface="Comic Sans MS"/>
              </a:rPr>
              <a:t>道     笑</a:t>
            </a:r>
            <a:r>
              <a:rPr b="1" lang="zh-CN" sz="6600" spc="-1" strike="noStrike">
                <a:solidFill>
                  <a:srgbClr val="ff0000"/>
                </a:solidFill>
                <a:latin typeface="Comic Sans MS"/>
              </a:rPr>
              <a:t>容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学词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320" y="26668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垃圾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      上</a:t>
            </a:r>
            <a:r>
              <a:rPr b="1" lang="zh-CN" sz="6000" spc="-1" strike="noStrike">
                <a:solidFill>
                  <a:srgbClr val="ff0000"/>
                </a:solidFill>
                <a:latin typeface="Comic Sans MS"/>
              </a:rPr>
              <a:t>坡</a:t>
            </a: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学词语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Comic Sans MS"/>
              </a:rPr>
              <a:t>叔叔     阿姨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Comic Sans MS"/>
              </a:rPr>
              <a:t>老大爷   老奶奶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438280" y="1676520"/>
            <a:ext cx="4033800" cy="4359240"/>
            <a:chOff x="2438280" y="1676520"/>
            <a:chExt cx="4033800" cy="4359240"/>
          </a:xfrm>
        </p:grpSpPr>
        <p:grpSp>
          <p:nvGrpSpPr>
            <p:cNvPr id="165" name=""/>
            <p:cNvGrpSpPr/>
            <p:nvPr/>
          </p:nvGrpSpPr>
          <p:grpSpPr>
            <a:xfrm>
              <a:off x="2438280" y="1716120"/>
              <a:ext cx="4033800" cy="4319640"/>
              <a:chOff x="2438280" y="1716120"/>
              <a:chExt cx="4033800" cy="4319640"/>
            </a:xfrm>
          </p:grpSpPr>
          <p:sp>
            <p:nvSpPr>
              <p:cNvPr id="166" name=""/>
              <p:cNvSpPr/>
              <p:nvPr/>
            </p:nvSpPr>
            <p:spPr>
              <a:xfrm>
                <a:off x="2438280" y="1716120"/>
                <a:ext cx="3958920" cy="4317840"/>
              </a:xfrm>
              <a:prstGeom prst="rect">
                <a:avLst/>
              </a:prstGeom>
              <a:solidFill>
                <a:srgbClr val="ffef66"/>
              </a:solidFill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438280" y="3849480"/>
                <a:ext cx="4033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311360" y="1716120"/>
                <a:ext cx="70920" cy="4319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481200" y="1676520"/>
              <a:ext cx="2161800" cy="40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奶</a:t>
              </a:r>
              <a:endParaRPr b="0" lang="en-US" sz="2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350800" y="44604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一看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74000" y="3808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omic Sans MS"/>
              </a:rPr>
              <a:t>一看笔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43000" y="914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谁怎样称呼这个小男孩的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/>
          <p:nvPr/>
        </p:nvSpPr>
        <p:spPr>
          <a:xfrm>
            <a:off x="1600200" y="2057400"/>
            <a:ext cx="6553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　　　　）称小男孩为“小朋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　　　　）称小男孩为“红领巾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　　　　）称小男孩为“好孩子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　　　　）称小男孩为“小雷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25520" y="1981080"/>
            <a:ext cx="1737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叔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2819520"/>
            <a:ext cx="181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阿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35053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老奶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4267080"/>
            <a:ext cx="232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老大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44792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④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推车上坡的老大爷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不知道我的名字，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叫我“</a:t>
            </a: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小雷锋”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用户</cp:lastModifiedBy>
  <dcterms:modified xsi:type="dcterms:W3CDTF">2013-04-23T14:17:10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6000000000001024120</vt:lpwstr>
  </property>
  <property fmtid="{D5CDD505-2E9C-101B-9397-08002B2CF9AE}" pid="3" name="Version">
    <vt:r8>1</vt:r8>
  </property>
</Properties>
</file>