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4CA-3061-4DEF-8B73-1FE92F5D1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5E90-DD7E-4E93-A604-5E818D04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303B-E4A9-4C28-A31C-A6350862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0FF3-350C-4507-BA34-C18FAED2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23C0-32DC-4E99-B80F-426FFAA9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BFD-6FAA-43FD-8591-299128A9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A49A-4F69-41CA-BBA1-6D02FFAB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2E0-74E3-4BB1-ACE9-791D0E8D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6FF-66C6-48F1-A087-C849C6EC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075-8F47-4265-BB13-829026C0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7D4-FEF7-4639-A7EA-ADEA3223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678-5779-45CD-B0FB-4B2B574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5F9D-09FA-4F0A-9A9A-1557E5C938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2941560" cy="2136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1944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584440" cy="2890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3436920" cy="2389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5219640" y="3068640"/>
            <a:ext cx="2667240" cy="2685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249228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80000" y="23493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菠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213372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大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60339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山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80536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蒜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2533680" cy="334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0"/>
            <a:ext cx="302436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08000" y="0"/>
            <a:ext cx="262728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9640" y="342900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萝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19640" y="3429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芹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3429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白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8144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56360" y="0"/>
            <a:ext cx="3887640" cy="291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0" y="2924280"/>
            <a:ext cx="3527280" cy="3024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19640" y="2924280"/>
            <a:ext cx="3578040" cy="2539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762600" y="2924280"/>
            <a:ext cx="2381400" cy="244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2920" y="189000"/>
            <a:ext cx="1521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苹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9280" y="692280"/>
            <a:ext cx="1521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葡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87700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11640" y="551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草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08720" y="5373720"/>
            <a:ext cx="16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菠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17398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小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6000" y="16686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茶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40360" y="159552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荷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7478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白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56000" y="2747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萝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1640" y="27478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芹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39006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苹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9006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葡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84720" y="390060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香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404640"/>
            <a:ext cx="3025800" cy="15116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些字为什么带“草字头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7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" dur="770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13:34:00Z</dcterms:created>
  <dc:creator>User</dc:creator>
  <dc:description/>
  <dc:language>en-US</dc:language>
  <cp:lastModifiedBy>Windows 用户</cp:lastModifiedBy>
  <dcterms:modified xsi:type="dcterms:W3CDTF">2013-04-19T12:41:31Z</dcterms:modified>
  <cp:revision>3</cp:revision>
  <dc:subject/>
  <dc:title>幻灯片 1</dc:title>
</cp:coreProperties>
</file>