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84D9-F3D8-4441-9086-27133BE5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122-13ED-4F36-9328-0BB02BA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82A6-7F63-4938-B08B-12B0C6AD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11E2-ABCA-4E6C-B8D1-230EAF2E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F69-B9B4-44B5-B6B5-B17EAA4D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2A0-85EA-473A-BA55-33519BB7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0BC-4446-4BC3-8082-DB546EF0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CFB-F729-43E1-B47B-7D6F8CD75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56DA-6D33-4CF4-BE93-D3994983D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3AA-93DC-4209-BE2B-CFD60DAE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665D-10EE-463E-832A-934113C5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F4B-B1C0-4999-9A72-40CCE42C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7E82D-38C8-4B1F-9B8B-F96280D2AF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"/>
              </a:rPr>
              <a:t>谜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看不见，摸不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跑得快，又没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去永远不回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金万金买不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谁能说说，为什么时间一去永远不回头，千金万金买不到？</a:t>
            </a:r>
            <a:br>
              <a:rPr sz="3200"/>
            </a:b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85720" y="34290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谜底（时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-1189080" y="-1108080"/>
            <a:ext cx="11592000" cy="90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走进“一休屋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954072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ff"/>
                </a:solidFill>
                <a:latin typeface="Arial"/>
              </a:rPr>
              <a:t>请你把诗句与意思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百川东到海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什么时候才能再回来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也是这样一去不回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何时复西归？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条条江河向东奔去，流入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少壮不努力，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如果年青的时候不努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老大徒伤悲。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到年老时，再伤心后悔也来不及了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2781360"/>
            <a:ext cx="115236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411280" y="2781000"/>
            <a:ext cx="115272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11280" y="4076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87520" y="4508640"/>
            <a:ext cx="10810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-1044720" y="-387360"/>
            <a:ext cx="12654000" cy="98902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549440" y="404640"/>
            <a:ext cx="655164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长　歌　行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青    青   园    中   葵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朝    露   待    日   晞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阳    春   布    德   泽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万    物   生    光   辉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常    恐   秋    节   至，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焜    黄   华    叶   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百　川　东　到　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何　时　复　西　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少　壮　不　努　力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老　大　徒　伤　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-612720" y="0"/>
            <a:ext cx="12706200" cy="878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484360" y="184464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620640"/>
            <a:ext cx="115236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00360" y="580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549360"/>
            <a:ext cx="115236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1120" y="905040"/>
            <a:ext cx="15084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572480" y="692280"/>
            <a:ext cx="2137320" cy="5138640"/>
            <a:chOff x="1572480" y="692280"/>
            <a:chExt cx="2137320" cy="5138640"/>
          </a:xfrm>
        </p:grpSpPr>
        <p:grpSp>
          <p:nvGrpSpPr>
            <p:cNvPr id="88" name=""/>
            <p:cNvGrpSpPr/>
            <p:nvPr/>
          </p:nvGrpSpPr>
          <p:grpSpPr>
            <a:xfrm>
              <a:off x="1572480" y="692280"/>
              <a:ext cx="2136240" cy="5138640"/>
              <a:chOff x="1572480" y="692280"/>
              <a:chExt cx="2136240" cy="5138640"/>
            </a:xfrm>
          </p:grpSpPr>
          <p:sp>
            <p:nvSpPr>
              <p:cNvPr id="89" name=""/>
              <p:cNvSpPr/>
              <p:nvPr/>
            </p:nvSpPr>
            <p:spPr>
              <a:xfrm>
                <a:off x="1572480" y="764640"/>
                <a:ext cx="2009160" cy="50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少壮不努力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484360" y="692280"/>
                <a:ext cx="1224360" cy="46090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2484720" y="4940640"/>
              <a:ext cx="1225080" cy="32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2" name=""/>
          <p:cNvGrpSpPr/>
          <p:nvPr/>
        </p:nvGrpSpPr>
        <p:grpSpPr>
          <a:xfrm>
            <a:off x="4164120" y="693720"/>
            <a:ext cx="2208240" cy="4967280"/>
            <a:chOff x="4164120" y="693720"/>
            <a:chExt cx="2208240" cy="4967280"/>
          </a:xfrm>
        </p:grpSpPr>
        <p:grpSp>
          <p:nvGrpSpPr>
            <p:cNvPr id="93" name=""/>
            <p:cNvGrpSpPr/>
            <p:nvPr/>
          </p:nvGrpSpPr>
          <p:grpSpPr>
            <a:xfrm>
              <a:off x="4164120" y="693720"/>
              <a:ext cx="2170800" cy="4967280"/>
              <a:chOff x="4164120" y="693720"/>
              <a:chExt cx="2170800" cy="4967280"/>
            </a:xfrm>
          </p:grpSpPr>
          <p:sp>
            <p:nvSpPr>
              <p:cNvPr id="94" name=""/>
              <p:cNvSpPr/>
              <p:nvPr/>
            </p:nvSpPr>
            <p:spPr>
              <a:xfrm>
                <a:off x="4164120" y="842760"/>
                <a:ext cx="2009160" cy="481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cc00ff"/>
                    </a:solidFill>
                    <a:latin typeface="Arial"/>
                    <a:ea typeface="隶书"/>
                  </a:rPr>
                  <a:t>老大徒伤悲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111640" y="693720"/>
                <a:ext cx="1223280" cy="4607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6" name="" descr=""/>
            <p:cNvPicPr/>
            <p:nvPr/>
          </p:nvPicPr>
          <p:blipFill>
            <a:blip r:embed="rId4"/>
            <a:stretch/>
          </p:blipFill>
          <p:spPr>
            <a:xfrm>
              <a:off x="5148360" y="4940640"/>
              <a:ext cx="12240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-684360" y="-171360"/>
            <a:ext cx="12419280" cy="9361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908000" y="1701720"/>
            <a:ext cx="482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时间　　努力学习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0" dur="3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1280" y="11592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692360" y="2708280"/>
            <a:ext cx="403200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长歌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83664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川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东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到　海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何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时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复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西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归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壮　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不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努　力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</a:t>
            </a:r>
            <a:r>
              <a:rPr b="0" lang="zh-CN" sz="4800" spc="-1" strike="noStrike">
                <a:solidFill>
                  <a:srgbClr val="cc00ff"/>
                </a:solidFill>
                <a:latin typeface="Arial"/>
                <a:ea typeface="楷体_GB2312"/>
              </a:rPr>
              <a:t>伤　悲</a:t>
            </a: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189080" y="-963720"/>
            <a:ext cx="11626920" cy="8640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8436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omb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-1260360" y="-1035000"/>
            <a:ext cx="11593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1044720" y="-1035000"/>
            <a:ext cx="11017440" cy="88567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684360" y="-387360"/>
            <a:ext cx="12654000" cy="950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1197000"/>
            <a:ext cx="8136000" cy="44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长　歌　行</a:t>
            </a:r>
            <a:r>
              <a:rPr b="1" lang="zh-CN" sz="6000" spc="-1" strike="noStrike">
                <a:solidFill>
                  <a:srgbClr val="cc00ff"/>
                </a:solidFill>
                <a:latin typeface="Arial"/>
                <a:ea typeface="楷体_GB2312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百　川　东　到　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何　时　复　西　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少　壮　不　努　力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99"/>
                </a:solidFill>
                <a:latin typeface="Arial"/>
                <a:ea typeface="楷体_GB2312"/>
              </a:rPr>
              <a:t>老　大　徒　伤　悲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7667640" y="638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18462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468360" y="0"/>
            <a:ext cx="11768040" cy="890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rot="21540000">
            <a:off x="522360" y="11667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复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38160" y="3699000"/>
            <a:ext cx="5715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1540000">
            <a:off x="234000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归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540000">
            <a:off x="4284720" y="119700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壮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1540000">
            <a:off x="449280" y="227664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悲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1540000">
            <a:off x="2340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四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1540000">
            <a:off x="4356000" y="234936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何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46836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努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2411280" y="3716280"/>
            <a:ext cx="174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到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21540000">
            <a:off x="4427640" y="3789360"/>
            <a:ext cx="174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大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朋友们，我们又见面了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698328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长歌行   百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川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何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复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西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归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少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壮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努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力    </a:t>
            </a: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伤悲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cp:keywords/>
  <dc:language>en-US</dc:language>
  <cp:lastModifiedBy>Windows 用户</cp:lastModifiedBy>
  <cp:lastPrinted>1899-12-30T00:00:00Z</cp:lastPrinted>
  <dcterms:modified xsi:type="dcterms:W3CDTF">2013-04-19T13:15:17Z</dcterms:modified>
  <cp:revision>23</cp:revision>
  <dc:subject/>
  <dc:title>幻灯片 1</dc:title>
</cp:coreProperties>
</file>