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6.gif" ContentType="image/gif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4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chimes.wav" ContentType="audio/x-wav"/>
  <Override PartName="/ppt/media/image1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E6CB-B831-479A-A328-3FC55578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F3AE-685A-4344-9015-16F8EACF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AA7E-1B37-4516-8906-DEBC8045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C15-3CC3-4619-B852-87487E72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B37-0C88-47BA-9215-0F33B917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B9BC-BFA8-4908-9B04-47D74405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6F07-6B29-405C-892A-A2867B7B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CFC6-6429-4CFD-8FC6-D5B8C772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1FA-F103-4EFA-B658-0E302AC8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319C-C0E9-48CD-A245-1D10C2AF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5C46-F24E-4635-BD20-4638472E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8C0-34DD-4CE3-8EC6-3A482424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846B-2B96-423A-9A84-9270E464F5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1460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00800" y="30492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7640" y="2060640"/>
            <a:ext cx="525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短短腿，圆脸膛，耳朵长在脑袋上。肚里声音嘀哒响，提醒我们早起床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57913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66ff"/>
                </a:solidFill>
                <a:latin typeface="Times New Roman"/>
                <a:ea typeface="楷体_GB2312"/>
              </a:rPr>
              <a:t>谜底：</a:t>
            </a:r>
            <a:r>
              <a:rPr b="1" i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闹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6094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猜一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-22716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9280" y="260280"/>
            <a:ext cx="878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71c0b"/>
                </a:solidFill>
                <a:latin typeface="Arial"/>
              </a:rPr>
              <a:t>想一想，按课文内容填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62864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（           ）、（           ）、（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      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是小闹钟的朋友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有了小闹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</a:t>
            </a:r>
            <a:r>
              <a:rPr b="1" lang="zh-CN" sz="6600" spc="-1" strike="noStrike">
                <a:solidFill>
                  <a:srgbClr val="0000ff"/>
                </a:solidFill>
                <a:latin typeface="Arial"/>
              </a:rPr>
              <a:t>再也不睡懒觉了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58920" y="155736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猫头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兔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08720" y="155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3573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38088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想一想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16000" y="3141720"/>
            <a:ext cx="78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小动物是怎样抓紧时间的呢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2971800" cy="152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3049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想一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300720" y="4292640"/>
            <a:ext cx="2117880" cy="2376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79280" y="1916280"/>
            <a:ext cx="152100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997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1341360"/>
            <a:ext cx="604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2276640"/>
            <a:ext cx="59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小闹钟还有可能和谁做朋友，会帮助他做什么？同桌之间互相说一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2376720" cy="19447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1763640" y="765000"/>
            <a:ext cx="18716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想一想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-826920" y="-130320"/>
            <a:ext cx="10474200" cy="6988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30560" y="-1440"/>
            <a:ext cx="155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寸光阴一寸金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寸金难买寸光阴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88000" y="1844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少壮不努力，老大徒伤悲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4581360"/>
            <a:ext cx="57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年之计在于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一日之计在于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826920" y="-130320"/>
            <a:ext cx="10474200" cy="6988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12480" y="258840"/>
            <a:ext cx="30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抛弃时间的人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时间也抛弃他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2470320"/>
            <a:ext cx="4500720" cy="25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71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复明日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明日何其多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141120"/>
            <a:ext cx="8928000" cy="6999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11280" y="5661000"/>
            <a:ext cx="9144000" cy="789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627280" y="2205000"/>
            <a:ext cx="40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小闹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38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372360" y="907920"/>
            <a:ext cx="16920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578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3600720" cy="355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716360" y="1774800"/>
            <a:ext cx="352764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692000" y="1206000"/>
            <a:ext cx="935964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猫头 鹰   休 息    兔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抓 住   使 劲    咱 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4920" y="2143080"/>
            <a:ext cx="22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hu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207180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h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214308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á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11280" y="40464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ī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00720" y="476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ū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x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549360"/>
            <a:ext cx="194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t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03640" y="21430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jì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19280" y="365616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èn w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36561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há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4680" y="4375080"/>
            <a:ext cx="15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任   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35560" y="4365720"/>
            <a:ext cx="163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一  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88000" y="3645000"/>
            <a:ext cx="18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ǎ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86240" y="4365720"/>
            <a:ext cx="11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改 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88000" y="5167440"/>
            <a:ext cx="100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03600" y="594360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瞧一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0920" y="515772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qiá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90680" y="5888160"/>
            <a:ext cx="168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已　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867280" y="5238720"/>
            <a:ext cx="15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jīn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762120" y="457200"/>
            <a:ext cx="236196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比一比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3995640" y="1197000"/>
            <a:ext cx="4648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21337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妈妈骑着自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车，带我到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、我看到路口有许多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人，银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门口写着一</a:t>
            </a:r>
            <a:r>
              <a:rPr b="1" lang="zh-CN" sz="4000" spc="-1" strike="noStrike">
                <a:solidFill>
                  <a:srgbClr val="0099ff"/>
                </a:solidFill>
                <a:latin typeface="Times New Roman"/>
                <a:ea typeface="楷体_GB2312"/>
              </a:rPr>
              <a:t>行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大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0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55640" y="2781360"/>
            <a:ext cx="13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行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52720" y="2492280"/>
            <a:ext cx="358560" cy="2305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242100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一行）（银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348000" y="4005360"/>
            <a:ext cx="47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（行了）（不行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11280" y="234936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há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411280" y="3933720"/>
            <a:ext cx="187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xín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0552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5520" y="3581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1280" y="1268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猫头鹰晚上抓小偷，很辛苦，应该让他好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2565360"/>
            <a:ext cx="8066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妈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，很辛苦，应该让他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386064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很辛苦，应该让他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876920" y="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6:19:36Z</dcterms:created>
  <dc:creator>xinjl</dc:creator>
  <dc:description/>
  <cp:keywords/>
  <dc:language>en-US</dc:language>
  <cp:lastModifiedBy>Windows 用户</cp:lastModifiedBy>
  <dcterms:modified xsi:type="dcterms:W3CDTF">2013-04-23T14:32:36Z</dcterms:modified>
  <cp:revision>19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