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37A-385B-40D8-9612-B848D6AF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5B6-9D38-42F5-A3B5-BFD49A45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6AC-BCE5-43FC-9870-84C8EE6F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057-2E8C-4EFD-8342-65637AFE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782-8ED4-4C5E-9A12-954C3842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6E0-B64D-49B7-8E0E-1EFFCF32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9F8-660C-4533-8674-DA3AA028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1BE-8F22-4317-B811-ED59570F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6DD4-61FD-4401-8CA0-7EBB11C9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1B3B-A57C-4F08-B388-077C4777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1C03-50A8-45B9-AF35-8C396C12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4FAE-D71F-4357-A797-C9817305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28DB-ED3F-4AFC-900E-0B337C0D93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11280" y="6381720"/>
            <a:ext cx="95256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114480"/>
            <a:ext cx="9144000" cy="7086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92360" y="170028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竹乡之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58920" y="692280"/>
            <a:ext cx="6985080" cy="56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我家住在竹楼上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青竹篱笆花围墙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妈妈彩笔画风筝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爸爸巧手编箩筐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71640" y="981000"/>
            <a:ext cx="76327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傍晚山间笛声起，竹筒饭熟正飘香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傣家儿女最爱竹，竹乡美名传四方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0920" y="333360"/>
            <a:ext cx="961236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竹乡之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家住在竹楼上，青竹篱笆花围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妈妈彩笔画风筝，爸爸巧手编箩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傍晚山间笛声起，竹筒饭熟正飘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傣家儿女最爱竹，竹乡美名传四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竹楼   篱笆   围墙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风筝   巧手   箩筐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傍晚   爸爸   笛声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起   竹筒饭  最好香气  传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67120" y="4941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香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155736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巧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32720" y="393372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最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33336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篱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278136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傍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72360" y="33336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围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33336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竹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72360" y="155736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箩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494172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传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372360" y="278136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笛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155736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风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2708280"/>
            <a:ext cx="216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爸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933720"/>
            <a:ext cx="216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一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3933720"/>
            <a:ext cx="32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竹筒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看看这几个字有什么相同的地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08360" y="2349360"/>
            <a:ext cx="35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</a:rPr>
              <a:t>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5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71640" y="476280"/>
            <a:ext cx="41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比一比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40360" y="1413000"/>
            <a:ext cx="345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蓝—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141720"/>
            <a:ext cx="345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苗—笛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4724280"/>
            <a:ext cx="345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根—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2771640" y="2060640"/>
            <a:ext cx="3455640" cy="3381120"/>
            <a:chOff x="2771640" y="2060640"/>
            <a:chExt cx="3455640" cy="3381120"/>
          </a:xfrm>
        </p:grpSpPr>
        <p:sp>
          <p:nvSpPr>
            <p:cNvPr id="100" name=""/>
            <p:cNvSpPr/>
            <p:nvPr/>
          </p:nvSpPr>
          <p:spPr>
            <a:xfrm>
              <a:off x="2771640" y="206064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71640" y="374940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9640" y="206064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13200" y="-36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1" lang="zh-CN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59280" y="1915920"/>
            <a:ext cx="284472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笛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2771640" y="2060640"/>
            <a:ext cx="3455640" cy="3381120"/>
            <a:chOff x="2771640" y="2060640"/>
            <a:chExt cx="3455640" cy="3381120"/>
          </a:xfrm>
        </p:grpSpPr>
        <p:sp>
          <p:nvSpPr>
            <p:cNvPr id="106" name=""/>
            <p:cNvSpPr/>
            <p:nvPr/>
          </p:nvSpPr>
          <p:spPr>
            <a:xfrm>
              <a:off x="2771640" y="206064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71640" y="374940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499640" y="206064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35280" y="115920"/>
            <a:ext cx="3394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  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Arial Unicode MS"/>
              </a:rPr>
              <a:t>q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987640" y="1988640"/>
            <a:ext cx="2844720" cy="35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起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771640" y="2060640"/>
            <a:ext cx="3455640" cy="3381120"/>
            <a:chOff x="2771640" y="2060640"/>
            <a:chExt cx="3455640" cy="3381120"/>
          </a:xfrm>
        </p:grpSpPr>
        <p:sp>
          <p:nvSpPr>
            <p:cNvPr id="112" name=""/>
            <p:cNvSpPr/>
            <p:nvPr/>
          </p:nvSpPr>
          <p:spPr>
            <a:xfrm>
              <a:off x="2771640" y="206064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71640" y="374940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99640" y="206064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560" y="701280"/>
            <a:ext cx="598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8800" spc="-1" strike="noStrike">
                <a:solidFill>
                  <a:srgbClr val="000000"/>
                </a:solidFill>
                <a:latin typeface="宋体"/>
              </a:rPr>
              <a:t>fà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59280" y="1988640"/>
            <a:ext cx="2844720" cy="35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饭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771640" y="2060640"/>
            <a:ext cx="3455640" cy="3381120"/>
            <a:chOff x="2771640" y="2060640"/>
            <a:chExt cx="3455640" cy="3381120"/>
          </a:xfrm>
        </p:grpSpPr>
        <p:sp>
          <p:nvSpPr>
            <p:cNvPr id="45" name=""/>
            <p:cNvSpPr/>
            <p:nvPr/>
          </p:nvSpPr>
          <p:spPr>
            <a:xfrm>
              <a:off x="2771640" y="206064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71640" y="374940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99640" y="206064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987640" y="1915920"/>
            <a:ext cx="284472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竹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zh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2771640" y="2060640"/>
            <a:ext cx="3455640" cy="3381120"/>
            <a:chOff x="2771640" y="2060640"/>
            <a:chExt cx="3455640" cy="3381120"/>
          </a:xfrm>
        </p:grpSpPr>
        <p:sp>
          <p:nvSpPr>
            <p:cNvPr id="118" name=""/>
            <p:cNvSpPr/>
            <p:nvPr/>
          </p:nvSpPr>
          <p:spPr>
            <a:xfrm>
              <a:off x="2771640" y="206064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71640" y="374940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499640" y="206064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xiā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59280" y="1773360"/>
            <a:ext cx="284472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香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2771640" y="2060640"/>
            <a:ext cx="3455640" cy="3381120"/>
            <a:chOff x="2771640" y="2060640"/>
            <a:chExt cx="3455640" cy="3381120"/>
          </a:xfrm>
        </p:grpSpPr>
        <p:sp>
          <p:nvSpPr>
            <p:cNvPr id="124" name=""/>
            <p:cNvSpPr/>
            <p:nvPr/>
          </p:nvSpPr>
          <p:spPr>
            <a:xfrm>
              <a:off x="2771640" y="206064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71640" y="374940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499640" y="206064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8800" spc="-1" strike="noStrike">
                <a:solidFill>
                  <a:srgbClr val="000000"/>
                </a:solidFill>
                <a:latin typeface="宋体"/>
              </a:rPr>
              <a:t>bà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987640" y="1844640"/>
            <a:ext cx="284472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爸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2771640" y="2060640"/>
            <a:ext cx="3455640" cy="3381120"/>
            <a:chOff x="2771640" y="2060640"/>
            <a:chExt cx="3455640" cy="3381120"/>
          </a:xfrm>
        </p:grpSpPr>
        <p:sp>
          <p:nvSpPr>
            <p:cNvPr id="130" name=""/>
            <p:cNvSpPr/>
            <p:nvPr/>
          </p:nvSpPr>
          <p:spPr>
            <a:xfrm>
              <a:off x="2771640" y="2060640"/>
              <a:ext cx="3452760" cy="3381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1640" y="3749400"/>
              <a:ext cx="345564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99640" y="2060640"/>
              <a:ext cx="0" cy="338112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8800" spc="-1" strike="noStrike">
                <a:solidFill>
                  <a:srgbClr val="000000"/>
                </a:solidFill>
                <a:latin typeface="宋体"/>
              </a:rPr>
              <a:t>chuá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87640" y="1773360"/>
            <a:ext cx="2844720" cy="35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000000"/>
                </a:solidFill>
                <a:latin typeface="Arial"/>
                <a:ea typeface="楷体_GB2312"/>
              </a:rPr>
              <a:t>传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333360"/>
            <a:ext cx="961236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竹乡之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我家住在竹楼上，青竹篱笆花围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妈妈彩笔画风筝，爸爸巧手编箩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傍晚山间笛声起，竹筒饭熟正飘香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傣家儿女最爱竹，竹乡美名传四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627280" y="508428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Arial"/>
              </a:rPr>
              <a:t>竹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71532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5589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</a:rPr>
              <a:t>篱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47640" y="1125360"/>
            <a:ext cx="6096240" cy="4064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492360" y="4653000"/>
            <a:ext cx="36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宋体"/>
              </a:rPr>
              <a:t>lí b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762440" cy="63532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92720" y="2060280"/>
            <a:ext cx="316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宋体"/>
              </a:rPr>
              <a:t>fēnɡ zhe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997360"/>
            <a:ext cx="360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风 筝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032360" cy="5472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11640" y="2852640"/>
            <a:ext cx="381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箩筐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220500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宋体"/>
              </a:rPr>
              <a:t>luó kuā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</a:rPr>
              <a:t>竹笛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6245280" cy="46846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500720" y="-117360"/>
            <a:ext cx="136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ff"/>
                </a:solidFill>
                <a:latin typeface="宋体"/>
              </a:rPr>
              <a:t>dí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592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08360" y="169992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宋体"/>
              </a:rPr>
              <a:t>tó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92840" y="2637000"/>
            <a:ext cx="4259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竹筒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01:26:30Z</dcterms:created>
  <dc:creator>FZ</dc:creator>
  <dc:description/>
  <dc:language>en-US</dc:language>
  <cp:lastModifiedBy>Windows 用户</cp:lastModifiedBy>
  <dcterms:modified xsi:type="dcterms:W3CDTF">2013-04-19T12:43:17Z</dcterms:modified>
  <cp:revision>23</cp:revision>
  <dc:subject/>
  <dc:title>幻灯片 1</dc:title>
</cp:coreProperties>
</file>