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2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4.png" ContentType="image/png"/>
  <Override PartName="/ppt/media/laser.wav" ContentType="audio/x-wav"/>
  <Override PartName="/ppt/media/image6.jpeg" ContentType="image/jpeg"/>
  <Override PartName="/ppt/media/chimes.wav" ContentType="audio/x-wav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E3D-517C-4BBF-8CD9-987CB909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2B6-4BAB-424E-886E-413195A6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E16-F05C-420D-B448-5BB47469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334-CB71-42D9-A80D-4BF861EF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3D3-D736-46DB-8AE2-4A7374E5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9B3-70A3-49A8-B80B-876CC216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91E-CC4C-4BC3-AFCC-A33CC7C7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FF9-7880-4900-9EFE-45A243BF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B6F-4F18-462B-AF42-B1AF752E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8DC-861C-4918-8A38-2829E91B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8BA-A8D2-49AB-9839-8D49C340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0FB-9B1D-4C06-A7EA-2B5AF125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3937-90B5-475C-BF77-1C6C88E95B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4360" y="0"/>
            <a:ext cx="92883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xīng    kō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星  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14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颗一颗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数星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3654360"/>
            <a:ext cx="597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棵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9672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49440" y="2276640"/>
            <a:ext cx="63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颗一颗数星星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数到几百颗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31417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2411280" y="1268280"/>
            <a:ext cx="4104720" cy="4248720"/>
            <a:chOff x="2411280" y="1268280"/>
            <a:chExt cx="4104720" cy="4248720"/>
          </a:xfrm>
        </p:grpSpPr>
        <p:sp>
          <p:nvSpPr>
            <p:cNvPr id="92" name=""/>
            <p:cNvSpPr/>
            <p:nvPr/>
          </p:nvSpPr>
          <p:spPr>
            <a:xfrm>
              <a:off x="4463640" y="1268280"/>
              <a:ext cx="0" cy="4248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11280" y="3391920"/>
              <a:ext cx="410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11280" y="1268280"/>
              <a:ext cx="4104720" cy="42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2863440" y="1800360"/>
              <a:ext cx="3241800" cy="312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楷体_GB2312"/>
                </a:rPr>
                <a:t>直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</p:spTree>
  </p:cSld>
  <p:transition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56000" y="191628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上，满天的星星像无数颗珍珠撒在夜空。一个孩子跟爷爷坐在院子里，仰着头，一颗一颗数星星，一直数到几百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5747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90792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爷爷说：“星星那么多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闪一闪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能数得清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11120" y="23097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2435400"/>
            <a:ext cx="792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说：“能看见，就应当能数的清。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怕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，所以数得很慢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876840"/>
            <a:ext cx="784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26920" y="3509640"/>
            <a:ext cx="266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体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2727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zhò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100008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hó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重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复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26920" y="98100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爷爷说：“星星那么多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闪一闪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能数的清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11120" y="23097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2435400"/>
            <a:ext cx="792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说：“能看见，就应当能数的清。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怕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，所以数得很慢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3876840"/>
            <a:ext cx="784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上的星星那么多，一闪一闪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树上的叶子那么——， ———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——那么——， ———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26920" y="981000"/>
            <a:ext cx="79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11120" y="23097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435400"/>
            <a:ext cx="792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197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爷爷说：“我们的祖先把星星分成一组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组，给它们起了名字。要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组一组地数，就不容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重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407664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组一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3880" y="2590920"/>
            <a:ext cx="3408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08360" y="472428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27640" y="5877000"/>
            <a:ext cx="40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北斗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3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79640" y="1125360"/>
            <a:ext cx="511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1700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这个数星星的孩子名字叫张衡，是汉朝人。他长大以后刻苦钻研天文，成为著名的天文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32720" y="1143000"/>
            <a:ext cx="24112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衡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33336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2050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数星星的孩子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4437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晚上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满天的星星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像无数颗珍珠撒在夜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050920" y="981000"/>
            <a:ext cx="46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坐在     一组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198900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直      正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0920" y="328464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祖先      很慢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1640" y="4437000"/>
            <a:ext cx="88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北极星  织女星  没有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56000" y="191628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上，满天的星星像无数颗珍珠撒在夜空。一个孩子跟爷爷坐在院子里，仰着头，一颗一颗数星星，一直数到几百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2411280" y="1341360"/>
            <a:ext cx="4318560" cy="4247280"/>
            <a:chOff x="2411280" y="1341360"/>
            <a:chExt cx="4318560" cy="4247280"/>
          </a:xfrm>
        </p:grpSpPr>
        <p:sp>
          <p:nvSpPr>
            <p:cNvPr id="67" name=""/>
            <p:cNvSpPr/>
            <p:nvPr/>
          </p:nvSpPr>
          <p:spPr>
            <a:xfrm>
              <a:off x="4570560" y="1341360"/>
              <a:ext cx="0" cy="4247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11280" y="3464280"/>
              <a:ext cx="43185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11280" y="1341360"/>
              <a:ext cx="4318560" cy="4247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887200" y="1873080"/>
              <a:ext cx="3411000" cy="31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楷体_GB2312"/>
                </a:rPr>
                <a:t>坐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6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坐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请坐  坐下 坐车  坐飞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座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一座桥  一座彩虹     座位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座        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4280" y="2387520"/>
            <a:ext cx="252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请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（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2480" y="3232080"/>
            <a:ext cx="252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（      ）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6320" y="4022640"/>
            <a:ext cx="355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（   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（   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位上看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2:19:54Z</dcterms:created>
  <dc:creator>X-man</dc:creator>
  <dc:description/>
  <dc:language>en-US</dc:language>
  <cp:lastModifiedBy>Windows 用户</cp:lastModifiedBy>
  <dcterms:modified xsi:type="dcterms:W3CDTF">2013-04-23T15:30:41Z</dcterms:modified>
  <cp:revision>56</cp:revision>
  <dc:subject/>
  <dc:title>PowerPoint 演示文稿</dc:title>
</cp:coreProperties>
</file>