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6.gif" ContentType="image/gif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4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3E8-CD0D-47E0-8B28-02AE22BF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ECE-B4CA-4DAE-9363-01018848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1A7-BFD6-4DA9-A46E-F3474928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0A4-611E-4736-A84A-0B30A22B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D8A-318A-4850-A3DC-EAADC630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094-D5F1-4B68-BE83-17118A86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3F0-57F7-4D23-927E-29E8AA50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3EF-4C90-47B6-B070-6BED3182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846-B0D3-4487-9B09-4235A903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93B-4835-4953-8FA7-73193558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76A-F9DE-4C10-98D7-6BC88787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E1E-4284-4447-A83E-A88B31B5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8EDB-6BB2-48B1-963E-714124743C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51460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060640"/>
            <a:ext cx="525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短短腿，圆脸膛，耳朵长在脑袋上。肚里声音嘀哒响，提醒我们早起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5791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谜底：</a:t>
            </a:r>
            <a:r>
              <a:rPr b="1" i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闹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9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-22716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260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1c0b"/>
                </a:solidFill>
                <a:latin typeface="Arial"/>
              </a:rPr>
              <a:t>想一想，按课文内容填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628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（           ）、（           ）、（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是小闹钟的朋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有了小闹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再也不睡懒觉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155736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猫头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兔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872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3573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3808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想一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314172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小动物是怎样抓紧时间的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97180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3049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211788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5210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99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1341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276640"/>
            <a:ext cx="59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小闹钟还有可能和谁做朋友，会帮助他做什么？同桌之间互相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376720" cy="1944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763640" y="765000"/>
            <a:ext cx="187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想一想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826920" y="-130320"/>
            <a:ext cx="10474200" cy="6988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30560" y="-144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寸光阴一寸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寸金难买寸光阴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1844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少壮不努力，老大徒伤悲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4581360"/>
            <a:ext cx="57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年之计在于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日之计在于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826920" y="-130320"/>
            <a:ext cx="10474200" cy="6988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12480" y="258840"/>
            <a:ext cx="30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抛弃时间的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时间也抛弃他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2470320"/>
            <a:ext cx="450072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1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复明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何其多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1120"/>
            <a:ext cx="8928000" cy="6999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5661000"/>
            <a:ext cx="9144000" cy="78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7280" y="220500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小闹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372360" y="907920"/>
            <a:ext cx="1692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578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360072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716360" y="1774800"/>
            <a:ext cx="352764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692000" y="1206000"/>
            <a:ext cx="93596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猫头 鹰   休 息    兔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抓 住   使 劲    咱 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4920" y="214308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hu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207180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h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1430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á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04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ī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76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ū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x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54936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21430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3656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èn w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6561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á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4680" y="4375080"/>
            <a:ext cx="15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任   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5560" y="4365720"/>
            <a:ext cx="163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一  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364500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ǎ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86240" y="436572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改 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88000" y="5167440"/>
            <a:ext cx="100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03600" y="5943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瞧一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515772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i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90680" y="588816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已　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23872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jī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62120" y="457200"/>
            <a:ext cx="2361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比一比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1197000"/>
            <a:ext cx="464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21337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妈妈骑着自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车，带我到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我看到路口有许多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，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门口写着一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27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2492280"/>
            <a:ext cx="358560" cy="2305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2421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一行）（银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4005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行了）（不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234936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há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3933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xí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0552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0552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268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猫头鹰晚上抓小偷，很辛苦，应该让他好好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2565360"/>
            <a:ext cx="8066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，很辛苦，应该让他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860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很辛苦，应该让他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76920" y="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6:19:36Z</dcterms:created>
  <dc:creator>xinjl</dc:creator>
  <dc:description/>
  <cp:keywords/>
  <dc:language>en-US</dc:language>
  <cp:lastModifiedBy>Windows 用户</cp:lastModifiedBy>
  <dcterms:modified xsi:type="dcterms:W3CDTF">2013-04-23T14:32:36Z</dcterms:modified>
  <cp:revision>1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