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218-1890-4AD2-82F6-C675722A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B69-42BF-4803-9EB4-43943D36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7C1-C399-487C-B9FF-56123025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41F-A23B-46E3-B78C-6C8D9C67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B5D-DA8C-4622-AB3B-C08FE130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A3B-0EF9-4F71-B0AF-1314D69C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BF3-79C2-4479-BCA1-C27D4715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0AB-5E1C-4FDE-83DC-550F50DB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E2E-4232-4B66-A37F-EFADF656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52B-080C-4112-999A-C6EC2055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D04-712C-4E1D-9853-18BED76A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B8C-0754-44CD-ADD7-29136480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3BF5-854C-462B-8D03-48B9727108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287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287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森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0360" y="1287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13604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4400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杏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24400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枫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23684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柏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24400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松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36640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36640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35924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35924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48880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休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8110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sē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936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xì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1936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fē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63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bǎ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2008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ō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3087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c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3087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ɡù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30160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b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30160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tiá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42703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xi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3360"/>
            <a:ext cx="52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这些字为什么都有“木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00000" y="476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树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476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森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549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树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6720" y="549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树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700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杏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16286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枫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1628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柏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1773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松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2781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木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2852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木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781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木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2781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木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3789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休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92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192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192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192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92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192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192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192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92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192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192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192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家里还有什么东西写出来带“木字旁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桌椅     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书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59280" y="112536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huá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1280" y="1125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ɡ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92428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框     板凳      水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9640" y="981000"/>
            <a:ext cx="6480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春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李花开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秋雨梧桐叶落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唐）白居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716280"/>
            <a:ext cx="7200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沾衣欲湿杏花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吹面不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杨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宋）僧志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549360"/>
            <a:ext cx="3240360" cy="1584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6000" y="692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一读，记一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76360" y="1484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76500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8920" y="404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9079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1916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484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6720" y="1484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270828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43640" y="2997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34686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5840" y="42609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5840" y="51260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357336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16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08:49:20Z</dcterms:created>
  <dc:creator>User</dc:creator>
  <dc:description/>
  <dc:language>en-US</dc:language>
  <cp:lastModifiedBy>User</cp:lastModifiedBy>
  <dcterms:modified xsi:type="dcterms:W3CDTF">2013-05-13T14:38:59Z</dcterms:modified>
  <cp:revision>10</cp:revision>
  <dc:subject/>
  <dc:title>幻灯片 1</dc:title>
</cp:coreProperties>
</file>