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695D-C0CC-45A5-A750-935258147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6214-A104-42B8-A589-F68CAE79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936D-B392-4710-8B7B-3760187AF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0D4E-ECD2-42A1-A722-3AAA9ED47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E775-B8D0-4B69-9865-650D8798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C6D7-5997-47F7-97FD-5389DFA8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0E0B-BB96-4D28-AC56-81232E91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69B2-8E57-4C02-AEBF-91FFA139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BF95-5920-460A-AB12-F5393413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32FA-8091-4892-88BB-04665996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2B52-FFD0-4E39-B7CC-B7AFFA6C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0D50-7794-4722-81E8-7088A170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155E-78DC-468E-BAF0-6D05D7EAAC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59280" y="0"/>
            <a:ext cx="2941560" cy="2136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227640" y="0"/>
            <a:ext cx="2916360" cy="1944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584440" cy="2890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3716280"/>
            <a:ext cx="3436920" cy="2389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5219640" y="3068640"/>
            <a:ext cx="2667240" cy="2685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249228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茄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80000" y="234936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菠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77080" y="213372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大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603396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山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96000" y="580536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蒜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2533680" cy="3344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940360" y="0"/>
            <a:ext cx="3024360" cy="2170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08000" y="0"/>
            <a:ext cx="2627280" cy="3240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9640" y="3429000"/>
            <a:ext cx="16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萝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19640" y="342900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芹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59640" y="342900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白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81440" cy="2881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256360" y="0"/>
            <a:ext cx="3887640" cy="2916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2924280"/>
            <a:ext cx="3527280" cy="3024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3419640" y="2924280"/>
            <a:ext cx="3578040" cy="2539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6762600" y="2924280"/>
            <a:ext cx="2381400" cy="2449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72920" y="189000"/>
            <a:ext cx="1521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苹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89280" y="692280"/>
            <a:ext cx="1521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葡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87700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香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11640" y="551664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草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08720" y="5373720"/>
            <a:ext cx="16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菠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26920" y="17398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小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56000" y="166860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茶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159552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荷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27478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白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56000" y="274788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萝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11640" y="274788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芹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39006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苹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84360" y="39006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葡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84720" y="390060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香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404640"/>
            <a:ext cx="3025800" cy="1511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这些字为什么带“草字头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13:34:00Z</dcterms:created>
  <dc:creator>User</dc:creator>
  <dc:description/>
  <dc:language>en-US</dc:language>
  <cp:lastModifiedBy>Windows 用户</cp:lastModifiedBy>
  <dcterms:modified xsi:type="dcterms:W3CDTF">2013-04-19T12:41:31Z</dcterms:modified>
  <cp:revision>3</cp:revision>
  <dc:subject/>
  <dc:title>幻灯片 1</dc:title>
</cp:coreProperties>
</file>