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F93-FA01-4D6A-80E9-563B38CB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8E1-D8F9-4A11-8F48-C2A3C89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250-B284-4A90-B8F4-14D4FCA7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81B-DEC1-42A0-80A9-F282A852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10A-0EB0-42C2-9D1D-9DFEE08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0CD-6FE4-43CE-9184-5B6E7C05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D6C-1B95-4606-9E66-5A21FE9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318-1948-4961-8747-8FEA398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329-AAA6-4574-97F4-1399182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BA1-CBF7-46F5-9862-FA5C5DD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592-2097-4D8C-9EB9-110A53A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150-1522-4ACE-AB4A-0B37F42C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6D1-D3B5-4A49-88E6-E0E756E40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11280" y="6381720"/>
            <a:ext cx="952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1700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竹乡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920" y="692280"/>
            <a:ext cx="6985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青竹篱笆花围墙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爸爸巧手编箩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981000"/>
            <a:ext cx="7632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33360"/>
            <a:ext cx="961236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竹乡之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青竹篱笆花围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爸爸巧手编箩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楼   篱笆   围墙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   巧手   箩筐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   爸爸   笛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   竹筒饭  最好香气  传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67120" y="4941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香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1557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巧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93372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最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3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篱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781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傍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3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围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33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竹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1557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箩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94172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传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2781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笛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557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270828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爸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93372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一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393372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竹筒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看这几个字有什么相同的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234936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比一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蓝—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14172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苗—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472428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根—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00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1320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59280" y="1915920"/>
            <a:ext cx="284472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笛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06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35280" y="115920"/>
            <a:ext cx="3394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Arial Unicode MS"/>
              </a:rPr>
              <a:t>q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87640" y="1988640"/>
            <a:ext cx="284472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起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12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fà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59280" y="1988640"/>
            <a:ext cx="284472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饭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45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87640" y="1915920"/>
            <a:ext cx="284472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竹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zh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18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xiā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59280" y="177336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香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24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b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184464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爸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30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chuá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传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33360"/>
            <a:ext cx="961236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竹乡之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青竹篱笆花围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爸爸巧手编箩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508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竹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7153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篱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4653000"/>
            <a:ext cx="36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宋体"/>
              </a:rPr>
              <a:t>lí b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762440" cy="6353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2720" y="206028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fēnɡ zhe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997360"/>
            <a:ext cx="36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风 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28526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箩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2205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luó kuā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竹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245280" cy="4684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-117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宋体"/>
              </a:rPr>
              <a:t>d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08360" y="16999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tó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92840" y="2637000"/>
            <a:ext cx="42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竹筒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1:26:30Z</dcterms:created>
  <dc:creator>FZ</dc:creator>
  <dc:description/>
  <dc:language>en-US</dc:language>
  <cp:lastModifiedBy>Windows 用户</cp:lastModifiedBy>
  <dcterms:modified xsi:type="dcterms:W3CDTF">2013-04-19T12:43:17Z</dcterms:modified>
  <cp:revision>23</cp:revision>
  <dc:subject/>
  <dc:title>幻灯片 1</dc:title>
</cp:coreProperties>
</file>