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AAC-5445-4605-8142-3B2EA3F8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DAB-D891-498C-AED1-00A5D74F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B01-9E7B-4CBB-B8E6-918FE81D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A23-0CE9-44E8-BE85-DEBE8015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A5DF-2DDC-43AF-B380-3EA998A3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9C2A-7488-44BC-8F5F-5C8E4EFF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1042-6DA4-4741-B1DE-E9B7C7E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1632-C34E-4B1C-8E44-920BB4D0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C76F-B950-48F2-BA20-E3D8914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14CC-07EE-42D4-9530-3540921F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839D-FF67-41AF-AFA9-914C422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06A-1AFE-4B9C-B9DB-175372F2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ADE-45B1-4794-8C29-E9D170E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73C-F038-4191-AF32-33C9E869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CADD-55FD-4C88-BD66-8DDC3E5D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0135-F8A5-4236-B606-24A3EA29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4692-E9F1-469C-BE21-BAC2FE1E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A77-241D-42EB-AEC5-B7FBA8F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C5E-478D-4CF2-8241-A7C8BDE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7F9-185F-4BF0-9B42-4A2B3448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7C6-1A98-4F9B-AB84-7B79DDC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759-3EEE-40B6-830D-4537FB19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FD6-B446-487A-988C-5B7BCE0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004-A675-4D0E-ACE7-CB69965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0CFD-9E36-43B7-9075-E08B7CC5C76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A1D-1CFE-48D1-98D3-524DA2FBE5B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5.jpeg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华文中宋"/>
              </a:rPr>
              <a:t>我的名字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6858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北师大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-762120" y="-990720"/>
            <a:ext cx="11506320" cy="8663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4800600" cy="6019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105520" y="2376720"/>
            <a:ext cx="40384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雷锋叔叔是中国家喻户晓的全心全意为人民服务的模范。在他短暂的一生帮助过无数的人们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毛泽东爷爷亲笔题词：“向雷锋同志学习” 。此后，每年三月五日便成了全民学雷锋的日子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-838080" y="-914400"/>
            <a:ext cx="11353680" cy="5943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1932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老爷爷为什么称小男孩为“小雷锋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推车上坡的老大爷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小雷锋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-1066680" y="-1143000"/>
            <a:ext cx="11734560" cy="883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15228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828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问路的叔叔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小朋友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337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扫垃圾的阿姨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红领巾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9807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③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上公交的老奶奶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好孩子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⑤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人们不知道我的名字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但是，大家都记住了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我的笑容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b200"/>
                </a:solidFill>
                <a:latin typeface="Comic Sans MS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大家为什么这样称呼“我”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90720" y="5335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我也能说一说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981080"/>
            <a:ext cx="73152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幼儿园的小妹妹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不知道我的名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叫我“小哥哥”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419112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⑤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人们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但是，大家都记住了我的笑容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181120" y="771480"/>
            <a:ext cx="31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扫垃圾的阿姨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红领巾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推车上坡的老大爷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小雷锋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762120"/>
            <a:ext cx="506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问路的叔叔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小朋友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上公交的老奶奶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好孩子”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5335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我也能说一说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209680"/>
            <a:ext cx="670536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不知道我的名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叫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17524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　　课文中的我有哪些名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Comic Sans MS"/>
              </a:rPr>
              <a:t>知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</a:rPr>
              <a:t>道     笑</a:t>
            </a:r>
            <a:r>
              <a:rPr b="1" lang="zh-CN" sz="6600" spc="-1" strike="noStrike">
                <a:solidFill>
                  <a:srgbClr val="ff0000"/>
                </a:solidFill>
                <a:latin typeface="Comic Sans MS"/>
              </a:rPr>
              <a:t>容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垃圾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    上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坡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</a:rPr>
              <a:t>叔叔     阿姨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</a:rPr>
              <a:t>老大爷   老奶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438280" y="1676520"/>
            <a:ext cx="4033800" cy="4359240"/>
            <a:chOff x="2438280" y="1676520"/>
            <a:chExt cx="4033800" cy="4359240"/>
          </a:xfrm>
        </p:grpSpPr>
        <p:grpSp>
          <p:nvGrpSpPr>
            <p:cNvPr id="165" name=""/>
            <p:cNvGrpSpPr/>
            <p:nvPr/>
          </p:nvGrpSpPr>
          <p:grpSpPr>
            <a:xfrm>
              <a:off x="2438280" y="1716120"/>
              <a:ext cx="4033800" cy="4319640"/>
              <a:chOff x="2438280" y="1716120"/>
              <a:chExt cx="4033800" cy="4319640"/>
            </a:xfrm>
          </p:grpSpPr>
          <p:sp>
            <p:nvSpPr>
              <p:cNvPr id="166" name=""/>
              <p:cNvSpPr/>
              <p:nvPr/>
            </p:nvSpPr>
            <p:spPr>
              <a:xfrm>
                <a:off x="2438280" y="1716120"/>
                <a:ext cx="3958920" cy="4317840"/>
              </a:xfrm>
              <a:prstGeom prst="rect">
                <a:avLst/>
              </a:prstGeom>
              <a:solidFill>
                <a:srgbClr val="ffef66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38280" y="3849480"/>
                <a:ext cx="403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11360" y="1716120"/>
                <a:ext cx="70920" cy="431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481200" y="1676520"/>
              <a:ext cx="2161800" cy="40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奶</a:t>
              </a:r>
              <a:endParaRPr b="0" lang="en-US" sz="2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350800" y="4460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一看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4000" y="380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一看笔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谁怎样称呼这个小男孩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057400"/>
            <a:ext cx="65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小朋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红领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好孩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小雷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25520" y="1981080"/>
            <a:ext cx="17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叔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2819520"/>
            <a:ext cx="18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阿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505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老奶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267080"/>
            <a:ext cx="23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老大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推车上坡的老大爷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小雷锋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3-04-23T14:17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6000000000001024120</vt:lpwstr>
  </property>
  <property fmtid="{D5CDD505-2E9C-101B-9397-08002B2CF9AE}" pid="3" name="Version">
    <vt:r8>1</vt:r8>
  </property>
</Properties>
</file>