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laser.wav" ContentType="audio/x-wav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A93-6752-4CDE-92D0-2BE75381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19E-8065-44DB-A66C-35877E9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92E-7B93-4B07-8FFD-91510A89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80D-0C88-4BA6-BD01-1C3057C1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1B4-A732-4D2C-A967-302541E6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853-BCEB-4A73-8B1E-EC28986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3863-30BC-4EE3-86A1-09B4304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C15-2FD9-41CD-A64A-237BAE4E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0EC8-3EB1-40E7-88E8-47B1C441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B934-B16E-4C14-AB70-6086955B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2452-876D-4F5C-BDF3-7513769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533-105F-4BEF-8B6F-70C4D1F2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C6C-A828-4218-B0EB-3F58DBF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F589-F2CD-40FE-9FD9-277940F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ED00-5C0E-41DF-8FA2-94CB69B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90B3-794F-4291-83EA-2C840D11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58AE-D921-4A6F-94E9-7EA624A0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F48-4B23-4E4E-99C8-5822FB9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EE1-42AB-4AAF-9BF5-4C4E2E7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A0B-F460-4865-B4C9-C7F453C8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470-C39E-45D4-A11F-61A0391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FBA-CCB8-43BF-966B-6D32697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161-605A-48F9-A2C5-1653E5D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0BC-870A-4BE5-92DE-FF19D87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E7B0-5F05-4B00-BFEE-1AFCB41CE7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42B-AA34-47EE-8A1F-CBD1A2E19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Local%20Settings/Temp/HZ$D.138.744/Local%20Settings/Temporary%20Internet%20Files/Content.IE5/XISO8ZFI/&#28436;&#31034;&#25991;&#31295;2.ppt#12. &#24187;&#28783;&#29255; 12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1300000350891123692762340550_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332000" y="2421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好事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58920" y="765000"/>
            <a:ext cx="33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010_s"/>
          <p:cNvPicPr/>
          <p:nvPr/>
        </p:nvPicPr>
        <p:blipFill>
          <a:blip r:embed="rId2"/>
          <a:stretch/>
        </p:blipFill>
        <p:spPr>
          <a:xfrm>
            <a:off x="4032360" y="1413000"/>
            <a:ext cx="5111640" cy="3168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62340550_s"/>
          <p:cNvPicPr/>
          <p:nvPr/>
        </p:nvPicPr>
        <p:blipFill>
          <a:blip r:embed="rId3"/>
          <a:stretch/>
        </p:blipFill>
        <p:spPr>
          <a:xfrm>
            <a:off x="0" y="3738600"/>
            <a:ext cx="4427640" cy="3119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539640" y="1700280"/>
            <a:ext cx="49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马莎掉到河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跳下去救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2340550_s"/>
          <p:cNvPicPr/>
          <p:nvPr/>
        </p:nvPicPr>
        <p:blipFill>
          <a:blip r:embed="rId2"/>
          <a:stretch/>
        </p:blipFill>
        <p:spPr>
          <a:xfrm>
            <a:off x="4788000" y="1341360"/>
            <a:ext cx="4356000" cy="307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762340550_s"/>
          <p:cNvPicPr/>
          <p:nvPr/>
        </p:nvPicPr>
        <p:blipFill>
          <a:blip r:embed="rId3"/>
          <a:stretch/>
        </p:blipFill>
        <p:spPr>
          <a:xfrm>
            <a:off x="0" y="3484440"/>
            <a:ext cx="4788000" cy="3373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755640" y="1700280"/>
            <a:ext cx="46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狼来抓小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开枪把狼打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23692762340550_s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323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762340550_s"/>
          <p:cNvPicPr/>
          <p:nvPr/>
        </p:nvPicPr>
        <p:blipFill>
          <a:blip r:embed="rId3"/>
          <a:stretch/>
        </p:blipFill>
        <p:spPr>
          <a:xfrm>
            <a:off x="0" y="3637080"/>
            <a:ext cx="4572000" cy="3220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92000" y="162864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奶奶不小心摔断了腿，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背着她去医院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1042920" y="206064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奶奶不小心摔断了腿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背着她去医院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2387880" y="692280"/>
            <a:ext cx="49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莎掉到河里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跳下去救她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3142440" y="1413000"/>
            <a:ext cx="34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狼来抓小狗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开枪把狼打死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005480" y="3213000"/>
            <a:ext cx="73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2523600" y="422100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三件事情是好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三件事发生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4"/>
          <p:cNvSpPr/>
          <p:nvPr/>
        </p:nvSpPr>
        <p:spPr>
          <a:xfrm>
            <a:off x="826920" y="76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03280" y="4365720"/>
            <a:ext cx="53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187280" y="378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事如果尤拉去做了，算不算好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706400" y="4498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332000" y="4437000"/>
            <a:ext cx="58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187280" y="4365720"/>
            <a:ext cx="684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2"/>
              </a:rPr>
              <a:t>尤拉有没有帮助他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765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莎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拉，带我到山上玩吧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狗摇摇尾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拉，给我点水喝吧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奶奶喊尤拉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尤拉乖乖，帮奶奶刷碗  吧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1116000" y="4797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尤拉不做这些事情？他想得对不对？做得对不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187280" y="98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来想去，想不出该做什么好事情，就去问妈妈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抚摸着尤拉的头，说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带马莎去玩，给小狗喝水，帮奶奶刷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403280" y="328464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、妈妈叫尤拉做的是好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414972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67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767ff"/>
                </a:solidFill>
                <a:latin typeface="Arial"/>
              </a:rPr>
              <a:t>、好事情应该从哪里做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0846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好事情应从身边的小事做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2"/>
          <p:cNvSpPr/>
          <p:nvPr/>
        </p:nvSpPr>
        <p:spPr>
          <a:xfrm>
            <a:off x="2050920" y="206064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2924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事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从身边的小事做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5787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11280" y="1341360"/>
            <a:ext cx="3599640" cy="4102920"/>
            <a:chOff x="611280" y="1341360"/>
            <a:chExt cx="3599640" cy="4102920"/>
          </a:xfrm>
        </p:grpSpPr>
        <p:sp>
          <p:nvSpPr>
            <p:cNvPr id="108" name=""/>
            <p:cNvSpPr/>
            <p:nvPr/>
          </p:nvSpPr>
          <p:spPr>
            <a:xfrm>
              <a:off x="2410920" y="1341360"/>
              <a:ext cx="0" cy="4102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3392280"/>
              <a:ext cx="3599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341360"/>
              <a:ext cx="3599640" cy="410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007640" y="1855080"/>
              <a:ext cx="2842920" cy="302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事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572000" y="1341360"/>
            <a:ext cx="3815640" cy="4102920"/>
            <a:chOff x="4572000" y="1341360"/>
            <a:chExt cx="3815640" cy="4102920"/>
          </a:xfrm>
        </p:grpSpPr>
        <p:sp>
          <p:nvSpPr>
            <p:cNvPr id="113" name=""/>
            <p:cNvSpPr/>
            <p:nvPr/>
          </p:nvSpPr>
          <p:spPr>
            <a:xfrm>
              <a:off x="6479640" y="1341360"/>
              <a:ext cx="0" cy="4102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392280"/>
              <a:ext cx="381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341360"/>
              <a:ext cx="3815640" cy="410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992480" y="1855080"/>
              <a:ext cx="3013560" cy="302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情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9"/>
          <p:cNvSpPr/>
          <p:nvPr/>
        </p:nvSpPr>
        <p:spPr>
          <a:xfrm>
            <a:off x="4211640" y="18129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411280" y="184140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尤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1844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1800" y="321300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抬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433600" y="31640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夹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8472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摔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断</a:t>
            </a:r>
            <a:r>
              <a:rPr b="1" lang="zh-CN" sz="4800" spc="-1" strike="noStrike">
                <a:solidFill>
                  <a:srgbClr val="ff33cc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4360" y="45813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医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441520" y="458136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厨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458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刷 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1318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l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125568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yó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05240" y="1268280"/>
            <a:ext cx="18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17600" y="25160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ji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243036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d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1728720"/>
            <a:ext cx="11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u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97368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98600" y="390060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3280" y="390060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shuā w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164120" y="45831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天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210200" y="318132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于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68360" y="7389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如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97440" y="738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13200" y="390060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63700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1440" y="674208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r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6742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i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3800" y="6742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ɡě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551640" y="18464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事 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53360" y="131904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2880" y="12859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qi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280" y="-387360"/>
            <a:ext cx="316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考 考 你 </a:t>
            </a: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539640" y="692280"/>
            <a:ext cx="828036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事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，尤拉醒了。他看看窗外，天气很好，于是想做点什么好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539640" y="692280"/>
            <a:ext cx="828036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马莎掉到河里，我就跳下去救她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恰好马莎来了，她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，带我到山上玩吧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别打扰我想事情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说。马莎委屈地走开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125360"/>
            <a:ext cx="82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又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狼来抓小狗，我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开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狼打死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好小狗跑来了，它对尤拉抬起脑袋，摇摇尾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，给我点水喝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开，我正在想事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说。小狗夹着尾巴跑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3068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684360" y="33336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4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接着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奶奶不小心摔断了腿，我就背着她去医院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好奶奶在厨房喊尤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尤拉乖乖，帮奶奶刷碗吧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自己刷吧，我的事情更重要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大声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87280" y="981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来想去，想不出该做什么好事情，就去问妈妈。妈妈抚摸着尤拉的头，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带马莎去玩，给小狗喝水，帮奶奶刷碗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03280" y="3284640"/>
            <a:ext cx="66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2"/>
          <p:cNvSpPr/>
          <p:nvPr/>
        </p:nvSpPr>
        <p:spPr>
          <a:xfrm>
            <a:off x="2050920" y="206064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做什么好事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想一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2:50:47Z</dcterms:created>
  <dc:creator>dongyun</dc:creator>
  <dc:description/>
  <dc:language>en-US</dc:language>
  <cp:lastModifiedBy>Windows 用户</cp:lastModifiedBy>
  <dcterms:modified xsi:type="dcterms:W3CDTF">2013-04-23T14:26:09Z</dcterms:modified>
  <cp:revision>39</cp:revision>
  <dc:subject/>
  <dc:title>幻灯片 1</dc:title>
</cp:coreProperties>
</file>