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D31C-522C-496F-9248-A5FEFA8683F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DA2A-236D-41DB-ABF3-D1C803B377E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3E48-D21F-4AF7-B0FD-0F268A48362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B3C8-7195-49C8-8EFD-D1580DCD4F7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D15A-E6AD-40E9-BE54-13A9627DE60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DA86-66F7-4480-804F-4EC21E87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CD93-2FAA-4F5F-8D22-D5A00B28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170D-5D5F-4D15-A72F-C33337E16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70D9-74EF-48D6-9EC8-A85193A8B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5633-82FF-4D70-9ABB-375707F3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3DD6-0568-4B59-832D-0D01B59F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4070-2978-4B67-BB26-B1AFE857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B262-1247-4F73-A0E6-224E0D9B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76AD-27EB-42FF-9CFE-EADF3C85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9EF1-ECD6-4CD3-950C-71E647B2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C30C-D27A-4729-8156-EC68A26D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25DB-BFD3-4A81-A351-2BC9DB62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1F3E-266B-48F4-AD63-1A50A9A45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6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1571760" y="1500120"/>
            <a:ext cx="71434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大家都快乐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0" y="3027240"/>
            <a:ext cx="395928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>
            <a:hlinkClick r:id="rId3" action="ppaction://hlinksldjump"/>
          </p:cNvPr>
          <p:cNvSpPr/>
          <p:nvPr/>
        </p:nvSpPr>
        <p:spPr>
          <a:xfrm>
            <a:off x="3929040" y="785880"/>
            <a:ext cx="5429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个人玩，很快乐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人成众玩法多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跳皮筋，掰手腕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过家家，学唱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6"/>
          <p:cNvGrpSpPr/>
          <p:nvPr/>
        </p:nvGrpSpPr>
        <p:grpSpPr>
          <a:xfrm>
            <a:off x="3132000" y="3573360"/>
            <a:ext cx="2376720" cy="2376720"/>
            <a:chOff x="3132000" y="3573360"/>
            <a:chExt cx="2376720" cy="2376720"/>
          </a:xfrm>
        </p:grpSpPr>
        <p:sp>
          <p:nvSpPr>
            <p:cNvPr id="91" name="Rectangle 7"/>
            <p:cNvSpPr/>
            <p:nvPr/>
          </p:nvSpPr>
          <p:spPr>
            <a:xfrm>
              <a:off x="3132000" y="3573360"/>
              <a:ext cx="2376720" cy="2376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8"/>
            <p:cNvSpPr/>
            <p:nvPr/>
          </p:nvSpPr>
          <p:spPr>
            <a:xfrm flipH="1">
              <a:off x="3132000" y="4761720"/>
              <a:ext cx="237672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9"/>
            <p:cNvSpPr/>
            <p:nvPr/>
          </p:nvSpPr>
          <p:spPr>
            <a:xfrm>
              <a:off x="4320720" y="3632400"/>
              <a:ext cx="0" cy="231732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10"/>
          <p:cNvSpPr/>
          <p:nvPr/>
        </p:nvSpPr>
        <p:spPr>
          <a:xfrm>
            <a:off x="3203640" y="3357720"/>
            <a:ext cx="237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800" spc="-1" strike="noStrike">
                <a:solidFill>
                  <a:srgbClr val="ff0000"/>
                </a:solidFill>
                <a:latin typeface="Arial"/>
                <a:ea typeface="楷体_GB2312"/>
              </a:rPr>
              <a:t>众</a:t>
            </a:r>
            <a:endParaRPr b="0" lang="en-US" sz="1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3286080" y="2357280"/>
            <a:ext cx="20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zhò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1143000" y="428760"/>
            <a:ext cx="278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看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1214280" y="1428840"/>
            <a:ext cx="257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看笔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4000680" y="500040"/>
            <a:ext cx="235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品字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1222200" y="907920"/>
            <a:ext cx="7921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两个人玩，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快乐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有些事儿，要两个人做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悄悄话儿一起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258920" y="22068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下象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706920" y="213372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打乒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226200" y="213372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讲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D:\课件背景及音乐\课件背景模板\图片3.jpg"/>
          <p:cNvPicPr/>
          <p:nvPr/>
        </p:nvPicPr>
        <p:blipFill>
          <a:blip r:embed="rId2"/>
          <a:stretch/>
        </p:blipFill>
        <p:spPr>
          <a:xfrm>
            <a:off x="0" y="285840"/>
            <a:ext cx="9144000" cy="67863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7"/>
          <p:cNvSpPr/>
          <p:nvPr/>
        </p:nvSpPr>
        <p:spPr>
          <a:xfrm>
            <a:off x="5072040" y="1071720"/>
            <a:ext cx="40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285840" y="2071800"/>
            <a:ext cx="885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跳皮筋，我第一，马兰花开二十一。二五六，二五七，二八二九三十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2571840" y="714240"/>
            <a:ext cx="400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跳皮筋歌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http://imgt5.bdstatic.com/it/u=2838234315,2866363098&amp;fm=116&amp;gp=0.jpg"/>
          <p:cNvPicPr/>
          <p:nvPr/>
        </p:nvPicPr>
        <p:blipFill>
          <a:blip r:embed="rId3"/>
          <a:stretch/>
        </p:blipFill>
        <p:spPr>
          <a:xfrm>
            <a:off x="3714840" y="5000760"/>
            <a:ext cx="5286240" cy="2000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802800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16583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5">
            <a:hlinkClick r:id="rId2" action="ppaction://hlinksldjump"/>
          </p:cNvPr>
          <p:cNvSpPr/>
          <p:nvPr/>
        </p:nvSpPr>
        <p:spPr>
          <a:xfrm>
            <a:off x="2627280" y="857160"/>
            <a:ext cx="5659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许多人玩，更快乐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丢手绢，赛拔河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人想出新玩法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大家都快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3"/>
          <a:stretch/>
        </p:blipFill>
        <p:spPr>
          <a:xfrm>
            <a:off x="0" y="4143240"/>
            <a:ext cx="91440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1222200" y="907920"/>
            <a:ext cx="7921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两个人玩，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快乐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有些事儿，要两个人做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悄悄话儿一起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258920" y="22068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下象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706920" y="213372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打乒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6226200" y="213372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讲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D:\课件背景及音乐\课件背景模板\图片3.jp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786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http://imgt1.bdstatic.com/it/u=2471798984,2385981093&amp;fm=116&amp;gp=0.jpg"/>
          <p:cNvPicPr/>
          <p:nvPr/>
        </p:nvPicPr>
        <p:blipFill>
          <a:blip r:embed="rId2"/>
          <a:stretch/>
        </p:blipFill>
        <p:spPr>
          <a:xfrm>
            <a:off x="500040" y="3786120"/>
            <a:ext cx="3429000" cy="2214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http://imgt4.bdstatic.com/it/u=3933162435,3676884527&amp;fm=116&amp;gp=0.jpg"/>
          <p:cNvPicPr/>
          <p:nvPr/>
        </p:nvPicPr>
        <p:blipFill>
          <a:blip r:embed="rId3"/>
          <a:stretch/>
        </p:blipFill>
        <p:spPr>
          <a:xfrm>
            <a:off x="4714920" y="3786120"/>
            <a:ext cx="3643200" cy="2214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http://t02.pic.sogou.com/30b30b6c3013fff8-a807c704bd5a8c80-afcbd7846bd0e36d08e67b4938037be5.jpg"/>
          <p:cNvPicPr/>
          <p:nvPr/>
        </p:nvPicPr>
        <p:blipFill>
          <a:blip r:embed="rId4"/>
          <a:stretch/>
        </p:blipFill>
        <p:spPr>
          <a:xfrm>
            <a:off x="571680" y="428760"/>
            <a:ext cx="3357360" cy="2071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http://t02.pic.sogou.com/b02984f46fae9d60-852cbf5ce43afadf-c5cb08c79437f051c8a02a0ba1b5490d.jpg"/>
          <p:cNvPicPr/>
          <p:nvPr/>
        </p:nvPicPr>
        <p:blipFill>
          <a:blip r:embed="rId5"/>
          <a:stretch/>
        </p:blipFill>
        <p:spPr>
          <a:xfrm>
            <a:off x="4857840" y="428760"/>
            <a:ext cx="3429000" cy="2071440"/>
          </a:xfrm>
          <a:prstGeom prst="rect">
            <a:avLst/>
          </a:prstGeom>
          <a:ln w="0">
            <a:noFill/>
          </a:ln>
        </p:spPr>
      </p:pic>
      <p:sp>
        <p:nvSpPr>
          <p:cNvPr id="120" name="TextBox 12"/>
          <p:cNvSpPr/>
          <p:nvPr/>
        </p:nvSpPr>
        <p:spPr>
          <a:xfrm>
            <a:off x="928800" y="2571840"/>
            <a:ext cx="25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搭 积 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3"/>
          <p:cNvSpPr/>
          <p:nvPr/>
        </p:nvSpPr>
        <p:spPr>
          <a:xfrm>
            <a:off x="5286240" y="2500200"/>
            <a:ext cx="257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折纸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857160" y="6000840"/>
            <a:ext cx="257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打乒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5"/>
          <p:cNvSpPr/>
          <p:nvPr/>
        </p:nvSpPr>
        <p:spPr>
          <a:xfrm>
            <a:off x="5072040" y="6000840"/>
            <a:ext cx="214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丢手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1222200" y="907920"/>
            <a:ext cx="7921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两个人玩，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快乐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有些事儿，要两个人做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悄悄话儿一起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258920" y="22068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下象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706920" y="213372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打乒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6226200" y="213372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讲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D:\课件背景及音乐\课件背景模板\图片3.jpg"/>
          <p:cNvPicPr/>
          <p:nvPr/>
        </p:nvPicPr>
        <p:blipFill>
          <a:blip r:embed="rId2"/>
          <a:stretch/>
        </p:blipFill>
        <p:spPr>
          <a:xfrm>
            <a:off x="0" y="285840"/>
            <a:ext cx="9144000" cy="67863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6"/>
          <p:cNvSpPr/>
          <p:nvPr/>
        </p:nvSpPr>
        <p:spPr>
          <a:xfrm>
            <a:off x="1071720" y="1214280"/>
            <a:ext cx="5000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000080" y="428760"/>
            <a:ext cx="7929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四个人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 玩，最快乐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些事儿，可以（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四个人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做。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藏猫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，（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打扑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起游戏真不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857160" y="3643200"/>
            <a:ext cx="7429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玩，最快乐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些事儿，可以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个人做。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，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起游戏真不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1222200" y="907920"/>
            <a:ext cx="7921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两个人玩，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快乐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有些事儿，要两个人做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悄悄话儿一起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58920" y="22068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下象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706920" y="213372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打乒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6226200" y="213372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讲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D:\课件背景及音乐\课件背景模板\图片3.jpg"/>
          <p:cNvPicPr/>
          <p:nvPr/>
        </p:nvPicPr>
        <p:blipFill>
          <a:blip r:embed="rId2"/>
          <a:stretch/>
        </p:blipFill>
        <p:spPr>
          <a:xfrm>
            <a:off x="0" y="285840"/>
            <a:ext cx="9144000" cy="67863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7"/>
          <p:cNvSpPr/>
          <p:nvPr/>
        </p:nvSpPr>
        <p:spPr>
          <a:xfrm>
            <a:off x="142920" y="571680"/>
            <a:ext cx="5214960" cy="21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个人玩，挺快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静悄悄地，独自一个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正好折纸船、纸马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还可以踢毽子、听广播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214200" y="3357720"/>
            <a:ext cx="4786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个人玩，真快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些事儿，要两个人做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象棋、打乒乓、讲故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悄悄话儿一起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9"/>
          <p:cNvSpPr/>
          <p:nvPr/>
        </p:nvSpPr>
        <p:spPr>
          <a:xfrm>
            <a:off x="5572080" y="571680"/>
            <a:ext cx="3714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个人玩，很快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人成众玩法多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跳皮筋，掰手腕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过家家，学唱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0"/>
          <p:cNvSpPr/>
          <p:nvPr/>
        </p:nvSpPr>
        <p:spPr>
          <a:xfrm>
            <a:off x="5572080" y="3357720"/>
            <a:ext cx="3571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许多人玩，更快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丢手绢，赛拔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人想出新玩法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家都快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秋日私语.mp3" descr=""/>
          <p:cNvPicPr/>
          <p:nvPr/>
        </p:nvPicPr>
        <p:blipFill>
          <a:blip r:embed="rId3"/>
          <a:stretch/>
        </p:blipFill>
        <p:spPr>
          <a:xfrm>
            <a:off x="84297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357474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2"/>
          <a:stretch/>
        </p:blipFill>
        <p:spPr>
          <a:xfrm>
            <a:off x="12600" y="2700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0360" y="198000"/>
            <a:ext cx="575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2786040" y="1000080"/>
            <a:ext cx="6357960" cy="26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一个人玩，挺快乐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静悄悄地，独自一个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正好折纸船、纸马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还可以踢毽子、听广播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0" y="3371760"/>
            <a:ext cx="4392720" cy="34862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>
            <a:hlinkClick r:id="rId3" action="ppaction://hlinksldjump"/>
          </p:cNvPr>
          <p:cNvSpPr/>
          <p:nvPr/>
        </p:nvSpPr>
        <p:spPr>
          <a:xfrm>
            <a:off x="3214800" y="642960"/>
            <a:ext cx="6429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个人玩，真快乐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些事儿，要两个人做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下象棋、打乒乓、讲故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悄悄话儿一起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0" y="3027240"/>
            <a:ext cx="3959280" cy="38307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>
            <a:hlinkClick r:id="rId3" action="ppaction://hlinksldjump"/>
          </p:cNvPr>
          <p:cNvSpPr/>
          <p:nvPr/>
        </p:nvSpPr>
        <p:spPr>
          <a:xfrm>
            <a:off x="3929040" y="785880"/>
            <a:ext cx="5429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个人玩，很快乐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人成众玩法多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跳皮筋，掰手腕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过家家，学唱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>
            <a:hlinkClick r:id="rId2" action="ppaction://hlinksldjump"/>
          </p:cNvPr>
          <p:cNvSpPr/>
          <p:nvPr/>
        </p:nvSpPr>
        <p:spPr>
          <a:xfrm>
            <a:off x="2627280" y="857160"/>
            <a:ext cx="5659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许多人玩，更快乐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丢手绢，赛拔河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人想出新玩法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大家都快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0" y="4143240"/>
            <a:ext cx="91440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1692360" y="1773360"/>
            <a:ext cx="712764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D:\课件背景及音乐\课件背景模板\图片3.jpg"/>
          <p:cNvPicPr/>
          <p:nvPr/>
        </p:nvPicPr>
        <p:blipFill>
          <a:blip r:embed="rId2"/>
          <a:stretch/>
        </p:blipFill>
        <p:spPr>
          <a:xfrm>
            <a:off x="-1214280" y="-214200"/>
            <a:ext cx="12144240" cy="7072200"/>
          </a:xfrm>
          <a:prstGeom prst="rect">
            <a:avLst/>
          </a:prstGeom>
          <a:ln w="0">
            <a:noFill/>
          </a:ln>
        </p:spPr>
      </p:pic>
      <p:sp>
        <p:nvSpPr>
          <p:cNvPr id="60" name="TextBox 8"/>
          <p:cNvSpPr/>
          <p:nvPr/>
        </p:nvSpPr>
        <p:spPr>
          <a:xfrm>
            <a:off x="0" y="928800"/>
            <a:ext cx="80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踢毽子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讲故事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过家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142920" y="2286000"/>
            <a:ext cx="885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跳皮筋    丢手绢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掰手腕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142920" y="3714840"/>
            <a:ext cx="750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折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纸船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赛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拔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河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打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乒乓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http://imgt5.bdstatic.com/it/u=1187865486,3828681645&amp;fm=116&amp;gp=0.jpg"/>
          <p:cNvPicPr/>
          <p:nvPr/>
        </p:nvPicPr>
        <p:blipFill>
          <a:blip r:embed="rId3"/>
          <a:stretch/>
        </p:blipFill>
        <p:spPr>
          <a:xfrm>
            <a:off x="-285840" y="4714920"/>
            <a:ext cx="10501560" cy="2143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http://imgt1.bdstatic.com/it/u=2525884232,261074621&amp;fm=116&amp;gp=0.jpg"/>
          <p:cNvPicPr/>
          <p:nvPr/>
        </p:nvPicPr>
        <p:blipFill>
          <a:blip r:embed="rId4"/>
          <a:stretch/>
        </p:blipFill>
        <p:spPr>
          <a:xfrm>
            <a:off x="7286760" y="428760"/>
            <a:ext cx="1857240" cy="1971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http://imgt4.bdstatic.com/it/u=3735190947,34845457&amp;fm=116&amp;gp=0.jpg"/>
          <p:cNvPicPr/>
          <p:nvPr/>
        </p:nvPicPr>
        <p:blipFill>
          <a:blip r:embed="rId5"/>
          <a:stretch/>
        </p:blipFill>
        <p:spPr>
          <a:xfrm>
            <a:off x="7786800" y="2000160"/>
            <a:ext cx="1000080" cy="1428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http://imgt1.bdstatic.com/it/u=1732698794,3143943801&amp;fm=116&amp;gp=0.jpg"/>
          <p:cNvPicPr/>
          <p:nvPr/>
        </p:nvPicPr>
        <p:blipFill>
          <a:blip r:embed="rId6"/>
          <a:stretch/>
        </p:blipFill>
        <p:spPr>
          <a:xfrm>
            <a:off x="7572240" y="3714840"/>
            <a:ext cx="188136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1222200" y="907920"/>
            <a:ext cx="7921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两个人玩，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快乐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有些事儿，要两个人做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悄悄话儿一起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258920" y="22068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下象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706920" y="213372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打乒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6226200" y="213372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讲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D:\课件背景及音乐\课件背景模板\图片3.jpg"/>
          <p:cNvPicPr/>
          <p:nvPr/>
        </p:nvPicPr>
        <p:blipFill>
          <a:blip r:embed="rId2"/>
          <a:stretch/>
        </p:blipFill>
        <p:spPr>
          <a:xfrm>
            <a:off x="0" y="285840"/>
            <a:ext cx="9144000" cy="678636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357120" y="1071720"/>
            <a:ext cx="30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围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5072040" y="1071720"/>
            <a:ext cx="40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篮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http://imgt1.bdstatic.com/it/u=3593881191,2869407764&amp;fm=116&amp;gp=0.jpg"/>
          <p:cNvPicPr/>
          <p:nvPr/>
        </p:nvPicPr>
        <p:blipFill>
          <a:blip r:embed="rId3"/>
          <a:stretch/>
        </p:blipFill>
        <p:spPr>
          <a:xfrm>
            <a:off x="285840" y="2071800"/>
            <a:ext cx="2571840" cy="1571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http://imgt2.bdstatic.com/it/u=1887551697,3356711799&amp;fm=116&amp;gp=0.jpg"/>
          <p:cNvPicPr/>
          <p:nvPr/>
        </p:nvPicPr>
        <p:blipFill>
          <a:blip r:embed="rId4"/>
          <a:stretch/>
        </p:blipFill>
        <p:spPr>
          <a:xfrm>
            <a:off x="5643720" y="2071800"/>
            <a:ext cx="2714400" cy="1571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http://imgt0.bdstatic.com/it/u=340292796,1892574714&amp;fm=116&amp;gp=0.jpg"/>
          <p:cNvPicPr/>
          <p:nvPr/>
        </p:nvPicPr>
        <p:blipFill>
          <a:blip r:embed="rId5"/>
          <a:stretch/>
        </p:blipFill>
        <p:spPr>
          <a:xfrm>
            <a:off x="428760" y="4762440"/>
            <a:ext cx="2000160" cy="2095560"/>
          </a:xfrm>
          <a:prstGeom prst="rect">
            <a:avLst/>
          </a:prstGeom>
          <a:ln w="0">
            <a:noFill/>
          </a:ln>
        </p:spPr>
      </p:pic>
      <p:sp>
        <p:nvSpPr>
          <p:cNvPr id="77" name="TextBox 11"/>
          <p:cNvSpPr/>
          <p:nvPr/>
        </p:nvSpPr>
        <p:spPr>
          <a:xfrm>
            <a:off x="285840" y="392904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吹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喇 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6" descr="http://imgt4.bdstatic.com/it/u=2301702512,1563726926&amp;fm=116&amp;gp=0.jpg"/>
          <p:cNvPicPr/>
          <p:nvPr/>
        </p:nvPicPr>
        <p:blipFill>
          <a:blip r:embed="rId6"/>
          <a:stretch/>
        </p:blipFill>
        <p:spPr>
          <a:xfrm>
            <a:off x="5929200" y="4857840"/>
            <a:ext cx="2643480" cy="2214360"/>
          </a:xfrm>
          <a:prstGeom prst="rect">
            <a:avLst/>
          </a:prstGeom>
          <a:ln w="0">
            <a:noFill/>
          </a:ln>
        </p:spPr>
      </p:pic>
      <p:sp>
        <p:nvSpPr>
          <p:cNvPr id="79" name="TextBox 13"/>
          <p:cNvSpPr/>
          <p:nvPr/>
        </p:nvSpPr>
        <p:spPr>
          <a:xfrm>
            <a:off x="5643720" y="3857760"/>
            <a:ext cx="321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荡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秋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4"/>
          <p:cNvSpPr/>
          <p:nvPr/>
        </p:nvSpPr>
        <p:spPr>
          <a:xfrm>
            <a:off x="500040" y="1071720"/>
            <a:ext cx="10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5"/>
          <p:cNvSpPr/>
          <p:nvPr/>
        </p:nvSpPr>
        <p:spPr>
          <a:xfrm>
            <a:off x="5572080" y="107172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12600" y="2700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0360" y="198000"/>
            <a:ext cx="575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/>
          <p:cNvSpPr/>
          <p:nvPr/>
        </p:nvSpPr>
        <p:spPr>
          <a:xfrm>
            <a:off x="2786040" y="1000080"/>
            <a:ext cx="6357960" cy="26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一个人玩，挺快乐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静悄悄地，独自一个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正好折纸船、纸马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还可以踢毽子、听广播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秋日私语.mp3" descr=""/>
          <p:cNvPicPr/>
          <p:nvPr/>
        </p:nvPicPr>
        <p:blipFill>
          <a:blip r:embed="rId3"/>
          <a:stretch/>
        </p:blipFill>
        <p:spPr>
          <a:xfrm>
            <a:off x="8358120" y="6143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5747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0" y="3371760"/>
            <a:ext cx="4392720" cy="34862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>
            <a:hlinkClick r:id="rId3" action="ppaction://hlinksldjump"/>
          </p:cNvPr>
          <p:cNvSpPr/>
          <p:nvPr/>
        </p:nvSpPr>
        <p:spPr>
          <a:xfrm>
            <a:off x="3214800" y="642960"/>
            <a:ext cx="6429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个人玩，真快乐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些事儿，要两个人做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下象棋、打乒乓、讲故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悄悄话儿一起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23:44:19Z</dcterms:created>
  <dc:creator>微软用户</dc:creator>
  <dc:description/>
  <dc:language>en-US</dc:language>
  <cp:lastModifiedBy>Windows 用户</cp:lastModifiedBy>
  <dcterms:modified xsi:type="dcterms:W3CDTF">2013-04-23T13:45:42Z</dcterms:modified>
  <cp:revision>88</cp:revision>
  <dc:subject/>
  <dc:title>幻灯片 1</dc:title>
</cp:coreProperties>
</file>