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42F-5F44-4183-AB26-2751914A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58B-8D8C-4D28-BDE6-B212910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116-DADD-4765-8A68-C01473CF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72E-76AB-4174-AC13-0AE8CE84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5724-602F-45AD-BB04-65975C35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2C7B-DF24-4FA6-B441-8A5AA9D4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084F-5DE0-4667-B8F1-345E7B65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F651-AFE3-4941-AC32-5A1A2A85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028-EE2F-4D6A-A7B1-58B1514C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3CD1-8C2B-48FF-9C9C-EB4AA189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994D-E72C-4701-AC66-97CECC79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603-D8AC-4D46-8953-AEF09707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3374-E4CE-484E-9CDB-922F8075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DEE3-62A0-4E73-832A-17B39C39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7282-B669-478C-A1A3-A196ABA5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732E-BBF7-4E75-9D2C-6116BD9A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0022-7750-45E2-8B7C-88E6361A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5EF-DE06-404C-AB3D-1216C5AE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9C2-9B07-4B69-B474-38361AE7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E8A-C413-4487-9421-3B6C6ACC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CD3-2821-400A-988C-1A598F2D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C0B-0548-4F3A-AAA6-C7C8C3F7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5B31-AC43-4A05-8028-53853C27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DCC-D7FB-40E7-A46E-DF7E56F2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B3B-DC7B-4EFF-BB08-CFFCD4D5E5C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CB9B-6F09-4651-8015-E4E60E7F8A8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"/>
          <p:cNvGraphicFramePr/>
          <p:nvPr/>
        </p:nvGraphicFramePr>
        <p:xfrm>
          <a:off x="0" y="468360"/>
          <a:ext cx="9144000" cy="581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8360"/>
                    <a:ext cx="914400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13"/>
          <p:cNvSpPr/>
          <p:nvPr/>
        </p:nvSpPr>
        <p:spPr>
          <a:xfrm>
            <a:off x="1278000" y="1519200"/>
            <a:ext cx="724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endParaRPr b="0" lang="en-US" sz="1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27400" y="50418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执教      李春花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r>
              <a:rPr b="1" lang="zh-CN" sz="4400" spc="-1" strike="noStrike">
                <a:solidFill>
                  <a:srgbClr val="007a77"/>
                </a:solidFill>
                <a:latin typeface="Calibri"/>
                <a:ea typeface="Times New Roman"/>
              </a:rPr>
              <a:t>鲧临死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叮嘱</a:t>
            </a:r>
            <a:r>
              <a:rPr b="1" lang="zh-CN" sz="4400" spc="-1" strike="noStrike">
                <a:solidFill>
                  <a:srgbClr val="007a77"/>
                </a:solidFill>
                <a:latin typeface="Calibri"/>
                <a:ea typeface="Times New Roman"/>
              </a:rPr>
              <a:t>儿子“ 一定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3429000" y="1506600"/>
            <a:ext cx="24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叮嘱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2000" y="1905120"/>
            <a:ext cx="898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1154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11200" y="1789200"/>
            <a:ext cx="824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禹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改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变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了父亲的做法，带领人们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开凿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了龙门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挖通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了九条河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垒起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堤坝，把洪水引到东边的大海里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457200" y="15192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见到人们受苦，鲧很着急，就把天上的土偷下来，去        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82600" y="3468600"/>
            <a:ext cx="847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禹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改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变了父亲的做法，带领人们</a:t>
            </a: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开凿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了龙门</a:t>
            </a: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，       了九条河，      堤坝，把洪水引到东边的大海里去。</a:t>
            </a: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   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83200" y="2124000"/>
            <a:ext cx="13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堵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227400" y="4075200"/>
            <a:ext cx="14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挖通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6467400" y="4060800"/>
            <a:ext cx="156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垒起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背景"/>
          <p:cNvPicPr/>
          <p:nvPr/>
        </p:nvPicPr>
        <p:blipFill>
          <a:blip r:embed="rId2"/>
          <a:stretch/>
        </p:blipFill>
        <p:spPr>
          <a:xfrm>
            <a:off x="0" y="0"/>
            <a:ext cx="9860040" cy="8291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2563920" y="3478320"/>
            <a:ext cx="22273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305000" y="4091040"/>
            <a:ext cx="2205000" cy="216540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1353960" y="5226120"/>
            <a:ext cx="2187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2387520" y="4154400"/>
            <a:ext cx="1800" cy="210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4554360" y="5191200"/>
            <a:ext cx="2187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648400" y="4056120"/>
            <a:ext cx="1440" cy="210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527720" y="4051440"/>
            <a:ext cx="2185920" cy="21254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4532400" y="5167440"/>
            <a:ext cx="2187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>
            <a:off x="5627160" y="4114800"/>
            <a:ext cx="19080" cy="2006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1525680" y="4030560"/>
            <a:ext cx="1727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ff0000"/>
                </a:solidFill>
                <a:latin typeface="Arial"/>
                <a:ea typeface="楷体_GB2312"/>
              </a:rPr>
              <a:t>堵</a:t>
            </a:r>
            <a:endParaRPr b="0" lang="en-US" sz="1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668840" y="3992400"/>
            <a:ext cx="1727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ff0000"/>
                </a:solidFill>
                <a:latin typeface="Arial"/>
                <a:ea typeface="楷体_GB2312"/>
              </a:rPr>
              <a:t>塞</a:t>
            </a:r>
            <a:endParaRPr b="0" lang="en-US" sz="12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7" name="Picture 4" descr="图片2"/>
          <p:cNvPicPr/>
          <p:nvPr/>
        </p:nvPicPr>
        <p:blipFill>
          <a:blip r:embed="rId2"/>
          <a:stretch/>
        </p:blipFill>
        <p:spPr>
          <a:xfrm>
            <a:off x="1440" y="495360"/>
            <a:ext cx="9141120" cy="586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1104031505285661"/>
          <p:cNvPicPr/>
          <p:nvPr/>
        </p:nvPicPr>
        <p:blipFill>
          <a:blip r:embed="rId3"/>
          <a:stretch/>
        </p:blipFill>
        <p:spPr>
          <a:xfrm>
            <a:off x="582480" y="1170000"/>
            <a:ext cx="7699680" cy="568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465360" y="87804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文解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凿，从金，穿木也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晚上，他常常睡在草丘山冈，天蒙蒙亮就又出发了。他的脚长年泡在泥水中，脚跟都烂了，他只好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517680" y="1812960"/>
            <a:ext cx="8304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400" spc="-1" strike="noStrike">
                <a:solidFill>
                  <a:srgbClr val="007a77"/>
                </a:solidFill>
                <a:latin typeface="Calibri"/>
              </a:rPr>
              <a:t>为了治水，禹三十岁才结婚，在家仅仅住了四天，就告别了妻子。禹治水十年，曾经三次路过家门，却顾不得进去看一看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8640" y="1278000"/>
            <a:ext cx="873900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为了治水，禹三十岁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才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结婚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241200" y="2406600"/>
            <a:ext cx="810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为了治水，禹在家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仅仅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住了四天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就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告别了妻子。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0" y="438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为了治水，禹曾经三次路过家门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却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顾 不得进去看一看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8640" y="1904760"/>
            <a:ext cx="8739000" cy="10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62000" y="1963800"/>
            <a:ext cx="810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为了治水，禹三十岁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才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结婚，在家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仅仅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住了四天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就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告别了妻子。禹治水十年，曾经三次路过家门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却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顾不得进去看一看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0" y="4827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1316160"/>
            <a:ext cx="854064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8640" y="-360"/>
            <a:ext cx="8739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文引路：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了我们全家能过上好日子，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爸爸要工作很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睡觉，每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仅仅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睡了五个小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告别了温暖的被窝。爸爸工作那么辛苦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却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从不在我们面前叫苦叫累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8" name="Rectangle 9" descr=""/>
          <p:cNvPicPr/>
          <p:nvPr/>
        </p:nvPicPr>
        <p:blipFill>
          <a:blip r:embed="rId2"/>
          <a:stretch/>
        </p:blipFill>
        <p:spPr>
          <a:xfrm>
            <a:off x="-6480" y="-6480"/>
            <a:ext cx="3657600" cy="287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1"/>
          <p:cNvSpPr/>
          <p:nvPr/>
        </p:nvSpPr>
        <p:spPr>
          <a:xfrm>
            <a:off x="0" y="40064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0" y="35722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为了我们能考出好成绩，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敬爱的老师总是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Calibri"/>
                <a:ea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才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Calibri"/>
                <a:ea typeface="Times New Roman"/>
              </a:rPr>
              <a:t>                   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，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7a77"/>
                </a:solidFill>
                <a:uFillTx/>
                <a:latin typeface="Calibri"/>
                <a:ea typeface="Times New Roman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仅仅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Calibri"/>
                <a:ea typeface="Times New Roman"/>
              </a:rPr>
              <a:t>      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就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Calibri"/>
                <a:ea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7a77"/>
                </a:solidFill>
                <a:uFillTx/>
                <a:latin typeface="Calibri"/>
                <a:ea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却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、、、、、、、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。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    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Calibri"/>
                <a:ea typeface="Times New Roman"/>
              </a:rPr>
              <a:t>                       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Picture 4" descr="201006202036037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457200" y="5769000"/>
            <a:ext cx="83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洪水淹没了村庄和田野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3" name="Picture 4" descr="图片2"/>
          <p:cNvPicPr/>
          <p:nvPr/>
        </p:nvPicPr>
        <p:blipFill>
          <a:blip r:embed="rId2"/>
          <a:stretch/>
        </p:blipFill>
        <p:spPr>
          <a:xfrm>
            <a:off x="1440" y="495360"/>
            <a:ext cx="9141120" cy="5867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1260985_143753636118_2"/>
          <p:cNvPicPr/>
          <p:nvPr/>
        </p:nvPicPr>
        <p:blipFill>
          <a:blip r:embed="rId3"/>
          <a:stretch/>
        </p:blipFill>
        <p:spPr>
          <a:xfrm>
            <a:off x="-304920" y="157320"/>
            <a:ext cx="9753840" cy="65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6" name="Picture 2" descr="0201002130111599557209234895_000"/>
          <p:cNvPicPr/>
          <p:nvPr/>
        </p:nvPicPr>
        <p:blipFill>
          <a:blip r:embed="rId2"/>
          <a:stretch/>
        </p:blipFill>
        <p:spPr>
          <a:xfrm>
            <a:off x="0" y="0"/>
            <a:ext cx="993924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2008225111226669_2"/>
          <p:cNvPicPr/>
          <p:nvPr/>
        </p:nvPicPr>
        <p:blipFill>
          <a:blip r:embed="rId2"/>
          <a:stretch/>
        </p:blipFill>
        <p:spPr>
          <a:xfrm>
            <a:off x="0" y="-255600"/>
            <a:ext cx="9502920" cy="71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-25560" y="-15840"/>
            <a:ext cx="920772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63600" y="1822320"/>
            <a:ext cx="818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禹因此成为人们世世代代敬仰和爱戴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雄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大禹治水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174600" y="2797200"/>
            <a:ext cx="1386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治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189000" y="0"/>
            <a:ext cx="158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大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禹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887400"/>
            <a:ext cx="9144000" cy="7732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00"/>
                </a:solidFill>
                <a:latin typeface="Arial"/>
              </a:rPr>
              <a:t>淹没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1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166760" y="5300640"/>
            <a:ext cx="79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31840" y="5987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04920" y="56386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房屋倒塌了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6600"/>
                </a:solidFill>
                <a:latin typeface="Arial"/>
              </a:rPr>
              <a:t>冲倒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"/>
          <p:cNvPicPr/>
          <p:nvPr/>
        </p:nvPicPr>
        <p:blipFill>
          <a:blip r:embed="rId2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100240" y="7126200"/>
            <a:ext cx="66978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" name="Picture 4" descr="图片2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336600" y="914400"/>
            <a:ext cx="8807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很久很久以前，洪水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淹没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了村庄和田野，房屋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倒塌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了，牲畜被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冲走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了，庄稼也被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冲毁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了，人们只好四处逃荒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33400" y="192240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堵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348000" y="189540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四处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ù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四处   到处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2905200" y="3697200"/>
            <a:ext cx="59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ǔ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处理  处置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625840"/>
            <a:ext cx="599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24160" y="2638440"/>
            <a:ext cx="6543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开凿      挖通     垒起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5:16:00Z</dcterms:created>
  <dc:creator>alex.min</dc:creator>
  <dc:description/>
  <dc:language>en-US</dc:language>
  <cp:lastModifiedBy>Windows 用户</cp:lastModifiedBy>
  <dcterms:modified xsi:type="dcterms:W3CDTF">2013-04-24T14:32:10Z</dcterms:modified>
  <cp:revision>180</cp:revision>
  <dc:subject/>
  <dc:title>幻灯片 1</dc:title>
</cp:coreProperties>
</file>