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618-90F9-456A-B83D-28852709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DF4-8F73-4CA2-8E50-F96D2B80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9A9-FDEF-498F-B34C-08D3E3AE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602-F4FB-4F96-B573-B0F44F96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AE2-8E26-4FED-9A6E-379152C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2E9C-1680-40E7-91D9-D4CD728E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2F05-C4CB-45D9-BF79-DA95102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4482-82E8-49CC-A35B-5B5F2A7E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9C8-C156-451C-A27A-CBF07E5B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B78-ECDB-44C5-873A-91190391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726-D116-41F3-9964-B56ADC6E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0CB-57FD-4BE7-8972-983FF25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1E4D-97D7-4FBF-B5DF-1881C45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16B9-3F32-4CFC-B9AB-FD167BC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7A5E-D1C7-4154-8351-38F562DA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19E-66AB-49A8-9F13-BE055018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A852-B962-42F5-85FB-AB3F11C3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A75D-A831-4D7C-8BFD-7A32D5FE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BB03-CD70-4386-A21F-F1FAAE0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941-412C-4FDD-BC1C-AA8EBE6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D7C-4F84-4376-8EBF-B0C141EC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AB1-4A0D-485B-BC02-A66546A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A43-A006-45D7-B76E-5A6A810E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DD1-BAB6-4FA5-B74F-6655D95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79F-2C0B-4070-B4A6-B0FA47ED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23D-A6EB-4567-9A18-FE97F6DBCA2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7a77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62808"/>
                </a:solidFill>
                <a:latin typeface="Arial"/>
                <a:ea typeface="楷体_GB2312"/>
              </a:rPr>
              <a:t>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2808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-414360"/>
            <a:ext cx="741672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999720"/>
            <a:ext cx="928692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到左边的农舍了吗？就在丛林后面，那座红瓦白墙的房子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士兵的脸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煞白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e62808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我看到了，将军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1680" y="1856880"/>
            <a:ext cx="884232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是德军一个</a:t>
            </a:r>
            <a:r>
              <a:rPr b="1" lang="zh-CN" sz="4000" spc="-1" strike="noStrike">
                <a:solidFill>
                  <a:srgbClr val="e62808"/>
                </a:solidFill>
                <a:latin typeface="楷体_GB2312"/>
                <a:ea typeface="楷体_GB2312"/>
              </a:rPr>
              <a:t>驻地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伙计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给它一炮！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炮手的脸色更加</a:t>
            </a:r>
            <a:r>
              <a:rPr b="1" lang="zh-CN" sz="4000" spc="-1" strike="noStrike">
                <a:solidFill>
                  <a:srgbClr val="e62808"/>
                </a:solidFill>
                <a:latin typeface="Arial"/>
                <a:ea typeface="楷体_GB2312"/>
              </a:rPr>
              <a:t>惨白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了</a:t>
            </a:r>
            <a:r>
              <a:rPr b="1" lang="zh-CN" sz="4000" spc="-1" strike="noStrike">
                <a:solidFill>
                  <a:srgbClr val="e62808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499680"/>
            <a:ext cx="884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喂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炮手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将军没有回头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高声叫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军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脸色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苍白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士兵应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看到左边的农舍了吗？就在丛林后面，那座红瓦白墙的房子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  “</a:t>
            </a: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士兵的脸色</a:t>
            </a:r>
            <a:r>
              <a:rPr b="1" lang="zh-CN" sz="3600" spc="-1" strike="noStrike" u="sng">
                <a:solidFill>
                  <a:srgbClr val="e62808"/>
                </a:solidFill>
                <a:uFillTx/>
                <a:latin typeface="Arial"/>
                <a:ea typeface="楷体_GB2312"/>
              </a:rPr>
              <a:t>煞白</a:t>
            </a: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：“我看到了，将军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是德军的一个驻地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伙计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给它一炮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炮手的脸色更加</a:t>
            </a:r>
            <a:r>
              <a:rPr b="1" lang="zh-CN" sz="3600" spc="-1" strike="noStrike" u="sng">
                <a:solidFill>
                  <a:srgbClr val="e62808"/>
                </a:solidFill>
                <a:uFillTx/>
                <a:latin typeface="Arial"/>
                <a:ea typeface="楷体_GB2312"/>
              </a:rPr>
              <a:t>惨白</a:t>
            </a: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时，裹着大衣的军官们在凛冽的寒风中打颤</a:t>
            </a:r>
            <a:r>
              <a:rPr b="1" lang="en-US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炮手的前额上却滚下了大粒的汗珠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活学活用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让我们也尝试采用纵向对比和横向对比的写法，写一写炮手的房子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侵占前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侵占时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侵占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变化吧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侵占前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瞧，在河对岸的那座小村里有一座红瓦白墙的房子，那就是炮手的家。屋外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屋内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开炮以后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当炮手服从了命令，仔细瞄准目标，开了一炮以后，那座红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白墙的房子消失了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硝烟过后，邻居家的房子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e62808"/>
                </a:solidFill>
                <a:latin typeface="Arial"/>
                <a:ea typeface="楷体_GB2312"/>
              </a:rPr>
              <a:t>炮 手</a:t>
            </a:r>
            <a:endParaRPr b="0" lang="en-US" sz="20000" spc="-1" strike="noStrike">
              <a:solidFill>
                <a:srgbClr val="007a77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62808"/>
                </a:solidFill>
                <a:latin typeface="Arial"/>
                <a:ea typeface="楷体_GB2312"/>
              </a:rPr>
              <a:t>       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2808"/>
                </a:solidFill>
                <a:latin typeface="Arial"/>
                <a:ea typeface="楷体_GB2312"/>
              </a:rPr>
              <a:t>              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侵入  驻地    瞄准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喝彩  </a:t>
            </a:r>
            <a:r>
              <a:rPr b="1" lang="zh-CN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财产    寒风 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打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颤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AutoShape 4">
            <a:hlinkClick r:id="rId3" action="ppaction://hlinksldjump"/>
          </p:cNvPr>
          <p:cNvSpPr/>
          <p:nvPr/>
        </p:nvSpPr>
        <p:spPr>
          <a:xfrm>
            <a:off x="7740720" y="5373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=281360730,2252420954&amp;fm=15&amp;gp=0"/>
          <p:cNvPicPr/>
          <p:nvPr/>
        </p:nvPicPr>
        <p:blipFill>
          <a:blip r:embed="rId2"/>
          <a:stretch/>
        </p:blipFill>
        <p:spPr>
          <a:xfrm>
            <a:off x="1981080" y="1630440"/>
            <a:ext cx="590580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u=230605737,443407956&amp;fm=21&amp;gp=0"/>
          <p:cNvPicPr/>
          <p:nvPr/>
        </p:nvPicPr>
        <p:blipFill>
          <a:blip r:embed="rId3"/>
          <a:stretch/>
        </p:blipFill>
        <p:spPr>
          <a:xfrm>
            <a:off x="1982880" y="981000"/>
            <a:ext cx="4751280" cy="997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060720" y="112536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写一手好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336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    </a:t>
            </a:r>
            <a:r>
              <a:rPr b="1" lang="en-US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hē</a:t>
            </a:r>
            <a:r>
              <a:rPr b="1" lang="zh-CN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（喝水）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喝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    </a:t>
            </a:r>
            <a:r>
              <a:rPr b="1" lang="en-US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h</a:t>
            </a:r>
            <a:r>
              <a:rPr b="1" lang="en-US" sz="8000" spc="-1" strike="noStrike">
                <a:solidFill>
                  <a:srgbClr val="040aee"/>
                </a:solidFill>
                <a:latin typeface="Arial"/>
                <a:ea typeface="楷体_GB2312"/>
              </a:rPr>
              <a:t>è</a:t>
            </a:r>
            <a:r>
              <a:rPr b="1" lang="zh-CN" sz="80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（喝彩）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214720" y="3143160"/>
            <a:ext cx="863280" cy="1008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2214720" y="2214360"/>
            <a:ext cx="792000" cy="9363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40aee"/>
                </a:solidFill>
                <a:latin typeface="Arial"/>
                <a:ea typeface="楷体_GB2312"/>
              </a:rPr>
              <a:t>苍白、煞白、惨白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2276280"/>
            <a:ext cx="95727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是，将军！”一个脸色</a:t>
            </a:r>
            <a:r>
              <a:rPr b="1" lang="zh-CN" sz="3600" spc="-1" strike="noStrike">
                <a:solidFill>
                  <a:srgbClr val="e62808"/>
                </a:solidFill>
                <a:latin typeface="Arial"/>
                <a:ea typeface="楷体_GB2312"/>
              </a:rPr>
              <a:t>苍白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的士兵应道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2384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92200" y="437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85840" y="59832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40100"/>
                </a:solidFill>
                <a:latin typeface="楷体_GB2312"/>
                <a:ea typeface="楷体_GB2312"/>
              </a:rPr>
              <a:t>请你拿出笔，勾画出文中带有</a:t>
            </a:r>
            <a:r>
              <a:rPr b="1" lang="zh-CN" sz="4000" spc="-1" strike="noStrike">
                <a:solidFill>
                  <a:srgbClr val="040100"/>
                </a:solidFill>
                <a:latin typeface="Arial"/>
                <a:ea typeface="楷体_GB2312"/>
              </a:rPr>
              <a:t>“苍白、煞白、惨白”</a:t>
            </a:r>
            <a:r>
              <a:rPr b="1" lang="zh-CN" sz="3600" spc="-1" strike="noStrike">
                <a:solidFill>
                  <a:srgbClr val="040100"/>
                </a:solidFill>
                <a:latin typeface="楷体_GB2312"/>
                <a:ea typeface="楷体_GB2312"/>
              </a:rPr>
              <a:t>这三个词语的句子 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0" y="3357720"/>
            <a:ext cx="93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士兵的脸色</a:t>
            </a:r>
            <a:r>
              <a:rPr b="1" lang="zh-CN" sz="4000" spc="-1" strike="noStrike">
                <a:solidFill>
                  <a:srgbClr val="e62808"/>
                </a:solidFill>
                <a:latin typeface="Arial"/>
                <a:ea typeface="楷体_GB2312"/>
              </a:rPr>
              <a:t>煞白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：“我看到了，将军。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972440" y="465300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炮手的脸色更加</a:t>
            </a:r>
            <a:r>
              <a:rPr b="1" lang="zh-CN" sz="4800" spc="-1" strike="noStrike">
                <a:solidFill>
                  <a:srgbClr val="e62808"/>
                </a:solidFill>
                <a:latin typeface="Arial"/>
                <a:ea typeface="楷体_GB2312"/>
              </a:rPr>
              <a:t>惨白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了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2560" y="1785600"/>
            <a:ext cx="8699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请你自由读课文</a:t>
            </a:r>
            <a:r>
              <a:rPr b="1" lang="en-US" sz="44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2</a:t>
            </a:r>
            <a:r>
              <a:rPr b="1" lang="en-US" sz="4400" spc="-1" strike="noStrike">
                <a:solidFill>
                  <a:srgbClr val="040aee"/>
                </a:solidFill>
                <a:latin typeface="Arial"/>
                <a:ea typeface="楷体_GB2312"/>
              </a:rPr>
              <a:t>—</a:t>
            </a:r>
            <a:r>
              <a:rPr b="1" lang="en-US" sz="44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40aee"/>
                </a:solidFill>
                <a:latin typeface="楷体_GB2312"/>
                <a:ea typeface="楷体_GB2312"/>
              </a:rPr>
              <a:t>自然段，想想</a:t>
            </a:r>
            <a:r>
              <a:rPr b="1" lang="zh-CN" sz="4400" spc="-1" strike="noStrike">
                <a:solidFill>
                  <a:srgbClr val="e62808"/>
                </a:solidFill>
                <a:latin typeface="楷体_GB2312"/>
                <a:ea typeface="楷体_GB2312"/>
              </a:rPr>
              <a:t>炮手的神态为什么会发生这样的变化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642960"/>
            <a:ext cx="33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404"/>
                </a:solidFill>
                <a:latin typeface="宋体"/>
              </a:rPr>
              <a:t>自学提示：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1680" y="42876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炮手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将军没有回头</a:t>
            </a:r>
            <a:r>
              <a:rPr b="1" lang="en-US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高声叫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军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个脸色苍白的士兵应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38:04Z</dcterms:created>
  <dc:creator>微软用户</dc:creator>
  <dc:description/>
  <dc:language>en-US</dc:language>
  <cp:lastModifiedBy>Windows 用户</cp:lastModifiedBy>
  <dcterms:modified xsi:type="dcterms:W3CDTF">2013-04-24T11:56:51Z</dcterms:modified>
  <cp:revision>52</cp:revision>
  <dc:subject/>
  <dc:title>幻灯片 1</dc:title>
</cp:coreProperties>
</file>