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45AA-0C9A-4529-9BD2-97FD5F091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A9A3-9EED-42FD-B105-73B89D8AF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争先恐后：抢着向前，唯恐落后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奉献：恭敬地交付，呈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羡慕：看见别人有某种长处、好处或有利条件而希望自己也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7CD7-399E-4203-80B4-C31D7403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890-A0BB-4317-8294-A0CCCADA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31E1-7080-45E8-BE97-09B31CD5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BBB-79B2-4A94-812D-20F590C9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6ABE-B35C-4A47-97CB-7402B3EC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43E1-A017-40AF-B6BC-FA5EC4E2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8327-C0C4-4DFB-AC5E-AA2A61A6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9089-F69C-4316-83CC-7062A8AC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573B-09CA-4DE8-91F0-BC2179BE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CFF2-D419-4666-A88A-83ACF116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FB28-9C75-4DD8-AECD-C0B928ED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BAD-5735-4E41-BB72-34D67896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0FE6-8506-4129-9ABE-B4EB7617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04D6-DBEE-4CC3-AE75-E88D465F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09A4-2670-43F9-AA54-5DC027D8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D8AF-50C0-4CF7-82DA-A83E5E91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7038-60FA-4CD6-B89E-1512A7903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3A32-287A-4CB0-AF8D-992FACE8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632-FC8D-494F-B8F5-FC819808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0FD8-F44E-4F8D-BDA0-2E4F171E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B98D-711E-48A6-BEA3-D6A3F504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B8C-3296-4650-8650-DDA66815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4E1-8DB8-4B55-A317-764CC61A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2C4-CB28-4A81-8922-63BCA124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52DC-DFEF-4674-B172-71427E011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7640" cy="51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3840" cy="77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105F-341F-4863-BDF4-94B86C69E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ech.scol.com.cn/xwxw/20051020/20051020100437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35164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这样一位老人，一生创作了</a:t>
            </a:r>
            <a:r>
              <a:rPr b="0" lang="en-US" sz="3200" spc="-1" strike="noStrike">
                <a:solidFill>
                  <a:srgbClr val="e4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多部长篇小说，</a:t>
            </a:r>
            <a:r>
              <a:rPr b="0" lang="en-US" sz="3200" spc="-1" strike="noStrike">
                <a:solidFill>
                  <a:srgbClr val="e4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本散文游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大量的短篇小说和译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这样一位老人，著名剧作家曹禺称赞他是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文学巨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高举火把照亮人心。他是光，是热，是二十世纪的良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这样一位老人，法国前总统密特朗说：“他来了，坐在那里，哪怕不发言，也是一种威严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这样一位老人，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他把一生的爱和热情全部都奉献给了文学事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就是这样的一位老人，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，永远地离开了我们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第一段主要写了什么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家乡的孩子写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封信，给巴金爷爷怎样的感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WordArt 4"/>
          <p:cNvSpPr txBox="1"/>
          <p:nvPr/>
        </p:nvSpPr>
        <p:spPr>
          <a:xfrm>
            <a:off x="3429000" y="2914560"/>
            <a:ext cx="228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感动，感谢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读课文第二段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巴金爷爷在什么情况下提笔回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出最能表达巴金爷爷思念孩子们的情感的句子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826920" y="1413000"/>
            <a:ext cx="7417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我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多么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想看见你们天真的笑脸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多么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想听见你们歌唱般的话语。”</a:t>
            </a: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826920" y="3359160"/>
            <a:ext cx="8066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多么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， 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多么</a:t>
            </a:r>
            <a:r>
              <a:rPr b="1" lang="zh-CN" sz="3600" spc="-1" strike="noStrike" u="sng">
                <a:solidFill>
                  <a:srgbClr val="e40000"/>
                </a:solidFill>
                <a:uFillTx/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。”</a:t>
            </a: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</a:rPr>
              <a:t>说         话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选择其中的词语说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与课文一、二段的内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容有关的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663300"/>
                </a:solidFill>
                <a:latin typeface="Arial"/>
              </a:rPr>
              <a:t>温暖、千斤重、终于、见面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http://tech.scol.com.cn/newpic/200510/20051020100437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600200"/>
            <a:ext cx="2209680" cy="2141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99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799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99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799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默读课文第三四段，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思考：这部分主要写了什么内容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巴金讲述自己对人生的感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83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把我当作什么杰出人物，我只是一个普通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6"/>
          <p:cNvSpPr/>
          <p:nvPr/>
        </p:nvSpPr>
        <p:spPr>
          <a:xfrm>
            <a:off x="611280" y="1557360"/>
            <a:ext cx="79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写作不是我有才华，而是我有感情，对我的祖国和同胞有无限的</a:t>
            </a:r>
            <a:r>
              <a:rPr b="1" lang="zh-CN" sz="6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爱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用作品表达我的这种感情。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2627280" y="476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</a:rPr>
              <a:t>精读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4"/>
          <p:cNvSpPr/>
          <p:nvPr/>
        </p:nvSpPr>
        <p:spPr>
          <a:xfrm>
            <a:off x="755640" y="1989000"/>
            <a:ext cx="792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我思索，我追求，终于明白生命的意义在于奉献而不在于享受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2627280" y="476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</a:rPr>
              <a:t>精读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684360" y="1557360"/>
            <a:ext cx="795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人活着不是为了白吃干饭，我们活着就是要给我们生活其中的社会添上一点光彩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2627280" y="476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</a:rPr>
              <a:t>精读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这里的“让生命开花结果”和“自然意义的开花结果”是一样的吗？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这里的“开花是指人生放出光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是指为他人、为社会贡献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153280" cy="57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书信的格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信的内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感谢孩子们给自己带来了温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请孩子们原谅只能写信代替见面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不要把我当做什么杰出人物，我只是一个普通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出示作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不要把我当做什么杰出人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颁奖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我今年八十七岁，今天回顾过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我写作不是我有才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每天每夜热情在我的身体内燃烧起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我思索，我追求，我终于明白人生的意义在于奉献而不在于享受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幻灯：我愿意再活一次，重新学习，重新工作，让我的生命开花结果。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幻灯：人活着不是为了白吃干饭，我们活着就是要给我们生活其中的社会添上一点光彩。这个我们办得到，因为我们每个人都有更多的爱，更多的热情，更多的精力，更多的时间，比维持我们生存所需要的多得多。只有为别人花费他们，我们的生命才会开花。）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让自己的生命为别人开一次花：一次无偿地鲜血是一朵花，一句关切的话语是一朵花，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我唯一的心愿是：化作泥土，留在人们温暖的脚印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生命的意义在于奉献而不在于享受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爱惜你们可以使用的宝贵时间，好好地学习，希望在你们身上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684360" y="148428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愿意再活一次，重新学习，重新工作，让我的生命开花结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059280" y="40464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</a:rPr>
              <a:t>精读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611280" y="4149720"/>
            <a:ext cx="82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让生命开花，就是＿＿＿，而不是＿＿＿＿＿＿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1532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书信的格式包括个五部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称呼、正文、结尾、署名、日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971640" y="1341360"/>
            <a:ext cx="7129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亲爱的同学们（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称呼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谢谢你们写信我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…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。（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正文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我真诚地祝福你们。（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结尾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署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                                                                    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日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3697200" cy="1143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3e929"/>
                </a:solidFill>
                <a:latin typeface="Arial"/>
                <a:ea typeface="幼圆"/>
              </a:rPr>
              <a:t>走近巴金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13" name="Picture 3" descr="bj01"/>
          <p:cNvPicPr/>
          <p:nvPr/>
        </p:nvPicPr>
        <p:blipFill>
          <a:blip r:embed="rId1"/>
          <a:stretch/>
        </p:blipFill>
        <p:spPr>
          <a:xfrm>
            <a:off x="395280" y="1628640"/>
            <a:ext cx="3240000" cy="431964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4"/>
          <p:cNvSpPr/>
          <p:nvPr/>
        </p:nvSpPr>
        <p:spPr>
          <a:xfrm>
            <a:off x="4067280" y="333360"/>
            <a:ext cx="5076720" cy="34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巴金（</a:t>
            </a:r>
            <a:r>
              <a:rPr b="0" lang="en-US" sz="3200" spc="-1" strike="noStrike">
                <a:solidFill>
                  <a:srgbClr val="e40000"/>
                </a:solidFill>
                <a:latin typeface="Arial"/>
              </a:rPr>
              <a:t>1904-2005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e4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原名李尧棠，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笔名巴金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。四川成都人，现代文学家、翻译家、出版家。中国现代文坛世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2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公开发表第一篇文章，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续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怀念振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文，巴金一生中创作与翻译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字的作品。他的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激流三部曲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》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家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春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秋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》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cc00cc"/>
                </a:solidFill>
                <a:latin typeface="Arial"/>
              </a:rPr>
              <a:t>爱情三部曲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》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cc00cc"/>
                </a:solidFill>
                <a:latin typeface="Arial"/>
              </a:rPr>
              <a:t>雾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cc00cc"/>
                </a:solidFill>
                <a:latin typeface="Arial"/>
              </a:rPr>
              <a:t>雨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cc00cc"/>
                </a:solidFill>
                <a:latin typeface="Arial"/>
              </a:rPr>
              <a:t>电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》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寒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憩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四病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文学作品，是中国文学的丰碑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巴金晚年奉献社会的伟大之作是：五卷本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随想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13840" y="856800"/>
            <a:ext cx="8929800" cy="32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给家乡孩子的信</a:t>
            </a:r>
            <a:endParaRPr b="0" lang="en-US" sz="96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（本文的语言特点）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对面的说话，聊着家常，显得很亲切自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900000" y="3284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书信的格式：</a:t>
            </a:r>
            <a:r>
              <a:rPr b="0" lang="zh-CN" sz="5400" spc="-1" strike="noStrike">
                <a:solidFill>
                  <a:srgbClr val="0066cc"/>
                </a:solidFill>
                <a:latin typeface="Arial"/>
              </a:rPr>
              <a:t>称呼、正文、结尾、署名、日期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539640" y="1468440"/>
            <a:ext cx="8209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珍惜  羡慕  真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阴  宽广  奉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争先恐后 好不热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11280" y="477720"/>
            <a:ext cx="324000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ffe2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0000"/>
                </a:solidFill>
                <a:latin typeface="Arial"/>
                <a:ea typeface="华文行楷"/>
              </a:rPr>
              <a:t>不动笔墨不读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BD21300_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308640"/>
            <a:ext cx="223560" cy="1936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BD21300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85080" y="6308640"/>
            <a:ext cx="223920" cy="19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250920" y="693360"/>
            <a:ext cx="446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表示感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请求原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感悟人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表达祝福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是一封书信。作家巴金爷爷在信中，情真意切地表达了对家乡孩子真诚的关怀、亲切的勉励，抒发了自己要让生命开花的美好情感。教育孩子们要为社会添光彩，为别人奉献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14" descr="bj01"/>
          <p:cNvPicPr/>
          <p:nvPr/>
        </p:nvPicPr>
        <p:blipFill>
          <a:blip r:embed="rId1"/>
          <a:stretch/>
        </p:blipFill>
        <p:spPr>
          <a:xfrm>
            <a:off x="826920" y="333360"/>
            <a:ext cx="4680000" cy="619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4:20:40Z</dcterms:created>
  <dc:creator>leywas</dc:creator>
  <dc:description/>
  <dc:language>en-US</dc:language>
  <cp:lastModifiedBy>User</cp:lastModifiedBy>
  <dcterms:modified xsi:type="dcterms:W3CDTF">2014-04-07T03:20:45Z</dcterms:modified>
  <cp:revision>33</cp:revision>
  <dc:subject/>
  <dc:title>幻灯片 1</dc:title>
</cp:coreProperties>
</file>