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BF6E-B9FB-4697-B225-84FD37392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415B-F509-48FF-A85B-B6F834457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争先恐后：抢着向前，唯恐落后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奉献：恭敬地交付，呈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羡慕：看见别人有某种长处、好处或有利条件而希望自己也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F79-EC58-4B89-982A-730CFE81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043-9442-422F-A36D-1506D5F8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3B3-9C0D-4E3E-8FE1-9F8B5D0D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1B9-F8A3-45CD-83AA-FF1B3506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5954-4920-4323-B68B-784DF055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00C2-090D-4FB2-AEB6-0D35B068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A19A-2EBB-4396-87BB-5067B539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2D87-DEB3-487F-B157-2EA90ACD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7478-7D54-48EB-9DF2-3C8875FC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B93C-BADE-4F19-8B9F-0B5B442B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3C82-B8C6-4BD5-87BD-95BAB238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F12-18BD-4D5D-B5D3-173AEE8B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601C-E4B5-4532-8B89-47422D99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23ED-024E-429B-B084-47A5E69D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7510-AB28-450C-BA10-53402939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13FC-3EEB-4858-B465-603A8322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0D0D-B759-4BA4-8B00-5C4E1FD9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809-553F-4A8D-B177-40764472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987-A82C-4F48-A1CE-45191A5B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BEB-326F-4F73-81EA-C84FD214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E73-9026-431D-BCA9-EDBAB79A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0D8-A4B6-451A-8994-24F68DDA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397-999B-4453-AC06-F15C64BD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3E5-26C1-4D95-97AE-A6B0FBF1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F508-31D8-4B38-B4C1-92318DFD3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620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912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56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D323-1555-4E3B-8B5A-26647CD9A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3697200" cy="1143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3e929"/>
                </a:solidFill>
                <a:latin typeface="Arial"/>
                <a:ea typeface="幼圆"/>
              </a:rPr>
              <a:t>走近巴金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11" name="Picture 3" descr="bj01"/>
          <p:cNvPicPr/>
          <p:nvPr/>
        </p:nvPicPr>
        <p:blipFill>
          <a:blip r:embed="rId1"/>
          <a:stretch/>
        </p:blipFill>
        <p:spPr>
          <a:xfrm>
            <a:off x="0" y="1413000"/>
            <a:ext cx="4067280" cy="518472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4"/>
          <p:cNvSpPr/>
          <p:nvPr/>
        </p:nvSpPr>
        <p:spPr>
          <a:xfrm>
            <a:off x="4067280" y="333360"/>
            <a:ext cx="507672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巴金（</a:t>
            </a:r>
            <a:r>
              <a:rPr b="1" lang="en-US" sz="32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1904-2005</a:t>
            </a:r>
            <a:r>
              <a:rPr b="1" lang="zh-CN" sz="32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原名李尧棠，笔名巴金。四川成都人，现代文学家、翻译家、出版家。中国现代文坛世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6"/>
          <p:cNvSpPr/>
          <p:nvPr/>
        </p:nvSpPr>
        <p:spPr>
          <a:xfrm>
            <a:off x="611280" y="1052640"/>
            <a:ext cx="79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写作不是我有才华，而是我有感情，对我的祖国和同胞有无限的</a:t>
            </a:r>
            <a:r>
              <a:rPr b="1" lang="zh-CN" sz="6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爱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用作品表达我的这种感情。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755640" y="1989000"/>
            <a:ext cx="792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我思索，我追求，我终于明白生命的意义在于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奉献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不在于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享受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324000" y="155736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愿意再多活一次，重新学习，重新工作，让我的生命开花结果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里的“让生命开花结果”和“自然意义的开花结果”是一样的吗？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这里的“开花是指人生放出光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是指为他人、为社会贡献力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324000" y="264960"/>
            <a:ext cx="795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每个人都有更多的爱，更多的同情，更多的精力，更多的时间，比维持我们自己生存所需要的多得多。只有为别人花费了它们，我们的生命才会开花。一心为自己，一生为自己的人什么也得不到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79280" y="468360"/>
            <a:ext cx="8713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亲爱的家乡孩子们，我真羡慕你们。你们面前有无比宽广的道路，你们心里有那么多美好的食物，爱惜你们的宝贵时间，好好地学习吧。希望在你们身上 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79280" y="468360"/>
            <a:ext cx="871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5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亲爱的家乡孩子们，我真</a:t>
            </a:r>
            <a:r>
              <a:rPr b="1" lang="zh-CN" sz="60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羡慕</a:t>
            </a:r>
            <a:r>
              <a:rPr b="1" lang="zh-CN" sz="5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们。</a:t>
            </a:r>
            <a:r>
              <a:rPr b="1" lang="zh-CN" sz="5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们面前有无比宽广的道路，你们心里有那么多美好的食物，爱惜你们的宝贵时间，好好地学习吧。希望在你们身上 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79280" y="189000"/>
            <a:ext cx="89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爱的巴金爷爷，我们真感谢你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你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0" y="3400560"/>
            <a:ext cx="89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爱的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谁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我真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（们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你（们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3840" y="856800"/>
            <a:ext cx="8929800" cy="32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给家乡孩子的信</a:t>
            </a:r>
            <a:endParaRPr b="0" lang="en-US" sz="9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（本文的语言特点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对面的说话，聊着家常，显得很亲切自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684360" y="3284640"/>
            <a:ext cx="849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信的格式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称呼、正文、结尾、署名、日期</a:t>
            </a:r>
            <a:r>
              <a:rPr b="0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539640" y="1468440"/>
            <a:ext cx="820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珍惜  羡慕  真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阴  宽广  奉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争先恐后 好不热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11280" y="477720"/>
            <a:ext cx="324000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ffe2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不动笔墨不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BD21300_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308640"/>
            <a:ext cx="223560" cy="1936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BD21300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85080" y="6308640"/>
            <a:ext cx="223920" cy="19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250560" y="693360"/>
            <a:ext cx="6337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主要内容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感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原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悟人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达祝福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611280" y="213336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乡的孩子写了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封信，给巴金爷爷怎样的感觉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845028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浏览课文第二、三段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巴金爷爷拿起笔回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不回家乡看看孩子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250920" y="2457000"/>
            <a:ext cx="91440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、巴金老爷爷是怎样评价自己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用“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”勾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、巴金老爷爷是怎样看待生命的意义？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用“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”勾注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"/>
          <p:cNvSpPr/>
          <p:nvPr/>
        </p:nvSpPr>
        <p:spPr>
          <a:xfrm>
            <a:off x="250920" y="549360"/>
            <a:ext cx="420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默读第四自然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83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把我当作什么杰出人物，我只是一个普通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4:20:40Z</dcterms:created>
  <dc:creator>leywas</dc:creator>
  <dc:description/>
  <dc:language>en-US</dc:language>
  <cp:lastModifiedBy>Windows 用户</cp:lastModifiedBy>
  <dcterms:modified xsi:type="dcterms:W3CDTF">2013-04-24T11:19:43Z</dcterms:modified>
  <cp:revision>64</cp:revision>
  <dc:subject/>
  <dc:title>幻灯片 1</dc:title>
</cp:coreProperties>
</file>