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455-BA91-4DF8-88F6-BD469F10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74F-612E-4B90-92A6-C9091709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98B-FD44-4F33-BF1B-DE3B4E4A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B0C-5C8E-4E0A-BAE2-157E6AFC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E41-EFCD-434B-A4DA-8FC080F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A88-37CD-41C6-944D-9BEB4F4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8ED-D64D-470B-A551-66F08F72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332-C94A-4329-A19A-0A1537F7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71E-893E-4BFD-988A-99D2CC30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307-E4CA-41E9-A7BC-BDDC86D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620-461E-4B99-A042-980494E3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B72-5458-44BF-9437-5ADE32D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952A-949E-49D0-BFDD-F1CF32A50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ff"/>
                </a:solidFill>
                <a:latin typeface="Arial"/>
                <a:ea typeface="华文彩云"/>
              </a:rPr>
              <a:t>失踪的森林王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32280" y="4572000"/>
            <a:ext cx="60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棠外附小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838080"/>
            <a:ext cx="86868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美丽富饶的森林王国，那里鲜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季开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野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挂满枝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小猴子在树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悠来荡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梅花鹿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泉边饮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兔子在草丛间出没，鸟儿的叫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婉转动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森林王国的百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安居乐业，有的种庄稼，有的狩猎，有的织布，有的捕鱼，生活中充满了笑声和歌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90720" y="60948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任何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得乱砍树木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9480" y="1752480"/>
            <a:ext cx="80773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百姓要乱砍树木时，这条特别法令会警示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大臣要乱砍树木时，这条特别法令也会警示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甚至王子不小心踩坏了三棵小树苗时，老国王命令士兵狠狠打了他三十皮鞭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905120" y="2514600"/>
            <a:ext cx="7391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任何人不得乱砍树木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666880" y="3809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任何人不得乱砍树木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62120" y="571500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任何人不得乱砍树木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066680" y="1523880"/>
            <a:ext cx="693432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把树木全砍掉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建造新型王国！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57200" y="685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新国王下了一道命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3520" y="1295280"/>
            <a:ext cx="807696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森林是我们的保护神。我死后，你当了国王，千万牢记，不能更改特别法令，否则各种妖魔鬼怪都会来危害我们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85800" y="1295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——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" y="213372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国王建造的新型王国是怎样的一番景象呢？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勾画出相关语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33520" y="1523880"/>
            <a:ext cx="7924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厂烟囱冒出的黑烟把天空搅得混浊不堪；火车、汽车排出的废气和道路上飞舞的灰尘，使人委靡不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76320" y="304920"/>
            <a:ext cx="54864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新型王国的景象：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85_708e7a8c529c94c15a00e8b4f91d7f1c[1]"/>
          <p:cNvPicPr/>
          <p:nvPr/>
        </p:nvPicPr>
        <p:blipFill>
          <a:blip r:embed="rId1"/>
          <a:stretch/>
        </p:blipFill>
        <p:spPr>
          <a:xfrm>
            <a:off x="0" y="33480"/>
            <a:ext cx="4572000" cy="337176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76320" y="92160"/>
            <a:ext cx="45766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新型王国的景象：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Picture 3" descr="163515413[1]"/>
          <p:cNvPicPr/>
          <p:nvPr/>
        </p:nvPicPr>
        <p:blipFill>
          <a:blip r:embed="rId2"/>
          <a:stretch/>
        </p:blipFill>
        <p:spPr>
          <a:xfrm>
            <a:off x="4572000" y="-205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20100317090344_1[1]"/>
          <p:cNvPicPr/>
          <p:nvPr/>
        </p:nvPicPr>
        <p:blipFill>
          <a:blip r:embed="rId3"/>
          <a:stretch/>
        </p:blipFill>
        <p:spPr>
          <a:xfrm>
            <a:off x="25560" y="3405240"/>
            <a:ext cx="4627440" cy="3470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201004281351434232[1]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" descr=""/>
          <p:cNvPicPr/>
          <p:nvPr/>
        </p:nvPicPr>
        <p:blipFill>
          <a:blip r:embed="rId5"/>
          <a:stretch/>
        </p:blipFill>
        <p:spPr>
          <a:xfrm>
            <a:off x="1523880" y="1389240"/>
            <a:ext cx="6693120" cy="44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5800" y="1905120"/>
            <a:ext cx="8153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76320" y="304920"/>
            <a:ext cx="54864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新型王国的景象：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9" name="Picture 3" descr="01300000820304128054580829763[1]"/>
          <p:cNvPicPr/>
          <p:nvPr/>
        </p:nvPicPr>
        <p:blipFill>
          <a:blip r:embed="rId1"/>
          <a:stretch/>
        </p:blipFill>
        <p:spPr>
          <a:xfrm>
            <a:off x="-84240" y="0"/>
            <a:ext cx="938052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80880" y="1523880"/>
            <a:ext cx="8534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愉快的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接二连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发生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厂烟囱冒出的黑烟把天空搅得混浊不堪，人们开始想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原来瓦蓝瓦蓝的天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车、汽车排出的废气和道路上飞舞的灰尘，使人委靡不振，人们渴望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呼吸原来的清新空气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加怀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绿树浓荫和鸟语花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76320" y="304920"/>
            <a:ext cx="54864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新型王国的景象：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消失的森林王国"/>
          <p:cNvPicPr/>
          <p:nvPr/>
        </p:nvPicPr>
        <p:blipFill>
          <a:blip r:embed="rId1"/>
          <a:stretch/>
        </p:blipFill>
        <p:spPr>
          <a:xfrm>
            <a:off x="-22320" y="1116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0" y="228600"/>
            <a:ext cx="914400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工厂烟囱冒出的黑烟把天空搅得混浊不堪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先写现象（哪里怎么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开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想念原来瓦蓝瓦蓝的天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感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火车、汽车排出的废气和道路上飞舞的灰尘，使人委靡不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人们渴望着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呼吸原来的清新空气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更加怀念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绿树浓荫和鸟语花香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457200" y="1017720"/>
            <a:ext cx="83059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鸟语花香</a:t>
            </a: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安居乐业</a:t>
            </a: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高楼大厦</a:t>
            </a:r>
            <a:r>
              <a:rPr b="1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绿树浓荫</a:t>
            </a:r>
            <a:r>
              <a:rPr b="1" lang="en-US" sz="44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457200" y="228600"/>
            <a:ext cx="25909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5076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5400" spc="1" strike="noStrike">
              <a:ln w="5076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182520" y="3429000"/>
            <a:ext cx="858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天昏地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混浊不堪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铺天盖地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背井离乡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无影无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304920" y="167652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雨妖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人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热魔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动物们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821160" y="3511440"/>
            <a:ext cx="412776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沙鬼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妖魔鬼怪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763280" y="4572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我也能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28600" y="990720"/>
            <a:ext cx="8686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森林王国消失得无影无踪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中国不哭之童年.mp3" descr=""/>
          <p:cNvPicPr/>
          <p:nvPr/>
        </p:nvPicPr>
        <p:blipFill>
          <a:blip r:embed="rId2"/>
          <a:stretch/>
        </p:blipFill>
        <p:spPr>
          <a:xfrm>
            <a:off x="76201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消失的森林王国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4920" y="838080"/>
            <a:ext cx="8686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美丽富饶的森林王国，那里鲜花四季开放，野果挂满枝头。小猴子在树间悠来荡去，梅花鹿在泉边饮水，兔子在草丛间出没，鸟儿的叫声婉转动听。森林王国的百姓安居乐业，有的种庄稼，有的狩猎，有的织布，有的捕鱼，生活中充满了笑声和歌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4af22c82ceca26a26c8119b9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447920" y="54864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里鲜花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四季开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班得瑞山涧.mp3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45720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20091010172554[1]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0" y="57150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野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挂满枝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0711618114[1]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295280" y="56386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猴子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树间悠来荡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100902093930488[1]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057400" y="56386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梅花鹿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泉边饮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77209382356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371600" y="579132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兔子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草丛间出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252aX3202560-430T[1]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045560" y="304920"/>
            <a:ext cx="16426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鸟儿的叫声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婉转动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ndows 用户</cp:lastModifiedBy>
  <dcterms:modified xsi:type="dcterms:W3CDTF">2013-04-24T10:14:35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00</vt:lpwstr>
  </property>
  <property fmtid="{D5CDD505-2E9C-101B-9397-08002B2CF9AE}" pid="3" name="Version">
    <vt:r8>1</vt:r8>
  </property>
</Properties>
</file>