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2.jpeg" ContentType="image/jpeg"/>
  <Override PartName="/ppt/media/image3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11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5DA4-7C55-4271-BE01-B67F2270A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E3E0-A075-43B6-9223-BC54319E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578EF-F7E1-4D82-AE21-448857A3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D4C02-94A2-4832-B2BC-A815D7AA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4FD3E-C43B-428F-B900-534E483B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271A2-8CC0-4206-A629-BE8FDA66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59AC7-14AD-49C2-8C97-C050AEB9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B78257-3712-4D06-8331-2025F61F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BBC9F-F0B1-49F4-B5A7-A032345A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DA522-99D9-4E2A-92A0-B0CB7FC0E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AF037-4930-45DB-A9B3-AEF57A5D4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E7C2DD-6BAC-42D9-B62C-F71A333B7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E68B-EEF2-4800-A78C-789BD769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7F1A1-4A69-4689-A90B-25D8248E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E1F6EB-68F3-4141-9BEC-DB7A2A36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1C404-990E-40B1-A5B2-1B9FCB02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8280F8-5A6A-4C68-8951-997A2137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23B976-C097-4DB7-BE67-7D743B9A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37A1C-5A06-4067-B17B-AFD8703D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3F4F06-1AE1-4BA1-86C8-3A1BDD45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7C918-0694-4CB7-A1E5-5524A4BF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8E631C-DF09-4EEA-A460-42283EE0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72E29E-DFB9-4691-B568-2C04D956B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0E83-B118-49AE-AB85-86DD451E9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6356CA-A9A0-490A-AB7A-B8FC15295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55D10-C163-409E-8575-8A5173CF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7ABC1-0B7D-40D7-9DEE-5E05B34A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D32FB-ECB7-47A9-AF4D-EFB8FF49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2DBEC-D040-47D6-AE4F-769EC06B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F4CA1-4D6C-4569-B0DB-AE1058B2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E0904-B722-4206-9183-F6177494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2F4FA-F513-447F-908C-53EC88F8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73BF9-5829-43AD-B6EA-FCAA76C2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3ED59-D6C9-42A4-B07E-6FCAB9AC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BC15-B970-43D6-A55A-DBFA96AD5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D94FA-A9CD-4DA4-9B73-A9E85B7A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2C781-D58C-409E-AB6C-E317DDFC3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64E5E-6E58-4F9E-BD54-13CBF4BF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4A00BB-FC00-4D04-BB8D-C7CE27E5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2CD59F-1091-43A4-8F02-D5375191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0CB35-E2E2-40A6-8120-13F3FD6C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530429-5EB4-4265-A03C-27F44854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579F03-80E9-4CBF-A001-52F1C716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B8CBDC-B0D0-4D5F-AE67-0543E2FD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B9CC69-2325-43A6-B7E1-602D7CE6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F279-DAE8-4A8B-AC91-C24F50B1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E913F8-B8DD-4C1E-A094-3EB37DAB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A362B5-F961-453E-A9CE-CB575249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EB94C6-87A3-4E69-A6DD-2869DA77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1D033-8312-4315-A9CD-6AA8E234F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41F7CB-9C23-434C-A551-A8106F602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999E15-6368-4121-8F83-DF1DAC1B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2E7D57-56E8-4FC7-A048-F63E33A1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C66E67-580E-4BF7-BE31-79F18BA8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89139A-7AF8-42FC-8820-5321DDE2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E60E19-19DD-4422-8B76-874D2C02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F6E6-8CA9-429B-ABAC-079B5D55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9E94BC-CDE0-41E4-A251-112DA077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30C1B8-AA81-469D-AAB8-FD100E7B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D017B5-CC5D-4AD3-BA35-E578E505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54416B-E24E-4FB1-8786-ED3B1764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C3FF25-E3DC-4B0A-8167-6C638572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1362FB-988A-41B8-861C-247A69DAC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401AC6-76F3-4BE2-9F5B-BDB8798F2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0256-E060-42D3-968F-EB4E2728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7FCD-1A94-4EAD-A5A7-7AC042C0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98DE-D253-43EE-83A6-FCD8B006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4350-0280-43E7-9F1F-51E36F07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2C2F-6343-4B4D-B66D-B0BD0984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EC95-C63A-496A-98A8-C1C6F250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0044-7D10-46D1-B3A4-984A4D22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2394-5BD7-408F-9130-C062AE89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5C0A-C9B1-4274-809D-33C8AE7C1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1C23-8E23-40FD-846F-2A4D808B3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3DF83-366D-401B-86AD-019047908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F2E9F-86A9-4393-A9C1-1AB9FF0F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6A748-50BA-462D-BDCA-24E1DBE9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C6FA5-F2C1-441E-982D-BDCF624E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E1E58-DA9A-4BA6-8FFC-5177B342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89F7-507B-4BBC-B205-05359224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B87C8-0C59-4968-90EE-067FD5C9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C1FD2-86BA-495E-AB6C-D97A6896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148DF-19E8-4E93-A731-718BEF98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3F6EB-8707-4C88-AF5C-A1DB9A51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801DE-EB02-44D9-B247-18BDF9B6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3FB69-2A88-4C09-96DD-2F866BAD7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84AA3-744C-4978-BFC3-300A73CD4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80819-4064-4D9C-B1F4-A5CD9F9B1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95E63-051D-4FCA-B82C-75F8E8CD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04549-B497-4178-9F5B-16EF7019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B197-E61F-4E20-9BD9-57A9A1A2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826AC-EC99-4DE9-91C9-0B9722D3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484DE-67FE-4000-A8BA-3716462E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8ADFB-150C-4393-9371-8FDE5AE8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FC6F2-72A6-41FD-9721-1E26185B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3F329-DD17-4A48-9EBC-466CB1B5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279AE-7138-471F-B954-8FE120D4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F09B7-4642-4F69-815A-77F8F1DC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FD4CF-6736-46CE-B743-3E57EB509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0A4E7-3801-4AA7-B785-A7F5F31DC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E2741-3AB4-4B61-BF63-0BCFA0A53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E8F2-2389-4776-8E43-87069CD9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669D3-A71B-4E38-811E-DCFD9EA5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093E6-AC15-4C0F-9EEA-994C27B3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25DB9-1F1A-4AFF-8A05-CA84D90A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1A5B5-0DFB-4346-857E-CB3042CE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BCC4C-C455-41FB-869E-6733F505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EAC95-AF5E-4C67-BB3C-FC760747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90E15-FB47-4DF2-A94B-ED4CFC75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AD88D-5701-4A6D-BFAD-92696CBA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F7B1A-99DC-48F8-9D23-85A1E7B9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3F75A-822F-4F94-BCE4-5399D058B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E0C3-4B4F-4E97-9316-3E231412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57F02-9B04-4BA2-B92C-402AF3BCC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C7132-CF6F-40E8-B7F3-76FCB5E0F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13411-C15D-4B4A-9F13-E16AED84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9332A-92C8-40A4-9114-9B70D7D3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C5E32-0359-4571-8E7E-9176F05B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8C1C2-154F-4E5F-9E5D-23729CE5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6067A-E44E-4EBE-AE72-29C3F426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1DE11-9C37-4F6D-AC0A-963161D5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FDDF9-B78B-4B7D-8468-8C7CDBA0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4EA65-BDDC-4705-A024-3593EF85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D785-60B5-421F-B1E2-3B851951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C3BEF-064F-4BF9-904D-00240035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C5AED-176F-47D9-B126-1FBCA9CE7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57448-2A06-4DE9-A8CB-46211A796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3D1A6-3453-47F9-8CE6-EAFA1343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3A967-9C49-498F-8718-CC019871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E9EE9-FFC7-409E-BC31-C0ADBC49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72EF1-580F-4FBE-93BB-9EC118C4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8A686-E4B0-40EA-9969-E65C4235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4AB1B-C298-43EC-97DC-A7ED2F3B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57E85-9982-4EAF-B8A6-F87817B6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0010-2837-4A06-A425-6B76FDE2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2DE63-CA4B-4BD7-A476-417690B0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125C3-BCD8-4B07-AC9B-D9B94C4F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824EC-56A9-4C30-8F1D-B7BF9309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7E41C-1BAF-4068-B31C-973ECB4D2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522FD-3258-4482-A342-D70B1B232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F7B76-B1FE-4239-85EF-44AFD00E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E87F6-B67A-4964-88F5-4F1EE94F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84905-3C23-4043-8DCD-FD8E2C15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BAE69-FA9D-41CC-8C6D-0C207E38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AED01-2228-4F63-A036-11B3049A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2EFC-5186-4B89-9077-BAA254E0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A86DD-494E-429C-B50F-0EE1968A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C92E5-E30C-4D72-816A-38E3BA96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51287-5B51-4BBB-BD35-18F49CD2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9D900-F3D7-48EF-BEAF-04CC3268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158AB-B74B-48F5-9790-3F1A4133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2F58F-ED4B-4CE1-B994-BC8136762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F885D-AFFD-41DE-BEAE-AFECDBA4B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237F8-8525-48C6-B621-44C3D646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9F38E-9F51-4F81-B1C8-879C20D3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AA451-7BA2-4E3B-A3F0-368B1097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0C2F-04E8-4A67-97B4-353456A95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06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  <p:sp>
          <p:nvSpPr>
            <p:cNvPr id="407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  <p:sp>
          <p:nvSpPr>
            <p:cNvPr id="40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9EDB-E6F8-498C-8081-B7A542B46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5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  <p:sp>
          <p:nvSpPr>
            <p:cNvPr id="45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  <p:sp>
          <p:nvSpPr>
            <p:cNvPr id="45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03EB-1E58-4E46-BDE9-5838FDF90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96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  <p:sp>
          <p:nvSpPr>
            <p:cNvPr id="497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  <p:sp>
          <p:nvSpPr>
            <p:cNvPr id="49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05E3-6A29-4F25-BBC2-BB5BFCE49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54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  <p:sp>
          <p:nvSpPr>
            <p:cNvPr id="54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  <p:sp>
          <p:nvSpPr>
            <p:cNvPr id="54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</p:grp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90F6-DD30-47CE-931A-3F60FBF9F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A779-EFA0-4D73-B83F-E65AFCFAE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9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3E87-A220-4935-A357-EB0928FA2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36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  <p:sp>
          <p:nvSpPr>
            <p:cNvPr id="137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F895-6DE2-4DA9-B32D-318C407C5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8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  <p:sp>
          <p:nvSpPr>
            <p:cNvPr id="18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  <p:sp>
          <p:nvSpPr>
            <p:cNvPr id="18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FAC4-04C9-4E6F-A94A-AEDFD7C57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26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  <p:sp>
          <p:nvSpPr>
            <p:cNvPr id="227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  <p:sp>
          <p:nvSpPr>
            <p:cNvPr id="22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83A6-A869-4C1C-842A-94F2A2957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7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  <p:sp>
          <p:nvSpPr>
            <p:cNvPr id="27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  <p:sp>
          <p:nvSpPr>
            <p:cNvPr id="27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6CF0-59A2-473E-8153-81BACE765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16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  <p:sp>
          <p:nvSpPr>
            <p:cNvPr id="317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  <p:sp>
          <p:nvSpPr>
            <p:cNvPr id="318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C2A4-CAE8-42BF-A631-CA04DCFF8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6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  <p:sp>
          <p:nvSpPr>
            <p:cNvPr id="36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  <p:sp>
          <p:nvSpPr>
            <p:cNvPr id="36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88AA-23C8-4D8E-A8F3-F4C9CCCD3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0066"/>
                </a:solidFill>
                <a:latin typeface="Verdana"/>
              </a:rPr>
              <a:t>棠外附小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0066"/>
                </a:solidFill>
                <a:latin typeface="Verdana"/>
              </a:rPr>
              <a:t>         </a:t>
            </a:r>
            <a:r>
              <a:rPr b="1" lang="zh-CN" sz="2900" spc="-1" strike="noStrike">
                <a:solidFill>
                  <a:srgbClr val="ff0066"/>
                </a:solidFill>
                <a:latin typeface="Verdana"/>
              </a:rPr>
              <a:t>艮爱丽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7" name="Picture 4" descr="Forest_Summer_01_101_1024"/>
          <p:cNvPicPr/>
          <p:nvPr/>
        </p:nvPicPr>
        <p:blipFill>
          <a:blip r:embed="rId1"/>
          <a:stretch/>
        </p:blipFill>
        <p:spPr>
          <a:xfrm>
            <a:off x="-396720" y="-243000"/>
            <a:ext cx="9864720" cy="7400880"/>
          </a:xfrm>
          <a:prstGeom prst="rect">
            <a:avLst/>
          </a:prstGeom>
          <a:ln w="0">
            <a:noFill/>
          </a:ln>
        </p:spPr>
      </p:pic>
      <p:sp>
        <p:nvSpPr>
          <p:cNvPr id="588" name="Rectangle 8"/>
          <p:cNvSpPr/>
          <p:nvPr/>
        </p:nvSpPr>
        <p:spPr>
          <a:xfrm flipH="1">
            <a:off x="610560" y="2421000"/>
            <a:ext cx="770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Verdana"/>
                <a:ea typeface="楷体_GB2312"/>
              </a:rPr>
              <a:t>美丽的小兴安岭</a:t>
            </a:r>
            <a:endParaRPr b="1" lang="en-US" sz="8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89" name="Text Box 10"/>
          <p:cNvSpPr/>
          <p:nvPr/>
        </p:nvSpPr>
        <p:spPr>
          <a:xfrm>
            <a:off x="4586400" y="52293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cc00"/>
                </a:solidFill>
                <a:uFillTx/>
                <a:latin typeface="楷体_GB2312"/>
                <a:ea typeface="楷体_GB2312"/>
              </a:rPr>
              <a:t>棠外附小  </a:t>
            </a:r>
            <a:endParaRPr b="1" lang="en-US" sz="4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1068480" y="4762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北师版三年级下册第十二单元</a:t>
            </a:r>
            <a:endParaRPr b="1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p:transition spd="med" advTm="4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646" name="Picture 3" descr="91b98d63bb28f8c0e7113ad3"/>
          <p:cNvPicPr/>
          <p:nvPr/>
        </p:nvPicPr>
        <p:blipFill>
          <a:blip r:embed="rId1"/>
          <a:stretch/>
        </p:blipFill>
        <p:spPr>
          <a:xfrm>
            <a:off x="-1405080" y="-619200"/>
            <a:ext cx="10945800" cy="7912080"/>
          </a:xfrm>
          <a:prstGeom prst="rect">
            <a:avLst/>
          </a:prstGeom>
          <a:ln w="0">
            <a:noFill/>
          </a:ln>
        </p:spPr>
      </p:pic>
      <p:sp>
        <p:nvSpPr>
          <p:cNvPr id="647" name="Text Box 4"/>
          <p:cNvSpPr/>
          <p:nvPr/>
        </p:nvSpPr>
        <p:spPr>
          <a:xfrm>
            <a:off x="395280" y="1700280"/>
            <a:ext cx="849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春天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树木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抽出新的枝条，长出嫩绿的叶子。山上的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积雪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融化了，雪水汇成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溪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淙淙地流着。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鹿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溪边散步。它们有的俯下身子喝水，有的侧着脑袋，欣赏自己映在水里的影子。河里涨满了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春水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一根根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原木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顺水漂流，像一支舰队在前进。</a:t>
            </a:r>
            <a:endParaRPr b="1" lang="en-US" sz="4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48" name="AutoShape 6"/>
          <p:cNvSpPr/>
          <p:nvPr/>
        </p:nvSpPr>
        <p:spPr>
          <a:xfrm>
            <a:off x="4284720" y="6400800"/>
            <a:ext cx="647640" cy="457200"/>
          </a:xfrm>
          <a:prstGeom prst="pi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49" name="AutoShape 7"/>
          <p:cNvSpPr/>
          <p:nvPr/>
        </p:nvSpPr>
        <p:spPr>
          <a:xfrm>
            <a:off x="2987640" y="6400800"/>
            <a:ext cx="647640" cy="457200"/>
          </a:xfrm>
          <a:prstGeom prst="pi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50" name="AutoShape 8"/>
          <p:cNvSpPr/>
          <p:nvPr/>
        </p:nvSpPr>
        <p:spPr>
          <a:xfrm>
            <a:off x="1908000" y="6400800"/>
            <a:ext cx="576360" cy="457200"/>
          </a:xfrm>
          <a:prstGeom prst="pi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51" name="AutoShape 9"/>
          <p:cNvSpPr/>
          <p:nvPr/>
        </p:nvSpPr>
        <p:spPr>
          <a:xfrm>
            <a:off x="826920" y="6400800"/>
            <a:ext cx="649440" cy="457200"/>
          </a:xfrm>
          <a:prstGeom prst="pi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52" name="AutoShape 10"/>
          <p:cNvSpPr/>
          <p:nvPr/>
        </p:nvSpPr>
        <p:spPr>
          <a:xfrm>
            <a:off x="8101080" y="6400800"/>
            <a:ext cx="792000" cy="45720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654" name="Picture 3" descr="36"/>
          <p:cNvPicPr/>
          <p:nvPr/>
        </p:nvPicPr>
        <p:blipFill>
          <a:blip r:embed="rId1"/>
          <a:stretch/>
        </p:blipFill>
        <p:spPr>
          <a:xfrm>
            <a:off x="-1260360" y="-531720"/>
            <a:ext cx="10728360" cy="738972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4"/>
          <p:cNvSpPr/>
          <p:nvPr/>
        </p:nvSpPr>
        <p:spPr>
          <a:xfrm>
            <a:off x="250920" y="1413000"/>
            <a:ext cx="8424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0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春天，树木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抽出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新的枝条，长出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嫩绿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叶子。</a:t>
            </a:r>
            <a:endParaRPr b="1" lang="en-US" sz="4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657" name="Picture 4" descr="91b98d63bb28f8c0e7113ad3"/>
          <p:cNvPicPr/>
          <p:nvPr/>
        </p:nvPicPr>
        <p:blipFill>
          <a:blip r:embed="rId1"/>
          <a:stretch/>
        </p:blipFill>
        <p:spPr>
          <a:xfrm>
            <a:off x="-1585800" y="-387360"/>
            <a:ext cx="10729800" cy="7913520"/>
          </a:xfrm>
          <a:prstGeom prst="rect">
            <a:avLst/>
          </a:prstGeom>
          <a:ln w="0">
            <a:noFill/>
          </a:ln>
        </p:spPr>
      </p:pic>
      <p:sp>
        <p:nvSpPr>
          <p:cNvPr id="658" name="Text Box 7"/>
          <p:cNvSpPr/>
          <p:nvPr/>
        </p:nvSpPr>
        <p:spPr>
          <a:xfrm>
            <a:off x="0" y="2852640"/>
            <a:ext cx="813744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山上的积雪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融化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了，雪水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汇成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溪，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淙淙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地流着。</a:t>
            </a:r>
            <a:endParaRPr b="1" lang="en-US" sz="4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660" name="Picture 4" descr="91b98d63bb28f8c0e7113ad3"/>
          <p:cNvPicPr/>
          <p:nvPr/>
        </p:nvPicPr>
        <p:blipFill>
          <a:blip r:embed="rId1"/>
          <a:stretch/>
        </p:blipFill>
        <p:spPr>
          <a:xfrm>
            <a:off x="-1585800" y="-387360"/>
            <a:ext cx="10729800" cy="791352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7"/>
          <p:cNvSpPr/>
          <p:nvPr/>
        </p:nvSpPr>
        <p:spPr>
          <a:xfrm>
            <a:off x="324000" y="1700280"/>
            <a:ext cx="813744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Verdana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ff"/>
                </a:solidFill>
                <a:latin typeface="Verdana"/>
                <a:ea typeface="楷体_GB2312"/>
              </a:rPr>
              <a:t>小鹿在溪边散步。它们有的</a:t>
            </a: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楷体_GB2312"/>
              </a:rPr>
              <a:t>俯下</a:t>
            </a:r>
            <a:r>
              <a:rPr b="1" lang="zh-CN" sz="4800" spc="-1" strike="noStrike">
                <a:solidFill>
                  <a:srgbClr val="0000ff"/>
                </a:solidFill>
                <a:latin typeface="Verdana"/>
                <a:ea typeface="楷体_GB2312"/>
              </a:rPr>
              <a:t>身子喝水，有的</a:t>
            </a: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楷体_GB2312"/>
              </a:rPr>
              <a:t>侧着</a:t>
            </a:r>
            <a:r>
              <a:rPr b="1" lang="zh-CN" sz="4800" spc="-1" strike="noStrike">
                <a:solidFill>
                  <a:srgbClr val="0000ff"/>
                </a:solidFill>
                <a:latin typeface="Verdana"/>
                <a:ea typeface="楷体_GB2312"/>
              </a:rPr>
              <a:t>脑袋，</a:t>
            </a: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楷体_GB2312"/>
              </a:rPr>
              <a:t>欣赏</a:t>
            </a:r>
            <a:r>
              <a:rPr b="1" lang="zh-CN" sz="4800" spc="-1" strike="noStrike">
                <a:solidFill>
                  <a:srgbClr val="0000ff"/>
                </a:solidFill>
                <a:latin typeface="Verdana"/>
                <a:ea typeface="楷体_GB2312"/>
              </a:rPr>
              <a:t>自己映在水里的影子。</a:t>
            </a:r>
            <a:endParaRPr b="1" lang="en-US" sz="4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62" name="AutoShape 5"/>
          <p:cNvSpPr/>
          <p:nvPr/>
        </p:nvSpPr>
        <p:spPr>
          <a:xfrm>
            <a:off x="-1260360" y="0"/>
            <a:ext cx="1047600" cy="360360"/>
          </a:xfrm>
          <a:prstGeom prst="pi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664" name="Picture 4" descr="91b98d63bb28f8c0e7113ad3"/>
          <p:cNvPicPr/>
          <p:nvPr/>
        </p:nvPicPr>
        <p:blipFill>
          <a:blip r:embed="rId1"/>
          <a:stretch/>
        </p:blipFill>
        <p:spPr>
          <a:xfrm>
            <a:off x="-1585800" y="-387360"/>
            <a:ext cx="10729800" cy="791352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7"/>
          <p:cNvSpPr/>
          <p:nvPr/>
        </p:nvSpPr>
        <p:spPr>
          <a:xfrm>
            <a:off x="-216000" y="2349360"/>
            <a:ext cx="936000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Verdana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ff"/>
                </a:solidFill>
                <a:latin typeface="Verdana"/>
                <a:ea typeface="楷体_GB2312"/>
              </a:rPr>
              <a:t>小鹿有的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Verdana"/>
                <a:ea typeface="楷体_GB2312"/>
              </a:rPr>
              <a:t>                      </a:t>
            </a:r>
            <a:r>
              <a:rPr b="1" lang="zh-CN" sz="4800" spc="-1" strike="noStrike">
                <a:solidFill>
                  <a:srgbClr val="0000ff"/>
                </a:solidFill>
                <a:latin typeface="Verdana"/>
                <a:ea typeface="楷体_GB2312"/>
              </a:rPr>
              <a:t>，有的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Verdana"/>
                <a:ea typeface="楷体_GB2312"/>
              </a:rPr>
              <a:t>                                  </a:t>
            </a:r>
            <a:r>
              <a:rPr b="1" lang="zh-CN" sz="4800" spc="-1" strike="noStrike">
                <a:solidFill>
                  <a:srgbClr val="0000ff"/>
                </a:solidFill>
                <a:latin typeface="Verdana"/>
                <a:ea typeface="楷体_GB2312"/>
              </a:rPr>
              <a:t>。</a:t>
            </a:r>
            <a:endParaRPr b="1" lang="en-US" sz="4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667" name="Picture 3" descr="91b98d63bb28f8c0e7113ad3"/>
          <p:cNvPicPr/>
          <p:nvPr/>
        </p:nvPicPr>
        <p:blipFill>
          <a:blip r:embed="rId1"/>
          <a:stretch/>
        </p:blipFill>
        <p:spPr>
          <a:xfrm>
            <a:off x="-1405080" y="-603360"/>
            <a:ext cx="10730160" cy="7913880"/>
          </a:xfrm>
          <a:prstGeom prst="rect">
            <a:avLst/>
          </a:prstGeom>
          <a:ln w="0">
            <a:noFill/>
          </a:ln>
        </p:spPr>
      </p:pic>
      <p:sp>
        <p:nvSpPr>
          <p:cNvPr id="668" name="Text Box 4"/>
          <p:cNvSpPr/>
          <p:nvPr/>
        </p:nvSpPr>
        <p:spPr>
          <a:xfrm>
            <a:off x="324000" y="2565360"/>
            <a:ext cx="8137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河里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涨满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了春水。一根根原木顺水漂流，像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支舰队在前进。</a:t>
            </a:r>
            <a:endParaRPr b="1" lang="en-US" sz="4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670" name="Picture 3" descr="91b98d63bb28f8c0e7113ad3"/>
          <p:cNvPicPr/>
          <p:nvPr/>
        </p:nvPicPr>
        <p:blipFill>
          <a:blip r:embed="rId1"/>
          <a:stretch/>
        </p:blipFill>
        <p:spPr>
          <a:xfrm>
            <a:off x="-1405080" y="-619200"/>
            <a:ext cx="10945800" cy="791208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4"/>
          <p:cNvSpPr/>
          <p:nvPr/>
        </p:nvSpPr>
        <p:spPr>
          <a:xfrm>
            <a:off x="250920" y="3429000"/>
            <a:ext cx="100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春天，树木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长出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山上的积雪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雪水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淙淙地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鹿在溪边散步。它们有的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有的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    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欣赏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河里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一根根原木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像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673" name="Picture 3" descr="a179765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674" name="迷雾森林.mp3" descr=""/>
          <p:cNvPicPr/>
          <p:nvPr/>
        </p:nvPicPr>
        <p:blipFill>
          <a:blip r:embed="rId2"/>
          <a:stretch/>
        </p:blipFill>
        <p:spPr>
          <a:xfrm>
            <a:off x="817236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6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676" name="Picture 3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9" name="Picture 4" descr="雪5"/>
          <p:cNvPicPr/>
          <p:nvPr/>
        </p:nvPicPr>
        <p:blipFill>
          <a:blip r:embed="rId1"/>
          <a:srcRect l="4447" t="3811" r="4863" b="4507"/>
          <a:stretch/>
        </p:blipFill>
        <p:spPr>
          <a:xfrm>
            <a:off x="0" y="0"/>
            <a:ext cx="9144000" cy="6907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2" name="Picture 4" descr="1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5"/>
          <p:cNvSpPr/>
          <p:nvPr/>
        </p:nvSpPr>
        <p:spPr>
          <a:xfrm>
            <a:off x="2454120" y="1700280"/>
            <a:ext cx="49993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汇</a:t>
            </a:r>
            <a:r>
              <a:rPr b="1" lang="en-US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hu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ì</a:t>
            </a:r>
            <a:r>
              <a:rPr b="1" lang="en-US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    </a:t>
            </a:r>
            <a:endParaRPr b="1" lang="en-US" sz="5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涨</a:t>
            </a:r>
            <a:r>
              <a:rPr b="1" lang="en-US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zhǎng)   </a:t>
            </a:r>
            <a:endParaRPr b="1" lang="en-US" sz="5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浸</a:t>
            </a:r>
            <a:r>
              <a:rPr b="1" lang="en-US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j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ì</a:t>
            </a:r>
            <a:r>
              <a:rPr b="1" lang="en-US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n) </a:t>
            </a:r>
            <a:endParaRPr b="1" lang="en-US" sz="5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681" name="Picture 3" descr="52aa9e2e79a407221e3089f9"/>
          <p:cNvPicPr/>
          <p:nvPr/>
        </p:nvPicPr>
        <p:blipFill>
          <a:blip r:embed="rId1"/>
          <a:stretch/>
        </p:blipFill>
        <p:spPr>
          <a:xfrm>
            <a:off x="-1405080" y="-620640"/>
            <a:ext cx="10801440" cy="8102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2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684" name="Picture 3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686" name="Picture 3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9" name="Picture 4" descr="2008103114253567217"/>
          <p:cNvPicPr/>
          <p:nvPr/>
        </p:nvPicPr>
        <p:blipFill>
          <a:blip r:embed="rId1"/>
          <a:stretch/>
        </p:blipFill>
        <p:spPr>
          <a:xfrm>
            <a:off x="-396720" y="-316080"/>
            <a:ext cx="9864720" cy="7848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2" name="Picture 4" descr="Forest_Summer_01_101_1024"/>
          <p:cNvPicPr/>
          <p:nvPr/>
        </p:nvPicPr>
        <p:blipFill>
          <a:blip r:embed="rId1"/>
          <a:stretch/>
        </p:blipFill>
        <p:spPr>
          <a:xfrm>
            <a:off x="-324000" y="-298440"/>
            <a:ext cx="9864720" cy="7400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694" name="Picture 3" descr="eb840fb242ea6dbdd8335ad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7" name="Picture 4" descr="v237462"/>
          <p:cNvPicPr/>
          <p:nvPr/>
        </p:nvPicPr>
        <p:blipFill>
          <a:blip r:embed="rId1"/>
          <a:stretch/>
        </p:blipFill>
        <p:spPr>
          <a:xfrm>
            <a:off x="-468360" y="-351000"/>
            <a:ext cx="9936360" cy="7209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699" name="Picture 3" descr="eb840fb242ea6dbdd8335ad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1" name="Picture 3" descr="1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2" name="Text Box 4"/>
          <p:cNvSpPr/>
          <p:nvPr/>
        </p:nvSpPr>
        <p:spPr>
          <a:xfrm>
            <a:off x="250920" y="242100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Verdana"/>
                <a:ea typeface="楷体_GB2312"/>
              </a:rPr>
              <a:t>      </a:t>
            </a:r>
            <a:endParaRPr b="1" lang="en-US" sz="3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703" name="Picture 5" descr="淘气"/>
          <p:cNvPicPr/>
          <p:nvPr/>
        </p:nvPicPr>
        <p:blipFill>
          <a:blip r:embed="rId2"/>
          <a:stretch/>
        </p:blipFill>
        <p:spPr>
          <a:xfrm>
            <a:off x="468360" y="1052640"/>
            <a:ext cx="1487520" cy="1670040"/>
          </a:xfrm>
          <a:prstGeom prst="rect">
            <a:avLst/>
          </a:prstGeom>
          <a:ln w="0">
            <a:noFill/>
          </a:ln>
        </p:spPr>
      </p:pic>
      <p:grpSp>
        <p:nvGrpSpPr>
          <p:cNvPr id="704" name="Group 6"/>
          <p:cNvGrpSpPr/>
          <p:nvPr/>
        </p:nvGrpSpPr>
        <p:grpSpPr>
          <a:xfrm>
            <a:off x="2195640" y="189000"/>
            <a:ext cx="6624000" cy="1267920"/>
            <a:chOff x="2195640" y="189000"/>
            <a:chExt cx="6624000" cy="1267920"/>
          </a:xfrm>
        </p:grpSpPr>
        <p:sp>
          <p:nvSpPr>
            <p:cNvPr id="705" name="Text Box 7"/>
            <p:cNvSpPr/>
            <p:nvPr/>
          </p:nvSpPr>
          <p:spPr>
            <a:xfrm>
              <a:off x="2601720" y="408600"/>
              <a:ext cx="621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习作小提示：</a:t>
              </a:r>
              <a:endParaRPr b="1" lang="en-US" sz="36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  <p:sp>
          <p:nvSpPr>
            <p:cNvPr id="706" name="AutoShape 8"/>
            <p:cNvSpPr/>
            <p:nvPr/>
          </p:nvSpPr>
          <p:spPr>
            <a:xfrm>
              <a:off x="2195640" y="189000"/>
              <a:ext cx="3673080" cy="1267920"/>
            </a:xfrm>
            <a:prstGeom prst="cloudCallout">
              <a:avLst>
                <a:gd name="adj1" fmla="val -51893"/>
                <a:gd name="adj2" fmla="val 72143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</p:grpSp>
      <p:sp>
        <p:nvSpPr>
          <p:cNvPr id="707" name="Text Box 9"/>
          <p:cNvSpPr/>
          <p:nvPr/>
        </p:nvSpPr>
        <p:spPr>
          <a:xfrm>
            <a:off x="755640" y="1916280"/>
            <a:ext cx="799308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走进春天的小兴安岭，你还会看到什么美景？什么动物呢？放飞你的想象，写一写吧！</a:t>
            </a:r>
            <a:endParaRPr b="1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抓住春天景物特点，按一定顺序写清楚，恰当运用拟人、比喻等加两颗星。</a:t>
            </a:r>
            <a:endParaRPr b="1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看一看题单，写一写，尽量用上文中的一些词语吧！</a:t>
            </a:r>
            <a:endParaRPr b="1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小兴安岭的春天是（        ）。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Verdana"/>
              </a:rPr>
              <a:t>                                                         </a:t>
            </a:r>
            <a:endParaRPr b="1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Verdana"/>
              </a:rPr>
              <a:t>                                                                                                      </a:t>
            </a:r>
            <a:endParaRPr b="1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Verdana"/>
              </a:rPr>
              <a:t>                                                                                                                                    </a:t>
            </a:r>
            <a:endParaRPr b="1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708" name="Line 12"/>
          <p:cNvSpPr/>
          <p:nvPr/>
        </p:nvSpPr>
        <p:spPr>
          <a:xfrm>
            <a:off x="4932360" y="458136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709" name="Line 13"/>
          <p:cNvSpPr/>
          <p:nvPr/>
        </p:nvSpPr>
        <p:spPr>
          <a:xfrm flipV="1">
            <a:off x="1187280" y="5300280"/>
            <a:ext cx="6480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710" name="Line 15"/>
          <p:cNvSpPr/>
          <p:nvPr/>
        </p:nvSpPr>
        <p:spPr>
          <a:xfrm flipV="1">
            <a:off x="1476360" y="6308280"/>
            <a:ext cx="619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711" name="Line 17"/>
          <p:cNvSpPr/>
          <p:nvPr/>
        </p:nvSpPr>
        <p:spPr>
          <a:xfrm flipV="1">
            <a:off x="1187280" y="5805000"/>
            <a:ext cx="6480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p:transition spd="med"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5" name="Picture 3" descr="1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4"/>
          <p:cNvSpPr/>
          <p:nvPr/>
        </p:nvSpPr>
        <p:spPr>
          <a:xfrm>
            <a:off x="2354400" y="1773360"/>
            <a:ext cx="57128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膝盖  诱人  苍翠 </a:t>
            </a:r>
            <a:endParaRPr b="1" lang="en-US" sz="66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盛开  名贵  欣赏</a:t>
            </a:r>
            <a:endParaRPr b="1" lang="en-US" sz="6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3" name="Picture 3" descr="1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4" name="TextBox 6"/>
          <p:cNvSpPr/>
          <p:nvPr/>
        </p:nvSpPr>
        <p:spPr>
          <a:xfrm>
            <a:off x="928800" y="2786040"/>
            <a:ext cx="709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i="1" lang="zh-CN" sz="6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谢谢大家！再见！</a:t>
            </a:r>
            <a:endParaRPr b="1" lang="en-US" sz="6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6" name="Picture 3" descr="1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8" name="Picture 3" descr="1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9" name="组合 11"/>
          <p:cNvGrpSpPr/>
          <p:nvPr/>
        </p:nvGrpSpPr>
        <p:grpSpPr>
          <a:xfrm>
            <a:off x="2071080" y="2000160"/>
            <a:ext cx="2215080" cy="2071800"/>
            <a:chOff x="2071080" y="2000160"/>
            <a:chExt cx="2215080" cy="2071800"/>
          </a:xfrm>
        </p:grpSpPr>
        <p:sp>
          <p:nvSpPr>
            <p:cNvPr id="600" name="矩形 6"/>
            <p:cNvSpPr/>
            <p:nvPr/>
          </p:nvSpPr>
          <p:spPr>
            <a:xfrm>
              <a:off x="2071800" y="2000160"/>
              <a:ext cx="2214360" cy="2070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  <p:sp>
          <p:nvSpPr>
            <p:cNvPr id="601" name="直接连接符 8"/>
            <p:cNvSpPr/>
            <p:nvPr/>
          </p:nvSpPr>
          <p:spPr>
            <a:xfrm flipV="1">
              <a:off x="2071080" y="3035160"/>
              <a:ext cx="2214360" cy="28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1" lang="en-US" sz="18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  <p:sp>
          <p:nvSpPr>
            <p:cNvPr id="602" name="直接连接符 10"/>
            <p:cNvSpPr/>
            <p:nvPr/>
          </p:nvSpPr>
          <p:spPr>
            <a:xfrm>
              <a:off x="3178080" y="2001600"/>
              <a:ext cx="1440" cy="207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</p:grpSp>
      <p:sp>
        <p:nvSpPr>
          <p:cNvPr id="603" name="TextBox 21"/>
          <p:cNvSpPr/>
          <p:nvPr/>
        </p:nvSpPr>
        <p:spPr>
          <a:xfrm>
            <a:off x="2214720" y="1785960"/>
            <a:ext cx="1785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欣</a:t>
            </a:r>
            <a:endParaRPr b="1" lang="en-US" sz="15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grpSp>
        <p:nvGrpSpPr>
          <p:cNvPr id="604" name="组合 22"/>
          <p:cNvGrpSpPr/>
          <p:nvPr/>
        </p:nvGrpSpPr>
        <p:grpSpPr>
          <a:xfrm>
            <a:off x="4286160" y="2000160"/>
            <a:ext cx="2214720" cy="2071800"/>
            <a:chOff x="4286160" y="2000160"/>
            <a:chExt cx="2214720" cy="2071800"/>
          </a:xfrm>
        </p:grpSpPr>
        <p:sp>
          <p:nvSpPr>
            <p:cNvPr id="605" name="矩形 23"/>
            <p:cNvSpPr/>
            <p:nvPr/>
          </p:nvSpPr>
          <p:spPr>
            <a:xfrm>
              <a:off x="4286160" y="2000160"/>
              <a:ext cx="2214720" cy="2070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  <p:sp>
          <p:nvSpPr>
            <p:cNvPr id="606" name="直接连接符 24"/>
            <p:cNvSpPr/>
            <p:nvPr/>
          </p:nvSpPr>
          <p:spPr>
            <a:xfrm flipV="1">
              <a:off x="4286160" y="3035160"/>
              <a:ext cx="2214720" cy="28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1" lang="en-US" sz="18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  <p:sp>
          <p:nvSpPr>
            <p:cNvPr id="607" name="直接连接符 25"/>
            <p:cNvSpPr/>
            <p:nvPr/>
          </p:nvSpPr>
          <p:spPr>
            <a:xfrm>
              <a:off x="5392800" y="2001600"/>
              <a:ext cx="1440" cy="207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</p:grpSp>
      <p:sp>
        <p:nvSpPr>
          <p:cNvPr id="608" name="TextBox 26"/>
          <p:cNvSpPr/>
          <p:nvPr/>
        </p:nvSpPr>
        <p:spPr>
          <a:xfrm>
            <a:off x="4471920" y="1800360"/>
            <a:ext cx="17859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赏</a:t>
            </a:r>
            <a:endParaRPr b="1" lang="en-US" sz="135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0" name="Picture 3" descr="1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4"/>
          <p:cNvSpPr/>
          <p:nvPr/>
        </p:nvSpPr>
        <p:spPr>
          <a:xfrm>
            <a:off x="2967120" y="2570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12" name="Text Box 5"/>
          <p:cNvSpPr/>
          <p:nvPr/>
        </p:nvSpPr>
        <p:spPr>
          <a:xfrm>
            <a:off x="0" y="1268280"/>
            <a:ext cx="9182160" cy="48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楷体_GB2312"/>
              </a:rPr>
              <a:t>                  </a:t>
            </a:r>
            <a:r>
              <a:rPr b="1" lang="zh-CN" sz="6000" spc="-1" strike="noStrike">
                <a:solidFill>
                  <a:srgbClr val="ff0000"/>
                </a:solidFill>
                <a:latin typeface="Verdana"/>
                <a:ea typeface="楷体_GB2312"/>
              </a:rPr>
              <a:t>葱葱茏茏</a:t>
            </a:r>
            <a:r>
              <a:rPr b="1" lang="zh-CN" sz="6000" spc="-1" strike="noStrike">
                <a:solidFill>
                  <a:srgbClr val="0000ff"/>
                </a:solidFill>
                <a:latin typeface="Verdana"/>
                <a:ea typeface="楷体_GB2312"/>
              </a:rPr>
              <a:t>   </a:t>
            </a:r>
            <a:endParaRPr b="1" lang="en-US" sz="6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lnSpc>
                <a:spcPct val="1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Verdana"/>
                <a:ea typeface="楷体_GB2312"/>
              </a:rPr>
              <a:t>           </a:t>
            </a:r>
            <a:r>
              <a:rPr b="1" lang="zh-CN" sz="6000" spc="-1" strike="noStrike">
                <a:solidFill>
                  <a:srgbClr val="ff0000"/>
                </a:solidFill>
                <a:latin typeface="Verdana"/>
                <a:ea typeface="楷体_GB2312"/>
              </a:rPr>
              <a:t>密密层层   </a:t>
            </a:r>
            <a:endParaRPr b="1" lang="en-US" sz="6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lnSpc>
                <a:spcPct val="1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Verdana"/>
                <a:ea typeface="楷体_GB2312"/>
              </a:rPr>
              <a:t>           </a:t>
            </a:r>
            <a:r>
              <a:rPr b="1" lang="zh-CN" sz="6000" spc="-1" strike="noStrike">
                <a:solidFill>
                  <a:srgbClr val="ff0000"/>
                </a:solidFill>
                <a:latin typeface="Verdana"/>
                <a:ea typeface="楷体_GB2312"/>
              </a:rPr>
              <a:t>严严实实</a:t>
            </a:r>
            <a:endParaRPr b="1" lang="en-US" sz="6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13" name="Text Box 7"/>
          <p:cNvSpPr/>
          <p:nvPr/>
        </p:nvSpPr>
        <p:spPr>
          <a:xfrm>
            <a:off x="4537440" y="982800"/>
            <a:ext cx="11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lóng</a:t>
            </a:r>
            <a:endParaRPr b="1" lang="en-US" sz="3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615" name="Picture 3" descr="91b98d63bb28f8c0e7113ad3"/>
          <p:cNvPicPr/>
          <p:nvPr/>
        </p:nvPicPr>
        <p:blipFill>
          <a:blip r:embed="rId1"/>
          <a:stretch/>
        </p:blipFill>
        <p:spPr>
          <a:xfrm>
            <a:off x="-1116000" y="-243000"/>
            <a:ext cx="10549080" cy="74613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4" descr="淘气"/>
          <p:cNvPicPr/>
          <p:nvPr/>
        </p:nvPicPr>
        <p:blipFill>
          <a:blip r:embed="rId2"/>
          <a:stretch/>
        </p:blipFill>
        <p:spPr>
          <a:xfrm>
            <a:off x="179280" y="1484280"/>
            <a:ext cx="1487520" cy="1670040"/>
          </a:xfrm>
          <a:prstGeom prst="rect">
            <a:avLst/>
          </a:prstGeom>
          <a:ln w="0">
            <a:noFill/>
          </a:ln>
        </p:spPr>
      </p:pic>
      <p:grpSp>
        <p:nvGrpSpPr>
          <p:cNvPr id="617" name="Group 5"/>
          <p:cNvGrpSpPr/>
          <p:nvPr/>
        </p:nvGrpSpPr>
        <p:grpSpPr>
          <a:xfrm>
            <a:off x="2050920" y="333360"/>
            <a:ext cx="6624360" cy="1267920"/>
            <a:chOff x="2050920" y="333360"/>
            <a:chExt cx="6624360" cy="1267920"/>
          </a:xfrm>
        </p:grpSpPr>
        <p:sp>
          <p:nvSpPr>
            <p:cNvPr id="618" name="Text Box 6"/>
            <p:cNvSpPr/>
            <p:nvPr/>
          </p:nvSpPr>
          <p:spPr>
            <a:xfrm>
              <a:off x="2457000" y="552960"/>
              <a:ext cx="6218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Arial"/>
                </a:rPr>
                <a:t>自 学 提 示</a:t>
              </a:r>
              <a:r>
                <a:rPr b="1" lang="en-US" sz="4000" spc="-1" strike="noStrike">
                  <a:solidFill>
                    <a:srgbClr val="ff3300"/>
                  </a:solidFill>
                  <a:latin typeface="Arial"/>
                </a:rPr>
                <a:t>:</a:t>
              </a:r>
              <a:endParaRPr b="1" lang="en-US" sz="40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  <p:sp>
          <p:nvSpPr>
            <p:cNvPr id="619" name="AutoShape 7"/>
            <p:cNvSpPr/>
            <p:nvPr/>
          </p:nvSpPr>
          <p:spPr>
            <a:xfrm>
              <a:off x="2050920" y="333360"/>
              <a:ext cx="3673440" cy="1267920"/>
            </a:xfrm>
            <a:prstGeom prst="cloudCallout">
              <a:avLst>
                <a:gd name="adj1" fmla="val -51893"/>
                <a:gd name="adj2" fmla="val 72143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</p:grpSp>
      <p:sp>
        <p:nvSpPr>
          <p:cNvPr id="620" name="Text Box 8"/>
          <p:cNvSpPr/>
          <p:nvPr/>
        </p:nvSpPr>
        <p:spPr>
          <a:xfrm>
            <a:off x="250920" y="3716280"/>
            <a:ext cx="763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21" name="Text Box 9"/>
          <p:cNvSpPr/>
          <p:nvPr/>
        </p:nvSpPr>
        <p:spPr>
          <a:xfrm>
            <a:off x="250920" y="335772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  </a:t>
            </a:r>
            <a:endParaRPr b="1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22" name="Text Box 10"/>
          <p:cNvSpPr/>
          <p:nvPr/>
        </p:nvSpPr>
        <p:spPr>
          <a:xfrm>
            <a:off x="468360" y="501336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23" name="Text Box 11"/>
          <p:cNvSpPr/>
          <p:nvPr/>
        </p:nvSpPr>
        <p:spPr>
          <a:xfrm>
            <a:off x="250920" y="5013360"/>
            <a:ext cx="860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24" name="Text Box 12"/>
          <p:cNvSpPr/>
          <p:nvPr/>
        </p:nvSpPr>
        <p:spPr>
          <a:xfrm>
            <a:off x="755640" y="270828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25" name="Text Box 13"/>
          <p:cNvSpPr/>
          <p:nvPr/>
        </p:nvSpPr>
        <p:spPr>
          <a:xfrm>
            <a:off x="0" y="3357720"/>
            <a:ext cx="8786880" cy="25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自己喜欢的方式读读第</a:t>
            </a:r>
            <a:r>
              <a:rPr b="1" lang="en-US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自然段</a:t>
            </a:r>
            <a:r>
              <a:rPr b="1" lang="en-US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读完用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△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划出作者所描写的景物。</a:t>
            </a:r>
            <a:br>
              <a:rPr sz="4800"/>
            </a:br>
            <a:endParaRPr b="1" lang="en-US" sz="4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p:transition spd="med">
    <p:random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627" name="Picture 3" descr="91b98d63bb28f8c0e7113ad3"/>
          <p:cNvPicPr/>
          <p:nvPr/>
        </p:nvPicPr>
        <p:blipFill>
          <a:blip r:embed="rId1"/>
          <a:stretch/>
        </p:blipFill>
        <p:spPr>
          <a:xfrm>
            <a:off x="-1405080" y="-619200"/>
            <a:ext cx="10945800" cy="7912080"/>
          </a:xfrm>
          <a:prstGeom prst="rect">
            <a:avLst/>
          </a:prstGeom>
          <a:ln w="0">
            <a:noFill/>
          </a:ln>
        </p:spPr>
      </p:pic>
      <p:sp>
        <p:nvSpPr>
          <p:cNvPr id="628" name="Text Box 4"/>
          <p:cNvSpPr/>
          <p:nvPr/>
        </p:nvSpPr>
        <p:spPr>
          <a:xfrm>
            <a:off x="395280" y="170028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春天，树木抽出新的枝条，长出嫩绿的叶子。山上的积雪融化了，雪水汇成小溪，淙淙地流着。小鹿在溪边散步。它们有的俯下身子喝水，有的侧着脑袋，欣赏自己映在水里的影子。河里涨满了春水。一根根原木顺水漂流，像一支舰队在前进。</a:t>
            </a:r>
            <a:endParaRPr b="1" lang="en-US" sz="4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630" name="Picture 3" descr="91b98d63bb28f8c0e7113ad3"/>
          <p:cNvPicPr/>
          <p:nvPr/>
        </p:nvPicPr>
        <p:blipFill>
          <a:blip r:embed="rId1"/>
          <a:stretch/>
        </p:blipFill>
        <p:spPr>
          <a:xfrm>
            <a:off x="-1405080" y="-619200"/>
            <a:ext cx="10945800" cy="791208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4"/>
          <p:cNvSpPr/>
          <p:nvPr/>
        </p:nvSpPr>
        <p:spPr>
          <a:xfrm>
            <a:off x="395280" y="1700280"/>
            <a:ext cx="849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春天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树木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抽出新的枝条，长出嫩绿的叶子。山上的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积雪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融化了，雪水汇成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溪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淙淙地流着。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鹿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溪边散步。它们有的俯下身子喝水，有的侧着脑袋，欣赏自己映在水里的影子。河里涨满了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春水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一根根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原木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顺水漂流，像一支舰队在前进。</a:t>
            </a:r>
            <a:endParaRPr b="1" lang="en-US" sz="4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633" name="Picture 3" descr="91b98d63bb28f8c0e7113ad3"/>
          <p:cNvPicPr/>
          <p:nvPr/>
        </p:nvPicPr>
        <p:blipFill>
          <a:blip r:embed="rId1"/>
          <a:stretch/>
        </p:blipFill>
        <p:spPr>
          <a:xfrm>
            <a:off x="-1116000" y="-243000"/>
            <a:ext cx="10549080" cy="746136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4" descr="淘气"/>
          <p:cNvPicPr/>
          <p:nvPr/>
        </p:nvPicPr>
        <p:blipFill>
          <a:blip r:embed="rId2"/>
          <a:stretch/>
        </p:blipFill>
        <p:spPr>
          <a:xfrm>
            <a:off x="179280" y="1484280"/>
            <a:ext cx="1487520" cy="1670040"/>
          </a:xfrm>
          <a:prstGeom prst="rect">
            <a:avLst/>
          </a:prstGeom>
          <a:ln w="0">
            <a:noFill/>
          </a:ln>
        </p:spPr>
      </p:pic>
      <p:grpSp>
        <p:nvGrpSpPr>
          <p:cNvPr id="635" name="Group 5"/>
          <p:cNvGrpSpPr/>
          <p:nvPr/>
        </p:nvGrpSpPr>
        <p:grpSpPr>
          <a:xfrm>
            <a:off x="2050920" y="333360"/>
            <a:ext cx="6624360" cy="1267920"/>
            <a:chOff x="2050920" y="333360"/>
            <a:chExt cx="6624360" cy="1267920"/>
          </a:xfrm>
        </p:grpSpPr>
        <p:sp>
          <p:nvSpPr>
            <p:cNvPr id="636" name="Text Box 6"/>
            <p:cNvSpPr/>
            <p:nvPr/>
          </p:nvSpPr>
          <p:spPr>
            <a:xfrm>
              <a:off x="2457000" y="552960"/>
              <a:ext cx="6218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Arial"/>
                </a:rPr>
                <a:t>自 学 提 示</a:t>
              </a:r>
              <a:r>
                <a:rPr b="1" lang="en-US" sz="4000" spc="-1" strike="noStrike">
                  <a:solidFill>
                    <a:srgbClr val="ff3300"/>
                  </a:solidFill>
                  <a:latin typeface="Arial"/>
                </a:rPr>
                <a:t>:</a:t>
              </a:r>
              <a:endParaRPr b="1" lang="en-US" sz="40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  <p:sp>
          <p:nvSpPr>
            <p:cNvPr id="637" name="AutoShape 7"/>
            <p:cNvSpPr/>
            <p:nvPr/>
          </p:nvSpPr>
          <p:spPr>
            <a:xfrm>
              <a:off x="2050920" y="333360"/>
              <a:ext cx="3673440" cy="1267920"/>
            </a:xfrm>
            <a:prstGeom prst="cloudCallout">
              <a:avLst>
                <a:gd name="adj1" fmla="val -51893"/>
                <a:gd name="adj2" fmla="val 72143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 u="sng">
                <a:solidFill>
                  <a:srgbClr val="000000"/>
                </a:solidFill>
                <a:uFillTx/>
                <a:latin typeface="Verdana"/>
              </a:endParaRPr>
            </a:p>
          </p:txBody>
        </p:sp>
      </p:grpSp>
      <p:sp>
        <p:nvSpPr>
          <p:cNvPr id="638" name="Text Box 8"/>
          <p:cNvSpPr/>
          <p:nvPr/>
        </p:nvSpPr>
        <p:spPr>
          <a:xfrm>
            <a:off x="250920" y="3716280"/>
            <a:ext cx="763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39" name="Text Box 9"/>
          <p:cNvSpPr/>
          <p:nvPr/>
        </p:nvSpPr>
        <p:spPr>
          <a:xfrm>
            <a:off x="250920" y="335772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  </a:t>
            </a:r>
            <a:endParaRPr b="1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40" name="Text Box 10"/>
          <p:cNvSpPr/>
          <p:nvPr/>
        </p:nvSpPr>
        <p:spPr>
          <a:xfrm>
            <a:off x="468360" y="501336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41" name="Text Box 11"/>
          <p:cNvSpPr/>
          <p:nvPr/>
        </p:nvSpPr>
        <p:spPr>
          <a:xfrm>
            <a:off x="250920" y="5013360"/>
            <a:ext cx="860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42" name="Text Box 12"/>
          <p:cNvSpPr/>
          <p:nvPr/>
        </p:nvSpPr>
        <p:spPr>
          <a:xfrm>
            <a:off x="755640" y="270828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43" name="Text Box 13"/>
          <p:cNvSpPr/>
          <p:nvPr/>
        </p:nvSpPr>
        <p:spPr>
          <a:xfrm>
            <a:off x="250920" y="3357720"/>
            <a:ext cx="88930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哪些词语写出了景物的特点，用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___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1" lang="zh-CN" sz="4800" spc="-1" strike="noStrike">
                <a:solidFill>
                  <a:srgbClr val="0000ff"/>
                </a:solidFill>
                <a:latin typeface="Verdana"/>
                <a:ea typeface="楷体_GB2312"/>
              </a:rPr>
              <a:t>勾出来。</a:t>
            </a:r>
            <a:endParaRPr b="1" lang="en-US" sz="4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644" name="Line 14"/>
          <p:cNvSpPr/>
          <p:nvPr/>
        </p:nvSpPr>
        <p:spPr>
          <a:xfrm>
            <a:off x="8028000" y="515772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p:transition spd="med">
    <p:random/>
    <p:sndAc>
      <p:stSnd>
        <p:snd r:embed="rId3" name="chimes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3:57:09Z</dcterms:created>
  <dc:creator>罗 莉</dc:creator>
  <dc:description/>
  <dc:language>en-US</dc:language>
  <cp:lastModifiedBy>User</cp:lastModifiedBy>
  <dcterms:modified xsi:type="dcterms:W3CDTF">2014-03-30T15:31:46Z</dcterms:modified>
  <cp:revision>280</cp:revision>
  <dc:subject/>
  <dc:title>美丽的小兴安岭</dc:title>
</cp:coreProperties>
</file>