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0FD-C1AB-4F30-97C9-5C92EC92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A64C-0112-4FEA-BD1E-33064BCE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E5D4-3FB4-4934-B2B0-046F3047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E57-AFA5-41B0-BD2A-9AC32B50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255-E745-4E0D-89C2-419FA18E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0AC-53E0-495E-9943-D92BB408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0F98-4E72-4D10-B053-9354D09A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D49A-E72F-449D-B541-49A1FBAE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926-A158-4061-8689-D00C0C4B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A30-5A4B-48C1-A25B-F3D7BA07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210-C4B7-479C-940B-1793EF43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F28A-D920-4573-9B2A-494C6CB6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C060-9D97-4547-979A-7C13440FE5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1676520"/>
            <a:ext cx="5334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99"/>
              </a:solidFill>
              <a:latin typeface="Times New Roman"/>
            </a:endParaRPr>
          </a:p>
        </p:txBody>
      </p:sp>
      <p:pic>
        <p:nvPicPr>
          <p:cNvPr id="42" name="Picture 3" descr="李1"/>
          <p:cNvPicPr/>
          <p:nvPr/>
        </p:nvPicPr>
        <p:blipFill>
          <a:blip r:embed="rId2"/>
          <a:stretch/>
        </p:blipFill>
        <p:spPr>
          <a:xfrm>
            <a:off x="2195640" y="1557360"/>
            <a:ext cx="4321080" cy="51116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1905120" y="45720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李   时  珍</a:t>
            </a:r>
            <a:endParaRPr b="1" lang="en-US" sz="60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508040" y="78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609480" y="380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他不怕山高路远，不怕严寒酷暑，走遍了出产药的名山。</a:t>
            </a:r>
            <a:endParaRPr b="1" lang="en-US" sz="40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609480" y="17524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他有时几天不下山，饿了吃些干粮，天黑了，就在山上过夜。</a:t>
            </a:r>
            <a:endParaRPr b="1" lang="en-US" sz="40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09480" y="43657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他走了上万里路，访问了千百个医生、老农、渔民和猎人，向他们学到了许多书上没有的知识。</a:t>
            </a:r>
            <a:endParaRPr b="1" lang="en-US" sz="40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2997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许多药材他都亲口品尝，判断药性和药效。</a:t>
            </a:r>
            <a:endParaRPr b="1" lang="en-US" sz="4000" spc="-1" strike="noStrike">
              <a:solidFill>
                <a:srgbClr val="00cc99"/>
              </a:solidFill>
              <a:latin typeface="Times New Roman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2268360" y="981000"/>
            <a:ext cx="4190760" cy="76320"/>
            <a:chOff x="2268360" y="981000"/>
            <a:chExt cx="4190760" cy="76320"/>
          </a:xfrm>
        </p:grpSpPr>
        <p:grpSp>
          <p:nvGrpSpPr>
            <p:cNvPr id="65" name="Group 8"/>
            <p:cNvGrpSpPr/>
            <p:nvPr/>
          </p:nvGrpSpPr>
          <p:grpSpPr>
            <a:xfrm>
              <a:off x="2268360" y="981000"/>
              <a:ext cx="609840" cy="76320"/>
              <a:chOff x="2268360" y="981000"/>
              <a:chExt cx="609840" cy="76320"/>
            </a:xfrm>
          </p:grpSpPr>
          <p:sp>
            <p:nvSpPr>
              <p:cNvPr id="66" name="Oval 9"/>
              <p:cNvSpPr/>
              <p:nvPr/>
            </p:nvSpPr>
            <p:spPr>
              <a:xfrm>
                <a:off x="2268360" y="981000"/>
                <a:ext cx="152640" cy="763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cc99"/>
                  </a:solidFill>
                  <a:latin typeface="Times New Roman"/>
                </a:endParaRPr>
              </a:p>
            </p:txBody>
          </p:sp>
          <p:sp>
            <p:nvSpPr>
              <p:cNvPr id="67" name="Oval 10"/>
              <p:cNvSpPr/>
              <p:nvPr/>
            </p:nvSpPr>
            <p:spPr>
              <a:xfrm>
                <a:off x="2725560" y="981000"/>
                <a:ext cx="152640" cy="763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cc99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1"/>
            <p:cNvGrpSpPr/>
            <p:nvPr/>
          </p:nvGrpSpPr>
          <p:grpSpPr>
            <a:xfrm>
              <a:off x="5850000" y="981000"/>
              <a:ext cx="609120" cy="76320"/>
              <a:chOff x="5850000" y="981000"/>
              <a:chExt cx="609120" cy="76320"/>
            </a:xfrm>
          </p:grpSpPr>
          <p:sp>
            <p:nvSpPr>
              <p:cNvPr id="69" name="Oval 12"/>
              <p:cNvSpPr/>
              <p:nvPr/>
            </p:nvSpPr>
            <p:spPr>
              <a:xfrm>
                <a:off x="5850000" y="981000"/>
                <a:ext cx="152280" cy="763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cc99"/>
                  </a:solidFill>
                  <a:latin typeface="Times New Roman"/>
                </a:endParaRPr>
              </a:p>
            </p:txBody>
          </p:sp>
          <p:sp>
            <p:nvSpPr>
              <p:cNvPr id="70" name="Oval 13"/>
              <p:cNvSpPr/>
              <p:nvPr/>
            </p:nvSpPr>
            <p:spPr>
              <a:xfrm>
                <a:off x="6306840" y="981000"/>
                <a:ext cx="152280" cy="763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cc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" name="Group 14"/>
          <p:cNvGrpSpPr/>
          <p:nvPr/>
        </p:nvGrpSpPr>
        <p:grpSpPr>
          <a:xfrm>
            <a:off x="3203640" y="2349360"/>
            <a:ext cx="2666880" cy="76320"/>
            <a:chOff x="3203640" y="2349360"/>
            <a:chExt cx="2666880" cy="76320"/>
          </a:xfrm>
        </p:grpSpPr>
        <p:sp>
          <p:nvSpPr>
            <p:cNvPr id="72" name="Oval 15"/>
            <p:cNvSpPr/>
            <p:nvPr/>
          </p:nvSpPr>
          <p:spPr>
            <a:xfrm>
              <a:off x="3203640" y="2349360"/>
              <a:ext cx="152280" cy="763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cc99"/>
                </a:solidFill>
                <a:latin typeface="Times New Roman"/>
              </a:endParaRPr>
            </a:p>
          </p:txBody>
        </p:sp>
        <p:sp>
          <p:nvSpPr>
            <p:cNvPr id="73" name="Oval 16"/>
            <p:cNvSpPr/>
            <p:nvPr/>
          </p:nvSpPr>
          <p:spPr>
            <a:xfrm>
              <a:off x="3737160" y="2349360"/>
              <a:ext cx="152280" cy="763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cc99"/>
                </a:solidFill>
                <a:latin typeface="Times New Roman"/>
              </a:endParaRPr>
            </a:p>
          </p:txBody>
        </p:sp>
        <p:sp>
          <p:nvSpPr>
            <p:cNvPr id="74" name="Oval 17"/>
            <p:cNvSpPr/>
            <p:nvPr/>
          </p:nvSpPr>
          <p:spPr>
            <a:xfrm>
              <a:off x="4194360" y="2349360"/>
              <a:ext cx="152280" cy="763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cc99"/>
                </a:solidFill>
                <a:latin typeface="Times New Roman"/>
              </a:endParaRPr>
            </a:p>
          </p:txBody>
        </p:sp>
        <p:sp>
          <p:nvSpPr>
            <p:cNvPr id="75" name="Oval 18"/>
            <p:cNvSpPr/>
            <p:nvPr/>
          </p:nvSpPr>
          <p:spPr>
            <a:xfrm>
              <a:off x="4803840" y="2349360"/>
              <a:ext cx="152280" cy="763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cc99"/>
                </a:solidFill>
                <a:latin typeface="Times New Roman"/>
              </a:endParaRPr>
            </a:p>
          </p:txBody>
        </p:sp>
        <p:sp>
          <p:nvSpPr>
            <p:cNvPr id="76" name="Oval 19"/>
            <p:cNvSpPr/>
            <p:nvPr/>
          </p:nvSpPr>
          <p:spPr>
            <a:xfrm>
              <a:off x="5261040" y="2349360"/>
              <a:ext cx="152280" cy="763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cc99"/>
                </a:solidFill>
                <a:latin typeface="Times New Roman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5718240" y="2349360"/>
              <a:ext cx="152280" cy="763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cc99"/>
                </a:solidFill>
                <a:latin typeface="Times New Roman"/>
              </a:endParaRPr>
            </a:p>
          </p:txBody>
        </p:sp>
      </p:grpSp>
      <p:grpSp>
        <p:nvGrpSpPr>
          <p:cNvPr id="78" name="Group 21"/>
          <p:cNvGrpSpPr/>
          <p:nvPr/>
        </p:nvGrpSpPr>
        <p:grpSpPr>
          <a:xfrm>
            <a:off x="7164360" y="4941720"/>
            <a:ext cx="5257800" cy="76320"/>
            <a:chOff x="7164360" y="4941720"/>
            <a:chExt cx="5257800" cy="76320"/>
          </a:xfrm>
        </p:grpSpPr>
        <p:grpSp>
          <p:nvGrpSpPr>
            <p:cNvPr id="79" name="Group 22"/>
            <p:cNvGrpSpPr/>
            <p:nvPr/>
          </p:nvGrpSpPr>
          <p:grpSpPr>
            <a:xfrm>
              <a:off x="7164360" y="4941720"/>
              <a:ext cx="1143000" cy="76320"/>
              <a:chOff x="7164360" y="4941720"/>
              <a:chExt cx="1143000" cy="76320"/>
            </a:xfrm>
          </p:grpSpPr>
          <p:grpSp>
            <p:nvGrpSpPr>
              <p:cNvPr id="80" name="Group 23"/>
              <p:cNvGrpSpPr/>
              <p:nvPr/>
            </p:nvGrpSpPr>
            <p:grpSpPr>
              <a:xfrm>
                <a:off x="7164360" y="4941720"/>
                <a:ext cx="609120" cy="76320"/>
                <a:chOff x="7164360" y="4941720"/>
                <a:chExt cx="609120" cy="76320"/>
              </a:xfrm>
            </p:grpSpPr>
            <p:sp>
              <p:nvSpPr>
                <p:cNvPr id="81" name="Oval 24"/>
                <p:cNvSpPr/>
                <p:nvPr/>
              </p:nvSpPr>
              <p:spPr>
                <a:xfrm>
                  <a:off x="7164360" y="4941720"/>
                  <a:ext cx="152280" cy="7632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cc99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Oval 25"/>
                <p:cNvSpPr/>
                <p:nvPr/>
              </p:nvSpPr>
              <p:spPr>
                <a:xfrm>
                  <a:off x="7621200" y="4941720"/>
                  <a:ext cx="152280" cy="7632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cc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Oval 26"/>
              <p:cNvSpPr/>
              <p:nvPr/>
            </p:nvSpPr>
            <p:spPr>
              <a:xfrm>
                <a:off x="8155080" y="4941720"/>
                <a:ext cx="152280" cy="763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cc99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Group 27"/>
            <p:cNvGrpSpPr/>
            <p:nvPr/>
          </p:nvGrpSpPr>
          <p:grpSpPr>
            <a:xfrm>
              <a:off x="11279160" y="4941720"/>
              <a:ext cx="1143000" cy="76320"/>
              <a:chOff x="11279160" y="4941720"/>
              <a:chExt cx="1143000" cy="76320"/>
            </a:xfrm>
          </p:grpSpPr>
          <p:grpSp>
            <p:nvGrpSpPr>
              <p:cNvPr id="85" name="Group 28"/>
              <p:cNvGrpSpPr/>
              <p:nvPr/>
            </p:nvGrpSpPr>
            <p:grpSpPr>
              <a:xfrm>
                <a:off x="11279160" y="4941720"/>
                <a:ext cx="609120" cy="76320"/>
                <a:chOff x="11279160" y="4941720"/>
                <a:chExt cx="609120" cy="76320"/>
              </a:xfrm>
            </p:grpSpPr>
            <p:sp>
              <p:nvSpPr>
                <p:cNvPr id="86" name="Oval 29"/>
                <p:cNvSpPr/>
                <p:nvPr/>
              </p:nvSpPr>
              <p:spPr>
                <a:xfrm>
                  <a:off x="11279160" y="4941720"/>
                  <a:ext cx="152280" cy="7632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cc99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Oval 30"/>
                <p:cNvSpPr/>
                <p:nvPr/>
              </p:nvSpPr>
              <p:spPr>
                <a:xfrm>
                  <a:off x="11736000" y="4941720"/>
                  <a:ext cx="152280" cy="7632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cc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" name="Oval 31"/>
              <p:cNvSpPr/>
              <p:nvPr/>
            </p:nvSpPr>
            <p:spPr>
              <a:xfrm>
                <a:off x="12269880" y="4941720"/>
                <a:ext cx="152280" cy="763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cc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" name="Group 32"/>
          <p:cNvGrpSpPr/>
          <p:nvPr/>
        </p:nvGrpSpPr>
        <p:grpSpPr>
          <a:xfrm>
            <a:off x="3059280" y="5013360"/>
            <a:ext cx="1675800" cy="76320"/>
            <a:chOff x="3059280" y="5013360"/>
            <a:chExt cx="1675800" cy="76320"/>
          </a:xfrm>
        </p:grpSpPr>
        <p:grpSp>
          <p:nvGrpSpPr>
            <p:cNvPr id="90" name="Group 33"/>
            <p:cNvGrpSpPr/>
            <p:nvPr/>
          </p:nvGrpSpPr>
          <p:grpSpPr>
            <a:xfrm>
              <a:off x="3059280" y="5013360"/>
              <a:ext cx="1142280" cy="76320"/>
              <a:chOff x="3059280" y="5013360"/>
              <a:chExt cx="1142280" cy="76320"/>
            </a:xfrm>
          </p:grpSpPr>
          <p:grpSp>
            <p:nvGrpSpPr>
              <p:cNvPr id="91" name="Group 34"/>
              <p:cNvGrpSpPr/>
              <p:nvPr/>
            </p:nvGrpSpPr>
            <p:grpSpPr>
              <a:xfrm>
                <a:off x="3059280" y="5013360"/>
                <a:ext cx="608760" cy="76320"/>
                <a:chOff x="3059280" y="5013360"/>
                <a:chExt cx="608760" cy="76320"/>
              </a:xfrm>
            </p:grpSpPr>
            <p:sp>
              <p:nvSpPr>
                <p:cNvPr id="92" name="Oval 35"/>
                <p:cNvSpPr/>
                <p:nvPr/>
              </p:nvSpPr>
              <p:spPr>
                <a:xfrm>
                  <a:off x="3059280" y="5013360"/>
                  <a:ext cx="152280" cy="7632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cc99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Oval 36"/>
                <p:cNvSpPr/>
                <p:nvPr/>
              </p:nvSpPr>
              <p:spPr>
                <a:xfrm>
                  <a:off x="3515760" y="5013360"/>
                  <a:ext cx="152280" cy="7632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cc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Oval 37"/>
              <p:cNvSpPr/>
              <p:nvPr/>
            </p:nvSpPr>
            <p:spPr>
              <a:xfrm>
                <a:off x="4049640" y="5013360"/>
                <a:ext cx="151920" cy="763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cc99"/>
                  </a:solidFill>
                  <a:latin typeface="Times New Roman"/>
                </a:endParaRPr>
              </a:p>
            </p:txBody>
          </p:sp>
        </p:grpSp>
        <p:sp>
          <p:nvSpPr>
            <p:cNvPr id="95" name="Oval 38"/>
            <p:cNvSpPr/>
            <p:nvPr/>
          </p:nvSpPr>
          <p:spPr>
            <a:xfrm>
              <a:off x="4583160" y="5013360"/>
              <a:ext cx="151920" cy="763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cc99"/>
                </a:solidFill>
                <a:latin typeface="Times New Roman"/>
              </a:endParaRPr>
            </a:p>
          </p:txBody>
        </p:sp>
      </p:grpSp>
      <p:grpSp>
        <p:nvGrpSpPr>
          <p:cNvPr id="96" name="Group 39"/>
          <p:cNvGrpSpPr/>
          <p:nvPr/>
        </p:nvGrpSpPr>
        <p:grpSpPr>
          <a:xfrm>
            <a:off x="4716360" y="3716280"/>
            <a:ext cx="1676520" cy="76320"/>
            <a:chOff x="4716360" y="3716280"/>
            <a:chExt cx="1676520" cy="76320"/>
          </a:xfrm>
        </p:grpSpPr>
        <p:grpSp>
          <p:nvGrpSpPr>
            <p:cNvPr id="97" name="Group 40"/>
            <p:cNvGrpSpPr/>
            <p:nvPr/>
          </p:nvGrpSpPr>
          <p:grpSpPr>
            <a:xfrm>
              <a:off x="4716360" y="3716280"/>
              <a:ext cx="1143000" cy="76320"/>
              <a:chOff x="4716360" y="3716280"/>
              <a:chExt cx="1143000" cy="76320"/>
            </a:xfrm>
          </p:grpSpPr>
          <p:grpSp>
            <p:nvGrpSpPr>
              <p:cNvPr id="98" name="Group 41"/>
              <p:cNvGrpSpPr/>
              <p:nvPr/>
            </p:nvGrpSpPr>
            <p:grpSpPr>
              <a:xfrm>
                <a:off x="4716360" y="3716280"/>
                <a:ext cx="609120" cy="76320"/>
                <a:chOff x="4716360" y="3716280"/>
                <a:chExt cx="609120" cy="76320"/>
              </a:xfrm>
            </p:grpSpPr>
            <p:sp>
              <p:nvSpPr>
                <p:cNvPr id="99" name="Oval 42"/>
                <p:cNvSpPr/>
                <p:nvPr/>
              </p:nvSpPr>
              <p:spPr>
                <a:xfrm>
                  <a:off x="4716360" y="3716280"/>
                  <a:ext cx="152280" cy="7632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cc99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Oval 43"/>
                <p:cNvSpPr/>
                <p:nvPr/>
              </p:nvSpPr>
              <p:spPr>
                <a:xfrm>
                  <a:off x="5173200" y="3716280"/>
                  <a:ext cx="152280" cy="7632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cc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Oval 44"/>
              <p:cNvSpPr/>
              <p:nvPr/>
            </p:nvSpPr>
            <p:spPr>
              <a:xfrm>
                <a:off x="5707080" y="3716280"/>
                <a:ext cx="152280" cy="763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cc99"/>
                  </a:solidFill>
                  <a:latin typeface="Times New Roman"/>
                </a:endParaRPr>
              </a:p>
            </p:txBody>
          </p:sp>
        </p:grpSp>
        <p:sp>
          <p:nvSpPr>
            <p:cNvPr id="102" name="Oval 45"/>
            <p:cNvSpPr/>
            <p:nvPr/>
          </p:nvSpPr>
          <p:spPr>
            <a:xfrm>
              <a:off x="6240600" y="3716280"/>
              <a:ext cx="152280" cy="763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cc99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传说中有一种神仙草（曼陀罗），人们一见到它就会情不自禁的又唱又跳。李时珍为了探明究竟，走到哪里手里都拿着曼陀罗，发现没什么异常。后来还冒险亲自服下曼陀罗，结果自己精神恍惚，失去痛觉，一连昏迷了好几天。终于知道它有麻醉和使人兴奋的作用，少量可以治病，过量的话，在别人的暗示下确实会又唱又跳。从那以后，曼陀罗被广泛运用于制造麻醉剂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明朝的李时珍是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伟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医学家和药物学家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美国的科学家利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本草纲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研制出了治晚期肺癌的药，而且美国的药检局编写药物书还有很多内容是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本草纲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参考来的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8200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小练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李时珍整整用了二十七年的时间来编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草纲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当（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阳光明媚、乌云密布、刮风下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当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生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当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他的家人需要他照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当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朋友劝他放弃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最后，他终于完成了这部著名的药物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80360" y="5877000"/>
            <a:ext cx="6476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28279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1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95280" y="1773360"/>
            <a:ext cx="489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明朝      伟大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药物学家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医学家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本草纲目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692280"/>
            <a:ext cx="80629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诊费   药效   经验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严寒酷暑   本草纲目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救死扶伤  治病  而且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访问   记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载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积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那时候，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行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医是被人鄙视的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行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业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明朝的李时珍是伟大的医学家和药物学家。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读提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请同学从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自然段中选择一段，自己研究研究、读一读、找找你又从哪个句子看出了李时珍的伟大？做上记号，再联系自己的实际生活想一想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一回，父亲给人看病，病人患的是一种疑难病症，父亲一时想不出有效的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药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李时珍轻声地说了一个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古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父亲一听，正是对症良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894680" y="914400"/>
            <a:ext cx="5362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　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李时珍一面行医，一面研究药物。</a:t>
            </a:r>
            <a:endParaRPr b="1" lang="en-US" sz="40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他发现旧的药物书有不少缺点：许多</a:t>
            </a:r>
            <a:endParaRPr b="1" lang="en-US" sz="40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有用的药物没有记载；有些药物只记</a:t>
            </a:r>
            <a:endParaRPr b="1" lang="en-US" sz="40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了个名称，没有说明性状和生长情况；</a:t>
            </a:r>
            <a:endParaRPr b="1" lang="en-US" sz="40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还有一些药物记错了药性和药效。他</a:t>
            </a:r>
            <a:endParaRPr b="1" lang="en-US" sz="40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想，病人吃错了药，那多危险啊！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于</a:t>
            </a:r>
            <a:endParaRPr b="1" lang="en-US" sz="40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是他决心重新编写一部完善的药物书。</a:t>
            </a:r>
            <a:endParaRPr b="1" lang="en-US" sz="40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4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还有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333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他发现旧的药物书有不少缺点，许多有用的药物没有记载；有些药物只记了个名称，没有说明性状和生长情况；还有一些药物记错了药性和药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7T06:11:40Z</dcterms:created>
  <dc:creator/>
  <dc:description/>
  <cp:keywords/>
  <dc:language>en-US</dc:language>
  <cp:lastModifiedBy>Windows 用户</cp:lastModifiedBy>
  <cp:lastPrinted>1899-12-30T00:00:00Z</cp:lastPrinted>
  <dcterms:modified xsi:type="dcterms:W3CDTF">2013-04-24T15:53:21Z</dcterms:modified>
  <cp:revision>32</cp:revision>
  <dc:subject/>
  <dc:title>21  李   时  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