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9.png" ContentType="image/png"/>
  <Override PartName="/ppt/media/image12.png" ContentType="image/png"/>
  <Override PartName="/ppt/media/image6.wmf" ContentType="image/x-wmf"/>
  <Override PartName="/ppt/media/image19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8.wmf" ContentType="image/x-wmf"/>
  <Override PartName="/ppt/media/image1.png" ContentType="image/png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23.png" ContentType="image/png"/>
  <Override PartName="/ppt/media/image5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1B2-16E1-44F9-93B2-D1B4714C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876-3CB3-4627-B54A-8F01F46A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00F-7C14-4410-97A1-93F7DCDE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C21-A23D-42CB-8EA2-8CD5EDD0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D68B-9F50-4EAE-8544-1F541A30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8A0E-50ED-4F06-A911-2A38AD94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3827-99B5-4843-9C9E-0DB9CEB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95C0-FDEC-4701-8267-94F84001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3660-B49B-40D3-A4A7-F55D6594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6322-C977-4458-AD78-4FBC2416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FE56-7112-4FAF-8507-7BE8B55D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51A-A70D-4DEF-8520-E1242000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2B3B-69F1-44A6-B415-A9423F5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BE34-4AEC-41DE-91D9-B106BB66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0AC8-366F-455E-BCF5-10367659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CB76-A722-4B72-8202-1110942A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BE0C-CCE8-4649-A53D-5B5C10F5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1CBF-42F9-4EB5-9F47-CD0BF945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51C5-B3CD-456C-8E6D-0327FD32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728D-FAFD-4D9E-AFE3-7270069D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51BF-943B-4A85-89DD-F2F6BF76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E8AD4-8B61-4349-A157-3D42C9C4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EA1-D8DB-458C-BD15-636EB611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CF6C-6630-49EC-8E86-E1731465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9ECF-8CE5-4B4C-A23F-6C1259C1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C853-D0B8-479B-ADE6-8551D2A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A052-8987-4C13-9C7C-A35DB268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9F81-76D7-4142-86CF-9C907A3F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0DB8-34EE-4440-B416-C0B59E92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E1C9-0D97-4F2F-931A-1BC2B3F2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05B0B-9A14-46C6-A5C6-59E53063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CB2FC-9EAE-450F-9993-571C9BF9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BE4A-0713-4AE5-9F10-F2F7B3FB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420-9E08-4010-97A1-D835905F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D98C-4A27-4B42-9E05-17270071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62870-80DC-4127-A069-7E1264CF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89114-0076-4754-B497-714071E9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CD82-F59F-4F81-B531-7E366B64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64E11-5D7A-4E98-BD69-9E3B69DE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C735-E851-4E13-8422-D8A5950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7A42D-046A-403B-A5FF-7FA6CEED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41495-3CFE-47E2-9F98-CFAED090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3057A-8DD5-4A79-A84A-495CA24D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D4B-1095-41CF-8FF3-CC4831B4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1C2-C83F-4482-A304-6E7A8F16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E48-7456-42A5-B7F2-3765524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D94-0AF9-4E68-9AD8-5056E0DA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B361-DE13-4BCC-8137-B14A8932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8579-8CC4-4C40-9B61-7FA2D426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26A1-8AD0-4FFB-B735-96CD731C9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9046-C63E-48BC-853E-E623BA278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0872-9DE7-41B6-9CBD-3BA43E030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086afa2407997b338644f967"/>
          <p:cNvPicPr/>
          <p:nvPr/>
        </p:nvPicPr>
        <p:blipFill>
          <a:blip r:embed="rId1"/>
          <a:stretch/>
        </p:blipFill>
        <p:spPr>
          <a:xfrm>
            <a:off x="-249120" y="-239760"/>
            <a:ext cx="9645480" cy="726912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1042920" y="2205000"/>
            <a:ext cx="7272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rnd" w="12600">
                  <a:solidFill>
                    <a:srgbClr val="ff6600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装满昆虫的口袋</a:t>
            </a:r>
            <a:endParaRPr b="1" lang="en-US" sz="9600" spc="1" strike="noStrike">
              <a:ln cap="rnd" w="12600">
                <a:solidFill>
                  <a:srgbClr val="ff6600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087640" y="5229360"/>
            <a:ext cx="6156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468360" y="2205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每到早晨，法布尔把鸭子赶进池塘后，就一动不动地趴在岸边，静静地观察奇妙的生物世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468360" y="2205000"/>
            <a:ext cx="8353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每到早晨，法布尔把鸭子赶进池塘后，就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动不动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地趴在岸边，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静静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地观察奇妙的生物世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395280" y="-7920"/>
            <a:ext cx="8317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507600" cy="70261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938160" y="1413000"/>
            <a:ext cx="795492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法布尔从小就对大自然有着浓厚的兴趣。无论是花丛中翻飞的蝴蝶，洞穴里隐藏的虫子，还是小河里游动的鱼虾，都引起他无限的好奇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468360" y="27669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他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小心翼翼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地把甲虫拾起来，放进一个蜗牛壳里，打算回家再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好好欣赏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这珍珠一般的“宝贝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2408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1960200" y="59500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全身碧蓝、比樱桃核还要小一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1"/>
          <p:cNvPicPr/>
          <p:nvPr/>
        </p:nvPicPr>
        <p:blipFill>
          <a:blip r:embed="rId1"/>
          <a:stretch/>
        </p:blipFill>
        <p:spPr>
          <a:xfrm>
            <a:off x="684360" y="3716280"/>
            <a:ext cx="2895480" cy="218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纺织娘"/>
          <p:cNvPicPr/>
          <p:nvPr/>
        </p:nvPicPr>
        <p:blipFill>
          <a:blip r:embed="rId2"/>
          <a:stretch/>
        </p:blipFill>
        <p:spPr>
          <a:xfrm>
            <a:off x="324000" y="18900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4500720" cy="3338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189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纺织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30430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全身翠绿、触角细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3068640"/>
            <a:ext cx="38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0" y="60786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身碧蓝、比樱桃核还要小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00720" y="4797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五颜六色、翩翩起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3851280" cy="289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26"/>
          <p:cNvPicPr/>
          <p:nvPr/>
        </p:nvPicPr>
        <p:blipFill>
          <a:blip r:embed="rId2"/>
          <a:stretch/>
        </p:blipFill>
        <p:spPr>
          <a:xfrm>
            <a:off x="5292720" y="333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3"/>
          <a:stretch/>
        </p:blipFill>
        <p:spPr>
          <a:xfrm>
            <a:off x="4572000" y="3500280"/>
            <a:ext cx="4321080" cy="2918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5252423_104138397000_2"/>
          <p:cNvPicPr/>
          <p:nvPr/>
        </p:nvPicPr>
        <p:blipFill>
          <a:blip r:embed="rId4"/>
          <a:stretch/>
        </p:blipFill>
        <p:spPr>
          <a:xfrm>
            <a:off x="684360" y="3500280"/>
            <a:ext cx="36716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468360" y="27669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他都打算回家再好好欣赏这珍珠一般的“宝贝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507600" cy="70261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938160" y="1413000"/>
            <a:ext cx="795492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法布尔从小就对大自然有着浓厚的兴趣。无论是花丛中翻飞的蝴蝶，洞穴里隐藏的虫子，还是小河里游动的鱼虾，都引起他无限的好奇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图片"/>
          <p:cNvPicPr/>
          <p:nvPr/>
        </p:nvPicPr>
        <p:blipFill>
          <a:blip r:embed="rId1"/>
          <a:stretch/>
        </p:blipFill>
        <p:spPr>
          <a:xfrm>
            <a:off x="-181080" y="0"/>
            <a:ext cx="9501120" cy="7029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468360" y="3141720"/>
            <a:ext cx="83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无限   暮色   小心翼翼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3421080" y="1123920"/>
            <a:ext cx="35272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我会读：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507600" cy="70261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938160" y="1413000"/>
            <a:ext cx="795492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法布尔从小就对大自然有着浓厚的兴趣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无论是花丛中翻飞的蝴蝶，洞穴里隐藏的虫子，还是小河里游动的鱼虾，都引起他无限的好奇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95280" y="2060640"/>
            <a:ext cx="8532720" cy="403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39640" y="2981160"/>
            <a:ext cx="8353440" cy="1130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能像作者这样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总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结构从概括到具体写写法布尔对昆虫的迷恋吗？能干的你一定也能够用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无论是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还是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样的关联词写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排比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Bandari - 追梦人(1).mp3" descr=""/>
          <p:cNvPicPr/>
          <p:nvPr/>
        </p:nvPicPr>
        <p:blipFill>
          <a:blip r:embed="rId2"/>
          <a:stretch/>
        </p:blipFill>
        <p:spPr>
          <a:xfrm>
            <a:off x="7596360" y="5761080"/>
            <a:ext cx="755640" cy="7570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V="1">
            <a:off x="250920" y="549000"/>
            <a:ext cx="3744720" cy="1511280"/>
          </a:xfrm>
          <a:prstGeom prst="cloudCallout">
            <a:avLst>
              <a:gd name="adj1" fmla="val -34615"/>
              <a:gd name="adj2" fmla="val -69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83664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小练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9640" y="2981160"/>
            <a:ext cx="8353440" cy="947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布尔从小就对大自然有着浓厚的兴趣。无论是蚊虫的叮咬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还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法布尔都一动不动地趴在岸边，静静地观察奇妙的生物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34146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蚊虫的叮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134136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例文引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539640" y="2997360"/>
            <a:ext cx="8353440" cy="1191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法布尔从小就对大自然有着浓厚的兴趣。无论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全身翠绿、触角细长的纺织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还是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法布尔都打算回家好好欣赏这珍珠一般的“宝贝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539640" y="2997360"/>
            <a:ext cx="8353440" cy="1191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法布尔从小就对大自然有着浓厚的兴趣。无论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妈妈焦急的呼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  伙伴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还是爸爸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都没有驱散法布尔对昆虫的迷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539640" y="1954080"/>
            <a:ext cx="8353440" cy="459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布尔从小就对大自然有着浓厚的兴趣。无论是蚊虫的叮咬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还是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法布尔都一动不动地趴在岸边，静静地观察奇妙的生物世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39640" y="3460680"/>
            <a:ext cx="8353440" cy="825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布尔从小就对大自然有着浓厚的兴趣。无论是全身翠绿、触角细长的纺织娘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还是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法布尔都打算回家好好欣赏这珍珠一般的“宝贝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39640" y="5194440"/>
            <a:ext cx="8353440" cy="825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布尔从小就对大自然有着浓厚的兴趣。无论是妈妈焦急的呼喊、小伙伴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，还是爸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都没有驱散法布尔对昆虫的迷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92360" y="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练  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468360" y="620640"/>
            <a:ext cx="835344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你能像作者这样用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“总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分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结构从概括到具体写写法布尔对昆虫的迷恋吗？能干的你一定也能够用上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“无论是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还是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……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这样的关联词写出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排比句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的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2843280" y="134928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他用一生的时间深入昆虫世界，成为著名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昆虫学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真实地记录下昆虫的本能和习性，一生为虫子写出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十部书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其中最有代表性的是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昆虫记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部昆虫学巨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4d497006514cb5680308814a"/>
          <p:cNvPicPr/>
          <p:nvPr/>
        </p:nvPicPr>
        <p:blipFill>
          <a:blip r:embed="rId2"/>
          <a:stretch/>
        </p:blipFill>
        <p:spPr>
          <a:xfrm>
            <a:off x="341280" y="765000"/>
            <a:ext cx="2160720" cy="30830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0" y="4788000"/>
            <a:ext cx="284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让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亨利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卡西米尔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黑体"/>
              </a:rPr>
              <a:t>·</a:t>
            </a:r>
            <a:r>
              <a:rPr b="1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法布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法国 （</a:t>
            </a:r>
            <a:r>
              <a:rPr b="1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182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黑体"/>
              </a:rPr>
              <a:t>—</a:t>
            </a:r>
            <a:r>
              <a:rPr b="1" lang="en-US" sz="1800" spc="-1" strike="noStrike">
                <a:solidFill>
                  <a:srgbClr val="333399"/>
                </a:solidFill>
                <a:latin typeface="黑体"/>
                <a:ea typeface="黑体"/>
              </a:rPr>
              <a:t>1915</a:t>
            </a:r>
            <a:r>
              <a:rPr b="1" lang="zh-CN" sz="18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908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图片"/>
          <p:cNvPicPr/>
          <p:nvPr/>
        </p:nvPicPr>
        <p:blipFill>
          <a:blip r:embed="rId1"/>
          <a:stretch/>
        </p:blipFill>
        <p:spPr>
          <a:xfrm>
            <a:off x="-181080" y="0"/>
            <a:ext cx="9501120" cy="7029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468360" y="3141720"/>
            <a:ext cx="83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限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暮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色   小心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翼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3421080" y="1123920"/>
            <a:ext cx="352728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我会读：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图片"/>
          <p:cNvPicPr/>
          <p:nvPr/>
        </p:nvPicPr>
        <p:blipFill>
          <a:blip r:embed="rId1"/>
          <a:stretch/>
        </p:blipFill>
        <p:spPr>
          <a:xfrm>
            <a:off x="-181080" y="0"/>
            <a:ext cx="9502920" cy="7029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79280" y="4567320"/>
            <a:ext cx="1440000" cy="1982880"/>
          </a:xfrm>
          <a:prstGeom prst="rect">
            <a:avLst/>
          </a:prstGeom>
          <a:ln w="0">
            <a:noFill/>
          </a:ln>
        </p:spPr>
      </p:pic>
      <p:sp>
        <p:nvSpPr>
          <p:cNvPr id="175" name="右箭头 1"/>
          <p:cNvSpPr/>
          <p:nvPr/>
        </p:nvSpPr>
        <p:spPr>
          <a:xfrm>
            <a:off x="1681200" y="5408640"/>
            <a:ext cx="80316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2506680" y="4498920"/>
            <a:ext cx="1436760" cy="208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4"/>
          <a:stretch/>
        </p:blipFill>
        <p:spPr>
          <a:xfrm>
            <a:off x="4729320" y="4579920"/>
            <a:ext cx="1427040" cy="2008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5"/>
          <a:stretch/>
        </p:blipFill>
        <p:spPr>
          <a:xfrm>
            <a:off x="7005600" y="4538520"/>
            <a:ext cx="1447920" cy="198288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5651640" y="836640"/>
            <a:ext cx="262080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BatangChe"/>
              </a:rPr>
              <a:t>暮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BatangChe"/>
              <a:ea typeface="BatangChe"/>
            </a:endParaRPr>
          </a:p>
        </p:txBody>
      </p:sp>
      <p:sp>
        <p:nvSpPr>
          <p:cNvPr id="180" name="右箭头 13"/>
          <p:cNvSpPr/>
          <p:nvPr/>
        </p:nvSpPr>
        <p:spPr>
          <a:xfrm>
            <a:off x="3925800" y="5408640"/>
            <a:ext cx="803520" cy="4842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14"/>
          <p:cNvSpPr/>
          <p:nvPr/>
        </p:nvSpPr>
        <p:spPr>
          <a:xfrm>
            <a:off x="6170760" y="5443560"/>
            <a:ext cx="80316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右箭头 15"/>
          <p:cNvSpPr/>
          <p:nvPr/>
        </p:nvSpPr>
        <p:spPr>
          <a:xfrm rot="16200000">
            <a:off x="7327080" y="3894480"/>
            <a:ext cx="80316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755640" y="476280"/>
            <a:ext cx="3338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图片"/>
          <p:cNvPicPr/>
          <p:nvPr/>
        </p:nvPicPr>
        <p:blipFill>
          <a:blip r:embed="rId1"/>
          <a:stretch/>
        </p:blipFill>
        <p:spPr>
          <a:xfrm>
            <a:off x="0" y="0"/>
            <a:ext cx="9505800" cy="7026120"/>
          </a:xfrm>
          <a:prstGeom prst="rect">
            <a:avLst/>
          </a:prstGeom>
          <a:ln w="0">
            <a:noFill/>
          </a:ln>
        </p:spPr>
      </p:pic>
      <p:sp>
        <p:nvSpPr>
          <p:cNvPr id="185" name="WordArt 4"/>
          <p:cNvSpPr txBox="1"/>
          <p:nvPr/>
        </p:nvSpPr>
        <p:spPr>
          <a:xfrm>
            <a:off x="3348000" y="981000"/>
            <a:ext cx="352764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我会读：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2400" y="2811600"/>
            <a:ext cx="92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爸爸的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训斥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没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驱散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法布尔对昆虫的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迷恋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强烈的兴趣已经种在他的心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642400" y="3508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-181080" y="0"/>
            <a:ext cx="9507600" cy="7026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720720" y="2130480"/>
            <a:ext cx="770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法布尔从小就对大自然有着浓厚的兴趣。无论是花丛中翻飞的蝴蝶，洞穴里隐藏的虫子，还是小河里游动的鱼虾，都引起他无限的好奇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507600" cy="70261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720720" y="2130480"/>
            <a:ext cx="770400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法布尔从小就对大自然有着浓厚的兴趣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论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丛中翻飞的蝴蝶，洞穴里隐藏的虫子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还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河里游动的鱼虾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起他无限的好奇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507600" cy="7026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57120" y="691920"/>
            <a:ext cx="8431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Arial"/>
              </a:rPr>
              <a:t>金钥匙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—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想想课文中用哪两件事具体描写了法布尔对昆虫的迷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横线勾出描写法布尔迷恋昆虫的句子，想一想从这句话你体会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感情地朗读画出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250920" y="24922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主要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419640" y="24922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主要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948360" y="2492280"/>
            <a:ext cx="13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95280" y="43005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法布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276720" y="14130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完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581800" y="14130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简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95280" y="3284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法布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835280" y="43005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经常观察虫子捉虫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556000" y="3284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因为寻找纺织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445080" y="32925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忘了回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084720" y="430056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遭到爸爸训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867280" y="306864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8747280" y="414972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867280" y="4149720"/>
            <a:ext cx="7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352000" y="3213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用户</cp:lastModifiedBy>
  <dcterms:modified xsi:type="dcterms:W3CDTF">2013-04-24T15:19:19Z</dcterms:modified>
  <cp:revision>116</cp:revision>
  <dc:subject/>
  <dc:title>幻灯片 1</dc:title>
</cp:coreProperties>
</file>