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BAE8-C90B-4A33-9A10-DA145C2BD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AA26-D1DA-4ACF-A232-C9350C21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692A-D758-4C45-8DF5-423DA4157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8647-F4CF-4F62-B962-1F93C44B7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C9AF-1D58-4797-B995-14E76E5B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CA1A-62F6-48D2-B5C3-E427E1D1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75FF-06E6-4257-AEA0-9800283A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7A0E-11C0-42EE-A885-51A5C5E2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EB92-49AC-4818-9CA3-82571755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4A56-2546-4B95-A95E-20DBC616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9900-B22D-4D06-B6B4-5AD86AF4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1A63-2E92-4481-92DA-08AE022E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792F-BF56-410E-A5F9-F4F07B7272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~1\ADMINI~1\APPLIC~1\360se6\USERDA~1\Temp\U_5427~1.JPG"/>
          <p:cNvPicPr/>
          <p:nvPr/>
        </p:nvPicPr>
        <p:blipFill>
          <a:blip r:embed="rId1"/>
          <a:stretch/>
        </p:blipFill>
        <p:spPr>
          <a:xfrm>
            <a:off x="0" y="-1214280"/>
            <a:ext cx="9144000" cy="8072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b050"/>
                </a:solidFill>
                <a:latin typeface="Calibri"/>
              </a:rPr>
              <a:t>小四习作练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矩形 17" descr=""/>
          <p:cNvPicPr/>
          <p:nvPr/>
        </p:nvPicPr>
        <p:blipFill>
          <a:blip r:embed="rId2"/>
          <a:stretch/>
        </p:blipFill>
        <p:spPr>
          <a:xfrm>
            <a:off x="0" y="2584440"/>
            <a:ext cx="877896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DOCUME~1\ADMINI~1\APPLIC~1\360se6\USERDA~1\Temp\U_5427~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0" y="1222560"/>
            <a:ext cx="914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33"/>
                </a:solidFill>
                <a:latin typeface="Calibri"/>
                <a:ea typeface="Arial"/>
              </a:rPr>
              <a:t>什么叫人物的外貌描写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Calibri"/>
                <a:ea typeface="Arial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Calibri"/>
                <a:ea typeface="Arial"/>
              </a:rPr>
              <a:t>    </a:t>
            </a:r>
            <a:r>
              <a:rPr b="1" lang="zh-CN" sz="5400" spc="-1" strike="noStrike">
                <a:solidFill>
                  <a:srgbClr val="ff0000"/>
                </a:solidFill>
                <a:latin typeface="Calibri"/>
                <a:ea typeface="Arial"/>
              </a:rPr>
              <a:t>外貌描写</a:t>
            </a:r>
            <a:r>
              <a:rPr b="0" lang="zh-CN" sz="5400" spc="-1" strike="noStrike">
                <a:solidFill>
                  <a:srgbClr val="333333"/>
                </a:solidFill>
                <a:latin typeface="Calibri"/>
                <a:ea typeface="Arial"/>
              </a:rPr>
              <a:t>是指对人物的</a:t>
            </a:r>
            <a:r>
              <a:rPr b="1" lang="zh-CN" sz="5400" spc="-1" strike="noStrike">
                <a:solidFill>
                  <a:srgbClr val="604a7b"/>
                </a:solidFill>
                <a:latin typeface="Calibri"/>
                <a:ea typeface="Arial"/>
              </a:rPr>
              <a:t>身材、衣着、容貌打扮等</a:t>
            </a:r>
            <a:r>
              <a:rPr b="0" lang="zh-CN" sz="5400" spc="-1" strike="noStrike">
                <a:solidFill>
                  <a:srgbClr val="333333"/>
                </a:solidFill>
                <a:latin typeface="Calibri"/>
                <a:ea typeface="Arial"/>
              </a:rPr>
              <a:t>进行的描写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~1\ADMINI~1\APPLIC~1\360se6\USERDA~1\Temp\U_5427~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0" y="2504880"/>
            <a:ext cx="91440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读下面两个文段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）门一开，班主任领进一位女生。她长的很好看，衣着朴素。“我叫李华，请多关照。”简单的开场白后，她被分到我的旁边，以后我们成了同桌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）门一开，班主任领进一位女生。她中等个儿，梳着两根羊辫，黑里透红的脸上，有一对明亮的眼睛。穿着一身洗的褪了色的学生装，裤子的膝盖处还缀着两个像眼睛一样的补丁。“我叫李华，请多关照。”简单的开场白后，她被分到我的旁边，以后我们成了同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DOCUME~1\ADMINI~1\APPLIC~1\360se6\USERDA~1\Temp\U_5427~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"/>
          <p:cNvSpPr/>
          <p:nvPr/>
        </p:nvSpPr>
        <p:spPr>
          <a:xfrm>
            <a:off x="0" y="22233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补充例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乍一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，她个子挺高的，身材很好，不胖也不瘦，是块跳舞的料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细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，她留着齐耳短发，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  <a:ea typeface="Times New Roman"/>
              </a:rPr>
              <a:t>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上总是一左一右地夹着两只发夹，把头发紧紧地拢在耳朵后面，显出一张光滑白净的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  <a:ea typeface="Times New Roman"/>
              </a:rPr>
              <a:t>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庞。她的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  <a:ea typeface="Times New Roman"/>
              </a:rPr>
              <a:t>眼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不大，细细长长的，但是很有神采，一笑就变成了两条缝。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  <a:ea typeface="Times New Roman"/>
              </a:rPr>
              <a:t>鼻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微微上翘，给人一种俏皮的感觉，显得十分可爱。她平时最喜欢穿的是一条蓝底白花的</a:t>
            </a:r>
            <a:r>
              <a:rPr b="1" lang="zh-CN" sz="3600" spc="-1" strike="noStrike">
                <a:solidFill>
                  <a:srgbClr val="00b050"/>
                </a:solidFill>
                <a:latin typeface="Arial"/>
                <a:ea typeface="Times New Roman"/>
              </a:rPr>
              <a:t>连衣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，裙摆又宽又大。她一跑动起来，裙子就像一只花蝴蝶一样飞起来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~1\ADMINI~1\APPLIC~1\360se6\USERDA~1\Temp\U_5427~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"/>
          <p:cNvSpPr/>
          <p:nvPr/>
        </p:nvSpPr>
        <p:spPr>
          <a:xfrm>
            <a:off x="0" y="16772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做游戏：猜猜他们是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谁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、只见他黑脸短毛，长嘴大耳，圆身肥肚，穿一件青不青、蓝不蓝的梭布衣服，系一条花布手巾，提一柄九齿钉耙。（        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、他有三头六臂，脖子上套着乾坤圈，脚踏风火轮，威风八面。（      ）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、他身穿金光闪闪的战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头戴金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手持从东海龙宫掠来的金箍棒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显出一副威武霸气的样子。一对火眼金睛炯炯有神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透露出铲除一切妖魔的决心。浑身透露出一种天不怕、地不怕的精神。（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DOCUME~1\ADMINI~1\APPLIC~1\360se6\USERDA~1\Temp\U_5427~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"/>
          <p:cNvSpPr/>
          <p:nvPr/>
        </p:nvSpPr>
        <p:spPr>
          <a:xfrm>
            <a:off x="0" y="19490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做游戏： 猜猜她们的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性格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、金豆才七岁，头发披散着，垂到脖子边，见人就羞得把头低下去，或者跑开了又悄悄地望着人，或者等你不知不觉时猛然叫一声来吓唬你。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、她大概叫琅琅，一头柔软的卷发，凸额头、塌鼻梁，穿一件红底白点小罩衣，总是不声不响，像个静默的小哲学家似的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、女儿长得像她娘，眼睛长得尤其像。白眼珠鸭蛋清，黑眼珠棋子黑，定神时如清水，闪动时像星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3T05:41:11Z</dcterms:created>
  <dc:creator>Administrator</dc:creator>
  <dc:description/>
  <dc:language>en-US</dc:language>
  <cp:lastModifiedBy>微软用户</cp:lastModifiedBy>
  <dcterms:modified xsi:type="dcterms:W3CDTF">2013-11-09T12:51:36Z</dcterms:modified>
  <cp:revision>21</cp:revision>
  <dc:subject/>
  <dc:title>小四习作练习 人物外貌描写</dc:title>
</cp:coreProperties>
</file>