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A01-662D-49E1-81B2-3F8FCA8E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086-10FE-4899-8CD1-F6E9E7F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7AF-8370-4A1C-8D32-762853F3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AAE-80BB-4516-8634-A73C20D7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F6F-9330-4CEB-92DD-1E3FF671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4B1-18AB-4BAD-A03A-E1A44BEE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96B-335C-4C57-91F3-50165D8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F4D-3DD5-4D73-8155-C7E3194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D85-E375-4E31-A8F3-CD93606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15A-1B7A-4D8D-BD87-C0A4151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8C1-9218-4C0B-BBB7-80E31B7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DC9-A8CF-4380-A333-0A143D9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9CB-F643-40A3-BD53-A095B6EC2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三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黄河之水天上来》告诉我们黄河无私地滋润着两岸的土地，养育着世世代代的炎黄子孙，警醒人们要（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05360"/>
            <a:ext cx="61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爱惜黄河，保护自然生态环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16280"/>
            <a:ext cx="604836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长江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黄河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013360"/>
            <a:ext cx="504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保护母亲河的宣传语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1417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母亲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19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江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060640"/>
            <a:ext cx="27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峡之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诗二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93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黄河之水天上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后的淇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长江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68720" y="1844280"/>
            <a:ext cx="961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97360"/>
            <a:ext cx="21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胡宏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长江之歌》共两段，第一段重在（      ），第二段重在（      ）。诗人把“长江”比喻成（      ），表达了诗人对长江的（                       ）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637000"/>
            <a:ext cx="136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写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2846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05360"/>
            <a:ext cx="10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653000"/>
            <a:ext cx="47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爱、赞美、依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60720" y="907920"/>
            <a:ext cx="244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《三峡之秋》按（        ）顺序描写了三峡在一天中不同时间的景色特点：早晨的三峡是（         ）的，中午的三峡是（         ）的，下午 的三峡又是（        ）的，而入夜时的三峡却是（        ）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92280"/>
            <a:ext cx="158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773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明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2766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852640"/>
            <a:ext cx="208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平静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3357720"/>
            <a:ext cx="151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宁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36572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长江三峡秋天的景色很美，你能说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描写秋天景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词语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最后的淇淇》告诉我们：不能容纳白鳍豚生存的长江，最终也必将不能容纳人类的生存。保护长江，保护像白鳍豚一样的珍惜动物，就是（                   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护我们人类自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10-05-13T06:17:55Z</dcterms:modified>
  <cp:revision>25</cp:revision>
  <dc:subject/>
  <dc:title>温故而知新</dc:title>
</cp:coreProperties>
</file>