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BF3AB-9412-40E1-B187-696D36C8F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874B9-8F8B-4F23-ACFA-E78BD4ACD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5E6CC-353F-4FC8-A987-A037D2BA8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5134A-61F4-4A85-9EE5-2D7F92709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B804C-4D6F-4665-A82B-CEC2175D6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34B7B-E456-45B0-A99F-1DD32A6F4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5F274-9876-4CDB-B72D-D4591B359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C8363-F04C-4113-A76D-068340CD3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6C81A-C0CC-4FB8-8980-6DF38B976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0533A-9563-4EAC-8895-E7632F340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09927-F23B-4D42-B641-14657E2DD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1BA95-DE18-4F91-9E77-1B3FB1F54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3B16B-5732-44CA-9E11-C8A63AFBDAD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" Target="slide6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4.xm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476360" y="1844640"/>
            <a:ext cx="74167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84360" y="2492280"/>
            <a:ext cx="8208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8000" spc="-1" strike="noStrike">
                <a:solidFill>
                  <a:srgbClr val="ff0000"/>
                </a:solidFill>
                <a:latin typeface="Arial"/>
              </a:rPr>
              <a:t>第三单元复习课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356000" y="4724280"/>
            <a:ext cx="431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棠外附小：李春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539640" y="620640"/>
            <a:ext cx="828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《黄河之水天上来》告诉我们黄河无私地滋润着两岸的土地，养育着世世代代的炎黄子孙，警醒人们要（                             ）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835280" y="4005360"/>
            <a:ext cx="61927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0000"/>
                </a:solidFill>
                <a:latin typeface="Arial"/>
              </a:rPr>
              <a:t>爱惜黄河，保护自然生态环境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3432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195640" y="1268280"/>
            <a:ext cx="296208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Arial"/>
                <a:ea typeface="方正舒体"/>
              </a:rPr>
              <a:t>第三关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484000" y="3068640"/>
            <a:ext cx="375444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Arial"/>
                <a:ea typeface="楷体_GB2312"/>
              </a:rPr>
              <a:t>拓展延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Arial"/>
                <a:ea typeface="方正舒体"/>
              </a:rPr>
              <a:t>拓展延伸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971640" y="1916280"/>
            <a:ext cx="6048360" cy="29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赞美长江的诗句：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赞美黄河的诗句：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042920" y="5013360"/>
            <a:ext cx="50418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保护母亲河的宣传语：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771280" y="981000"/>
            <a:ext cx="547236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00"/>
                </a:solidFill>
                <a:latin typeface="Arial"/>
                <a:ea typeface="方正舒体"/>
              </a:rPr>
              <a:t>温故而知新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916360" y="2708280"/>
            <a:ext cx="489744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整体感知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分类复习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拓展延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4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4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5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5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5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5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1619280" y="260280"/>
            <a:ext cx="151272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333399"/>
                </a:solidFill>
                <a:latin typeface="Arial"/>
                <a:ea typeface="方正舒体"/>
              </a:rPr>
              <a:t>谢谢指导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1701720" y="1628640"/>
            <a:ext cx="17046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0" spc="-1" strike="noStrike">
                <a:solidFill>
                  <a:srgbClr val="ff0066"/>
                </a:solidFill>
                <a:latin typeface="Arial"/>
                <a:ea typeface="楷体_GB2312"/>
              </a:rPr>
              <a:t>冢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>
            <a:hlinkClick r:id="rId2" action="ppaction://hlinksldjump"/>
          </p:cNvPr>
          <p:cNvSpPr/>
          <p:nvPr/>
        </p:nvSpPr>
        <p:spPr>
          <a:xfrm>
            <a:off x="1692360" y="1268280"/>
            <a:ext cx="23763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000000"/>
                </a:solidFill>
                <a:latin typeface="Arial"/>
              </a:rPr>
              <a:t>zhǒnɡ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364000" y="6165720"/>
            <a:ext cx="576360" cy="360360"/>
          </a:xfrm>
          <a:prstGeom prst="leftArrow">
            <a:avLst>
              <a:gd name="adj1" fmla="val 50000"/>
              <a:gd name="adj2" fmla="val 3998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1701720" y="1628640"/>
            <a:ext cx="17046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0" spc="-1" strike="noStrike">
                <a:solidFill>
                  <a:srgbClr val="ff0066"/>
                </a:solidFill>
                <a:latin typeface="Arial"/>
                <a:ea typeface="楷体_GB2312"/>
              </a:rPr>
              <a:t>窦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908000" y="1268280"/>
            <a:ext cx="23767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000000"/>
                </a:solidFill>
                <a:latin typeface="Arial"/>
              </a:rPr>
              <a:t>dòu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364000" y="6165720"/>
            <a:ext cx="576360" cy="360360"/>
          </a:xfrm>
          <a:prstGeom prst="leftArrow">
            <a:avLst>
              <a:gd name="adj1" fmla="val 50000"/>
              <a:gd name="adj2" fmla="val 3998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1701720" y="1628640"/>
            <a:ext cx="17046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0" spc="-1" strike="noStrike">
                <a:solidFill>
                  <a:srgbClr val="ff0066"/>
                </a:solidFill>
                <a:latin typeface="Arial"/>
                <a:ea typeface="楷体_GB2312"/>
              </a:rPr>
              <a:t>雉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050920" y="1268280"/>
            <a:ext cx="23767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000000"/>
                </a:solidFill>
                <a:latin typeface="Arial"/>
              </a:rPr>
              <a:t>zhì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364000" y="6165720"/>
            <a:ext cx="576360" cy="360360"/>
          </a:xfrm>
          <a:prstGeom prst="leftArrow">
            <a:avLst>
              <a:gd name="adj1" fmla="val 50000"/>
              <a:gd name="adj2" fmla="val 3998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1701720" y="1628640"/>
            <a:ext cx="17046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0" spc="-1" strike="noStrike">
                <a:solidFill>
                  <a:srgbClr val="ff0066"/>
                </a:solidFill>
                <a:latin typeface="Arial"/>
                <a:ea typeface="楷体_GB2312"/>
              </a:rPr>
              <a:t>舂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692360" y="1268280"/>
            <a:ext cx="23763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000000"/>
                </a:solidFill>
                <a:latin typeface="Arial"/>
              </a:rPr>
              <a:t>chōnɡ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364000" y="6165720"/>
            <a:ext cx="576360" cy="360360"/>
          </a:xfrm>
          <a:prstGeom prst="leftArrow">
            <a:avLst>
              <a:gd name="adj1" fmla="val 50000"/>
              <a:gd name="adj2" fmla="val 3998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1701720" y="1628640"/>
            <a:ext cx="17046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0" spc="-1" strike="noStrike">
                <a:solidFill>
                  <a:srgbClr val="ff0066"/>
                </a:solidFill>
                <a:latin typeface="Arial"/>
                <a:ea typeface="楷体_GB2312"/>
              </a:rPr>
              <a:t>羹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763640" y="1268280"/>
            <a:ext cx="23767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000000"/>
                </a:solidFill>
                <a:latin typeface="Arial"/>
              </a:rPr>
              <a:t>ɡēnɡ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364000" y="6165720"/>
            <a:ext cx="576360" cy="360360"/>
          </a:xfrm>
          <a:prstGeom prst="leftArrow">
            <a:avLst>
              <a:gd name="adj1" fmla="val 50000"/>
              <a:gd name="adj2" fmla="val 3998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771280" y="1773360"/>
            <a:ext cx="532764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00"/>
                </a:solidFill>
                <a:latin typeface="Arial"/>
                <a:ea typeface="方正舒体"/>
              </a:rPr>
              <a:t>温故而知新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3432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195640" y="1268280"/>
            <a:ext cx="296208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Arial"/>
                <a:ea typeface="方正舒体"/>
              </a:rPr>
              <a:t>第一关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484000" y="3068640"/>
            <a:ext cx="375444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Arial"/>
                <a:ea typeface="楷体_GB2312"/>
              </a:rPr>
              <a:t>整体感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116000" y="3141720"/>
            <a:ext cx="1846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  <a:ea typeface="楷体_GB2312"/>
              </a:rPr>
              <a:t>母亲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76720" y="1197000"/>
            <a:ext cx="288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长江之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276720" y="2060640"/>
            <a:ext cx="2752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三峡之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76720" y="2997360"/>
            <a:ext cx="381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古诗二首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933720"/>
            <a:ext cx="381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黄河之水天上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348000" y="4797360"/>
            <a:ext cx="381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最后的淇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771640" y="1557360"/>
            <a:ext cx="576360" cy="3959280"/>
          </a:xfrm>
          <a:custGeom>
            <a:avLst/>
            <a:gdLst>
              <a:gd name="textAreaLeft" fmla="*/ 368280 w 576360"/>
              <a:gd name="textAreaRight" fmla="*/ 576720 w 576360"/>
              <a:gd name="textAreaTop" fmla="*/ 102960 h 3959280"/>
              <a:gd name="textAreaBottom" fmla="*/ 3856320 h 395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3432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195640" y="1268280"/>
            <a:ext cx="296208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Arial"/>
                <a:ea typeface="方正舒体"/>
              </a:rPr>
              <a:t>第二关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84000" y="3068640"/>
            <a:ext cx="375444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Arial"/>
                <a:ea typeface="楷体_GB2312"/>
              </a:rPr>
              <a:t>课文回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162828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Arial"/>
                <a:ea typeface="华文行楷"/>
              </a:rPr>
              <a:t>长江之歌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-468720" y="1844280"/>
            <a:ext cx="9612360" cy="37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67280" y="2997360"/>
            <a:ext cx="21956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胡宏伟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42920" y="404280"/>
            <a:ext cx="6346800" cy="12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Arial"/>
                <a:ea typeface="方正舒体"/>
              </a:rPr>
              <a:t>抢答题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>
            <a:hlinkClick r:id="rId2" action="ppaction://hlinksldjump"/>
          </p:cNvPr>
          <p:cNvSpPr/>
          <p:nvPr/>
        </p:nvSpPr>
        <p:spPr>
          <a:xfrm>
            <a:off x="6012000" y="6093000"/>
            <a:ext cx="431640" cy="287280"/>
          </a:xfrm>
          <a:prstGeom prst="leftArrow">
            <a:avLst>
              <a:gd name="adj1" fmla="val 50000"/>
              <a:gd name="adj2" fmla="val 3756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588000" y="6093000"/>
            <a:ext cx="433440" cy="287280"/>
          </a:xfrm>
          <a:prstGeom prst="rightArrow">
            <a:avLst>
              <a:gd name="adj1" fmla="val 50000"/>
              <a:gd name="adj2" fmla="val 3771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1916280"/>
            <a:ext cx="8136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《长江之歌》共两段，第一段重在（      ），第二段重在（      ）。诗人把“长江”比喻成（      ），表达了诗人对长江的（                       ）的思想感情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195640" y="2637000"/>
            <a:ext cx="13665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0000"/>
                </a:solidFill>
                <a:latin typeface="Arial"/>
              </a:rPr>
              <a:t>写实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042920" y="3284640"/>
            <a:ext cx="14400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0000"/>
                </a:solidFill>
                <a:latin typeface="Arial"/>
              </a:rPr>
              <a:t>抒情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042920" y="4005360"/>
            <a:ext cx="10796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0000"/>
                </a:solidFill>
                <a:latin typeface="Arial"/>
              </a:rPr>
              <a:t>母亲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042920" y="4653000"/>
            <a:ext cx="47530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0000"/>
                </a:solidFill>
                <a:latin typeface="Arial"/>
              </a:rPr>
              <a:t>热爱、赞美、依恋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060720" y="907920"/>
            <a:ext cx="24480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1280" y="765000"/>
            <a:ext cx="76327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《三峡之秋》按（        ）顺序描写了三峡在一天中不同时间的景色特点：早晨的三峡是（         ）的，中午的三峡是（         ）的，下午 的三峡又是（        ）的，而入夜时的三峡却是（        ）的。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500720" y="692280"/>
            <a:ext cx="15840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0000"/>
                </a:solidFill>
                <a:latin typeface="Arial"/>
              </a:rPr>
              <a:t>时间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276720" y="1773360"/>
            <a:ext cx="15127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0000"/>
                </a:solidFill>
                <a:latin typeface="Arial"/>
              </a:rPr>
              <a:t>明丽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619280" y="2276640"/>
            <a:ext cx="18716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0000"/>
                </a:solidFill>
                <a:latin typeface="Arial"/>
              </a:rPr>
              <a:t>热烈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042920" y="2852640"/>
            <a:ext cx="20876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0000"/>
                </a:solidFill>
                <a:latin typeface="Arial"/>
              </a:rPr>
              <a:t>平静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042920" y="3357720"/>
            <a:ext cx="15112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0000"/>
                </a:solidFill>
                <a:latin typeface="Arial"/>
              </a:rPr>
              <a:t>宁静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55640" y="4365720"/>
            <a:ext cx="741672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长江三峡秋天的景色很美，你能说说</a:t>
            </a:r>
            <a:r>
              <a:rPr b="1" lang="zh-CN" sz="3400" spc="-1" strike="noStrike">
                <a:solidFill>
                  <a:srgbClr val="ff0000"/>
                </a:solidFill>
                <a:latin typeface="Arial"/>
              </a:rPr>
              <a:t>描写秋天景色</a:t>
            </a: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的词语吗？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8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971640" y="692280"/>
            <a:ext cx="7272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《最后的淇淇》告诉我们：不能容纳白鳍豚生存的长江，最终也必将不能容纳人类的生存。保护长江，保护像白鳍豚一样的珍惜动物，就是（                              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619280" y="5084640"/>
            <a:ext cx="658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保护我们人类自己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8T13:47:09Z</dcterms:created>
  <dc:creator>微软用户</dc:creator>
  <dc:description/>
  <dc:language>en-US</dc:language>
  <cp:lastModifiedBy>tw</cp:lastModifiedBy>
  <dcterms:modified xsi:type="dcterms:W3CDTF">2010-05-13T06:17:55Z</dcterms:modified>
  <cp:revision>25</cp:revision>
  <dc:subject/>
  <dc:title>温故而知新</dc:title>
</cp:coreProperties>
</file>