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7BF2-A83A-419B-B70C-4CDB54C0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A7B7-AB11-4340-AED1-982C4736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7B3E-7A7F-4654-BE97-F21838C6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6A84-FE4D-4128-9355-885AF933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D774-4ECE-4CD4-89D4-70827630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0EED-0CCD-48D0-93E4-1335DF6E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8DE7-6A5B-49D2-BB8E-2581A053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0B13-E2D5-4CB9-A3A7-995BD080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57D2-ED72-43BF-BF54-1A64F9FF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0C96-994E-4EB0-BF44-6B5B851F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F80F-898F-4BB5-B19C-38460761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887-EB2A-4252-8566-44174741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A439-E8F7-434C-BF4C-CA6FDF3CAC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y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标题 1" descr=""/>
          <p:cNvPicPr/>
          <p:nvPr/>
        </p:nvPicPr>
        <p:blipFill>
          <a:blip r:embed="rId3"/>
          <a:stretch/>
        </p:blipFill>
        <p:spPr>
          <a:xfrm>
            <a:off x="0" y="981000"/>
            <a:ext cx="8893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8" descr="qingting.jpg"/>
          <p:cNvPicPr/>
          <p:nvPr/>
        </p:nvPicPr>
        <p:blipFill>
          <a:blip r:embed="rId1"/>
          <a:stretch/>
        </p:blipFill>
        <p:spPr>
          <a:xfrm>
            <a:off x="0" y="0"/>
            <a:ext cx="57243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9"/>
          <p:cNvSpPr/>
          <p:nvPr/>
        </p:nvSpPr>
        <p:spPr>
          <a:xfrm>
            <a:off x="5651640" y="1268280"/>
            <a:ext cx="349236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小  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宋 杨万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泉眼无声惜细流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树荫照水爱晴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小荷才露尖尖角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早有蜻蜓立上头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3" descr="zhiyuan.jpg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31417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4" descr="youyuan.jpg"/>
          <p:cNvPicPr/>
          <p:nvPr/>
        </p:nvPicPr>
        <p:blipFill>
          <a:blip r:embed="rId2"/>
          <a:stretch/>
        </p:blipFill>
        <p:spPr>
          <a:xfrm>
            <a:off x="0" y="3284640"/>
            <a:ext cx="4643280" cy="35733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6" descr="jiangshui.jpg"/>
          <p:cNvPicPr/>
          <p:nvPr/>
        </p:nvPicPr>
        <p:blipFill>
          <a:blip r:embed="rId3"/>
          <a:stretch/>
        </p:blipFill>
        <p:spPr>
          <a:xfrm>
            <a:off x="0" y="0"/>
            <a:ext cx="4716360" cy="3284640"/>
          </a:xfrm>
          <a:prstGeom prst="rect">
            <a:avLst/>
          </a:prstGeom>
          <a:ln w="0">
            <a:noFill/>
          </a:ln>
        </p:spPr>
      </p:pic>
      <p:pic>
        <p:nvPicPr>
          <p:cNvPr id="69" name="图片 7" descr="xue.jpg"/>
          <p:cNvPicPr/>
          <p:nvPr/>
        </p:nvPicPr>
        <p:blipFill>
          <a:blip r:embed="rId4"/>
          <a:stretch/>
        </p:blipFill>
        <p:spPr>
          <a:xfrm>
            <a:off x="4643280" y="3222720"/>
            <a:ext cx="45007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4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12920" y="2708280"/>
            <a:ext cx="528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   </a:t>
            </a:r>
            <a:r>
              <a:rPr b="1" i="1" lang="zh-CN" sz="5400" spc="-1" strike="noStrike">
                <a:solidFill>
                  <a:srgbClr val="0000ff"/>
                </a:solidFill>
                <a:latin typeface="隶书"/>
                <a:ea typeface="隶书"/>
              </a:rPr>
              <a:t>古 诗 大 荟 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4"/>
          <p:cNvSpPr/>
          <p:nvPr/>
        </p:nvSpPr>
        <p:spPr>
          <a:xfrm>
            <a:off x="0" y="765000"/>
            <a:ext cx="8388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d0d0d"/>
                </a:solidFill>
                <a:latin typeface="隶书"/>
                <a:ea typeface="隶书"/>
              </a:rPr>
              <a:t>第一组：分别写出描写“春”、“夏”、“秋”、“冬”和“反映儿童情趣”的一句诗。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0" y="2205000"/>
            <a:ext cx="8459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二组：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请你用一句诗来赞美下面的名山、名水、名城、名胜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 flipH="1">
            <a:off x="0" y="386064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三组：分别写出送别和爱国的诗句各两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0" y="494172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第四组：用“日、月、雨、鸟、草”分别写出一句诗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37584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683280" y="2708280"/>
            <a:ext cx="457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ff"/>
                </a:solidFill>
                <a:latin typeface="Arial"/>
                <a:ea typeface="微软简隶书"/>
              </a:rPr>
              <a:t>    </a:t>
            </a:r>
            <a:r>
              <a:rPr b="1" i="1" lang="zh-CN" sz="6600" spc="-1" strike="noStrike">
                <a:solidFill>
                  <a:srgbClr val="0000ff"/>
                </a:solidFill>
                <a:latin typeface="Arial"/>
                <a:ea typeface="微软简隶书"/>
              </a:rPr>
              <a:t>妙  语  连  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3"/>
          <p:cNvSpPr/>
          <p:nvPr/>
        </p:nvSpPr>
        <p:spPr>
          <a:xfrm>
            <a:off x="0" y="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梅，独自傲立于风雪中的顽强精神，自古以来就倍受人们的称赞。请你说出一句古人赞颂梅的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有时候，有的人对自己所处的环境、正在做的事，反而不及旁人清楚，这就是“当局者迷，旁观者清。”宋代诗人苏轼用了一句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人们赞美小草，赞美它具有顽强的生命力，他们常常引用白居易的哪一句诗呢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小明是个顽皮的孩子，六年级的学生还不知道学习的重要性，成天心思不在学习上，请你用学过的诗句劝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六年的同学即将分别，你想送哪句诗来表达对远别好友的深情厚谊。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昨天下午，张老师布置了一道数学思考题。晚上我绞尽脑汁，百思不得其解。就在我“（        ）”时，爸爸走过来，助我一臂之力，经他一点拨，我豁然开朗，真是“（        ）”。于是我很快解开了这道难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7: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＿＿＿＿＿＿＿＿＿＿＿＿＿＿＿＿＿＿＿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８：＿＿＿＿＿＿＿＿＿＿＿＿＿＿＿＿＿＿＿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９：＿＿＿＿＿＿＿＿＿＿＿＿＿＿＿＿＿＿＿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" descr="58551_130200712193ff.jpg"/>
          <p:cNvPicPr/>
          <p:nvPr/>
        </p:nvPicPr>
        <p:blipFill>
          <a:blip r:embed="rId2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0" name="标题 1"/>
          <p:cNvSpPr/>
          <p:nvPr/>
        </p:nvSpPr>
        <p:spPr>
          <a:xfrm>
            <a:off x="-828720" y="549360"/>
            <a:ext cx="7129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华文楷体"/>
                <a:ea typeface="华文楷体"/>
              </a:rPr>
              <a:t>二）课下实践：任选一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内容占位符 2"/>
          <p:cNvSpPr/>
          <p:nvPr/>
        </p:nvSpPr>
        <p:spPr>
          <a:xfrm>
            <a:off x="0" y="1123920"/>
            <a:ext cx="8991720" cy="57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0" y="2565360"/>
            <a:ext cx="914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：回家尝试把你原来的作文，恰当引用诗句，你一定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发现，别有一番滋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：选一首古诗，创编成一个新意的故事，你一定会感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古诗也挺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隶书"/>
                <a:ea typeface="隶书"/>
              </a:rPr>
              <a:t>：唱一唱，你会发现这也是一种识记古诗的好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隶书"/>
                <a:ea typeface="隶书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24000" y="333360"/>
            <a:ext cx="81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i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吟诗作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0" y="3068640"/>
            <a:ext cx="939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登鹳雀楼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王之涣：白日依山尽，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望庐山瀑布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李白：日照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—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早发白帝城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李白：朝辞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两岸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—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村居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高鼎：草长莺飞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————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0" y="1268280"/>
            <a:ext cx="88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（一）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吟一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四时田园杂兴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别董大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送元二使安西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0" y="836640"/>
            <a:ext cx="10044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0" y="333360"/>
            <a:ext cx="845172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对一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⑴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好雨知时节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⑵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水光潋滟晴方好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⑶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墙角数枝梅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⑷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王师北定中原日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0" y="2997360"/>
            <a:ext cx="8893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⑸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国破山河在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⑹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横看成岭侧成峰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⑺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借问酒家何处寻，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⑻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春色满园关不住：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—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⑼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____________________________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⑽——————————————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内容占位符 5" descr=""/>
          <p:cNvPicPr/>
          <p:nvPr/>
        </p:nvPicPr>
        <p:blipFill>
          <a:blip r:embed="rId1"/>
          <a:stretch/>
        </p:blipFill>
        <p:spPr>
          <a:xfrm>
            <a:off x="-177840" y="-136440"/>
            <a:ext cx="9321840" cy="6994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30600" y="2492280"/>
            <a:ext cx="883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隶书"/>
                <a:ea typeface="隶书"/>
              </a:rPr>
              <a:t>“</a:t>
            </a:r>
            <a:r>
              <a:rPr b="1" lang="zh-CN" sz="4000" spc="-1" strike="noStrike">
                <a:solidFill>
                  <a:srgbClr val="c00000"/>
                </a:solidFill>
                <a:latin typeface="隶书"/>
                <a:ea typeface="隶书"/>
              </a:rPr>
              <a:t>诗可以兴，可以观，可以群，可以怨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隶书"/>
                <a:ea typeface="隶书"/>
              </a:rPr>
              <a:t>                        ——</a:t>
            </a:r>
            <a:r>
              <a:rPr b="1" lang="zh-CN" sz="4000" spc="-1" strike="noStrike">
                <a:solidFill>
                  <a:srgbClr val="c00000"/>
                </a:solidFill>
                <a:latin typeface="隶书"/>
                <a:ea typeface="隶书"/>
              </a:rPr>
              <a:t>孔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375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324000" y="2781360"/>
            <a:ext cx="67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Arial"/>
                <a:ea typeface="微软简隶书"/>
              </a:rPr>
              <a:t>诗中有画，画中有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春江花月夜.mp3" descr=""/>
          <p:cNvPicPr/>
          <p:nvPr/>
        </p:nvPicPr>
        <p:blipFill>
          <a:blip r:embed="rId2"/>
          <a:stretch/>
        </p:blipFill>
        <p:spPr>
          <a:xfrm>
            <a:off x="7956720" y="5732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2" descr="mei.jpg"/>
          <p:cNvPicPr/>
          <p:nvPr/>
        </p:nvPicPr>
        <p:blipFill>
          <a:blip r:embed="rId1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012000" y="981000"/>
            <a:ext cx="3357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墨梅图题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元 王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吾家洗砚池头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个个花开淡墨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要人夸好颜色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只留清气满乾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829800" y="2421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类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2" descr="jingyesi.jpg"/>
          <p:cNvPicPr/>
          <p:nvPr/>
        </p:nvPicPr>
        <p:blipFill>
          <a:blip r:embed="rId1"/>
          <a:stretch/>
        </p:blipFill>
        <p:spPr>
          <a:xfrm>
            <a:off x="0" y="0"/>
            <a:ext cx="57243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5724360" y="836640"/>
            <a:ext cx="3419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静夜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唐 李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床前明月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疑是地上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举头望明月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低头思故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0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829800" y="24210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类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5614920" y="692280"/>
            <a:ext cx="352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望庐山瀑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唐 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日照香炉生紫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遥看瀑布挂前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飞流直下三千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疑是银河落九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5" descr="pubu.jpg"/>
          <p:cNvPicPr/>
          <p:nvPr/>
        </p:nvPicPr>
        <p:blipFill>
          <a:blip r:embed="rId1"/>
          <a:stretch/>
        </p:blipFill>
        <p:spPr>
          <a:xfrm>
            <a:off x="0" y="0"/>
            <a:ext cx="5575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5796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5940360" y="404640"/>
            <a:ext cx="2916360" cy="13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咏  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唐  贺知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碧玉妆成一树高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  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万条垂下绿丝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 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知细叶谁裁出 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                                                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月春风似剪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07:06:34Z</dcterms:created>
  <dc:creator>微软用户</dc:creator>
  <dc:description/>
  <dc:language>en-US</dc:language>
  <cp:lastModifiedBy>tw</cp:lastModifiedBy>
  <dcterms:modified xsi:type="dcterms:W3CDTF">2011-04-28T01:18:06Z</dcterms:modified>
  <cp:revision>95</cp:revision>
  <dc:subject/>
  <dc:title>幻灯片 1</dc:title>
</cp:coreProperties>
</file>