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16B6-96E8-4A19-AF74-FD5FA6F5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29AC-731E-43C0-B3A4-CD15921A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C4CF-BB51-4C19-8953-40AC6311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3D33-D094-4373-B6CD-5DF91DB5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035-533A-4D58-8F7B-6B871D8A8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715-9609-4990-BDB5-E050CDBE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29BA-233B-475D-86CD-235A8D62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66E-A3CB-41AC-A957-1BE71806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AA7-A806-479B-A704-AAA896DD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969D-5221-42C8-8259-87F2B8BD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9AC-1FDF-4390-A6CA-7C7CD797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1389-CA37-4426-AA52-9B297D4F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3023-D194-4575-BC6F-9856234089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七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在本单元中我们认识了小夜莺、雨来两位小英雄，你还知道战争中的哪些小英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小英雄雨来》《狼牙山五壮士》讲的都是同一个时期——抗日战争时期的故事，你还知道哪些这一时期的故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03280" y="2997360"/>
            <a:ext cx="12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战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1192320"/>
            <a:ext cx="2881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十五从军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03440" y="1989000"/>
            <a:ext cx="13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出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781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夜莺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5760" y="3473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小英雄雨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422100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狼牙山五壮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4941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螳螂捕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十五从军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五从军征，八十始得归。道逢乡里人，“家中有阿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遥看是君家，松柏  累累。”兔从狗  入， 从梁上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庭生旅谷，井上生旅葵。  谷持作饭，采葵持作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饭一时熟，不知贻阿谁。出门东向看，泪落沾我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56720" y="1341360"/>
            <a:ext cx="43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Arial"/>
              </a:rPr>
              <a:t>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49720"/>
            <a:ext cx="64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0000"/>
                </a:solidFill>
                <a:latin typeface="Arial"/>
              </a:rPr>
              <a:t>y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16240" y="27432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49800" y="27558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05520" y="27655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9800" y="3691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16680" y="369108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课文中那句能说明从军时间很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老人回家看到怎样的情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哪句诗道出了老人无尽的悲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4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这首诗描写了一位少年从征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6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后返回故里的情景，揭露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60720" y="90792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出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84720" y="191628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708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秦时明月汉时关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8520" y="350028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万里长征人未还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422100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但使龙城飞将在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79680" y="4941720"/>
            <a:ext cx="40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楷体_GB2312"/>
              </a:rPr>
              <a:t>不教胡马度阴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640" y="1557000"/>
            <a:ext cx="439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Arial"/>
                <a:ea typeface="方正舒体"/>
              </a:rPr>
              <a:t>边塞诗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19640" y="3068640"/>
            <a:ext cx="496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昌龄  高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岑参  王之涣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塞下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卢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林暗草惊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将军夜引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平明寻白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没在石棱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0" y="1628640"/>
            <a:ext cx="388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河远上白云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一片孤城万仞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羌笛何须怨杨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春风不度玉门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边塞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凉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王之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葡萄美酒夜光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欲饮琵琶马上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醉卧沙场君莫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古来征战几人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　　从军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　　　　　　王昌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青海长云暗雪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孤城遥望玉门关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黄沙百战穿金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不破楼兰终不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09-12-29T04:02:20Z</dcterms:modified>
  <cp:revision>16</cp:revision>
  <dc:subject/>
  <dc:title>温故而知新</dc:title>
</cp:coreProperties>
</file>