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93B-40E6-47FD-BDB9-BFC01DD3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B44-20BB-42D6-87E8-18F9A2C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2EF-0063-495B-BACE-5E0972EF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C11-4337-4606-82CC-196144D9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6F2-652C-448C-928E-F1BDB63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7C9-6C82-4ACF-99C7-35230A3C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103-072B-443E-B17B-830C0C35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D15-DC9F-44FA-AE30-CA33600B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33F-617A-43D7-A5B5-940F22F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D26-0BD5-4D7D-81CC-7B9CD9F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905-9BEA-4604-A9D3-6058E3D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894-8F5D-42B9-90BA-4B76FDF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149E-1A95-4239-930F-94DC0DAF0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七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本单元中我们认识了小夜莺、雨来两位小英雄，你还知道战争中的哪些小英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小英雄雨来》《狼牙山五壮士》讲的都是同一个时期——抗日战争时期的故事，你还知道哪些这一时期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9973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192320"/>
            <a:ext cx="288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十五从军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3440" y="19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出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7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夜莺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5760" y="3473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英雄雨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2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狼牙山五壮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941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螳螂捕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十五从军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五从军征，八十始得归。道逢乡里人，“家中有阿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看是君家，松柏  累累。”兔从狗  入， 从梁上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庭生旅谷，井上生旅葵。  谷持作饭，采葵持作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饭一时熟，不知贻阿谁。出门东向看，泪落沾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341360"/>
            <a:ext cx="43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49720"/>
            <a:ext cx="64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6240" y="2743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27558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05520" y="2765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9800" y="369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6680" y="369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课文中那句能说明从军时间很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回家看到怎样的情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句诗道出了老人无尽的悲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首诗描写了一位少年从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后返回故里的情景，揭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0720" y="9079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出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708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秦时明月汉时关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8520" y="3500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万里长征人未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22100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但使龙城飞将在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9680" y="494172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不教胡马度阴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3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方正舒体"/>
              </a:rPr>
              <a:t>边塞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640" y="3068640"/>
            <a:ext cx="496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昌龄  高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岑参  王之涣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塞下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卢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河远上白云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片孤城万仞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羌笛何须怨杨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春风不度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葡萄美酒夜光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欲饮琵琶马上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醉卧沙场君莫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古来征战几人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从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　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青海长云暗雪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孤城遥望玉门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沙百战穿金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09-12-29T04:02:20Z</dcterms:modified>
  <cp:revision>16</cp:revision>
  <dc:subject/>
  <dc:title>温故而知新</dc:title>
</cp:coreProperties>
</file>