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CF3-F956-43D8-A2AB-66DDCD5C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E5A0-C2F3-4A9B-9CBD-C17D64ED7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32E-F5E4-428A-8DF9-ECDFE1B7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36E-5940-42A2-97C5-DAF8F5DC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1EBC-CE9A-40EA-9CEA-684DCAC0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FBE0-5B21-4A62-B28F-9CD6A8CE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3B2-4D78-4BC6-9B09-B4A9CEBC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109-FFCB-41F5-86BF-DD9BDD6C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24F-DBDA-4D9B-B2F2-38605192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AF6-6CD9-45A7-A0CA-0937E606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7C5-69F1-40E1-9DFC-2CEE5C82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C2F-6B5A-474F-ADB1-9C1F93E9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4C93-DA71-4FB2-B906-9108E91094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300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双流县九江小学      刘昕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23560"/>
            <a:ext cx="691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点亮人生的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方正楷体简体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方正楷体简体"/>
              </a:rPr>
              <a:t>名言警句复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勤俭节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55640" y="220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看到邱少云、董存瑞、黄继光这几个名字，我脑海中就会浮现这样的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5280" y="206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教室，我看到墙上有这句名言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68360" y="1294920"/>
            <a:ext cx="6480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温馨小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请孩子们先圈出情境中的关键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写出合适的名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468080"/>
            <a:ext cx="626436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面对困难，有的人退缩不前，我会用这样的话激励他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告诉我们做人要讲诚信，让我想到了这句话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老师语重心长地告诉我，学习应该做到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爸爸教育我要珍惜时间时经常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00000" y="1948320"/>
            <a:ext cx="5977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们选择自己喜欢的名言，创设一个情境，注意抓住名言中的关键词来创设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755640" y="1628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半命题作文：一件（      ）的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62064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命题作文：尊敬的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2708280"/>
            <a:ext cx="62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话题作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孩子们通过六年的学习已经看了不少的书籍，请自拟题目写写读书的经历，或自己最喜欢的一本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32918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名言，就是指为人类发展做出贡献的，富有知识的名人所说的一句较为出名的话。这句话向人们揭示一定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76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什么是名言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2109240"/>
            <a:ext cx="626436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轮流说名言，一组说一句，内容不定，不重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以小组为单位计分，每组一轮记一分，如此循环，未说出名言则不得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33336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接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404640"/>
            <a:ext cx="41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名言对对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1773360"/>
            <a:ext cx="61927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规则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男女生为单位，女生说出名言上句，男生接下句，以此交换互考对方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声音洪亮，口齿清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习作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7640" y="54936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情境中巧用名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2565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在指导我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习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经常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男儿之志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42920" y="2708280"/>
            <a:ext cx="53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父亲鼓励要有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男儿之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4360" y="227664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师教育我们要勤俭节约时经常说：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3:40:39Z</dcterms:created>
  <dc:creator>admin</dc:creator>
  <dc:description/>
  <dc:language>en-US</dc:language>
  <cp:lastModifiedBy>Windows 用户</cp:lastModifiedBy>
  <dcterms:modified xsi:type="dcterms:W3CDTF">2014-04-17T00:00:06Z</dcterms:modified>
  <cp:revision>87</cp:revision>
  <dc:subject/>
  <dc:title>幻灯片 1</dc:title>
</cp:coreProperties>
</file>