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B3B-90E9-4DAF-887A-E8118F1A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2BB-553C-419D-8930-5ADB3882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697-A788-4EBF-970E-FFDA2A03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2F0-A4F5-4974-AD5D-5D124029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579-C537-4673-B756-F7ED6091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075-2249-44EB-8C46-5C90C97B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C6B-8826-430A-975B-EDD89566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F39-BC4C-4D41-9650-472F719B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417-0BE9-47A4-8D81-34DD292D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4B2-5402-41DC-8575-2F097D3C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D90-CBC6-42C7-9D35-1F448A16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779-EA01-4C1D-B4D3-5BA6A81F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6A19-F2A0-4283-AD91-289BDF1675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300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双流县九江小学      刘昕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23560"/>
            <a:ext cx="69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点亮人生的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名言警句复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4360" y="2276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教育我们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勤俭节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经常说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2205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看到邱少云、董存瑞、黄继光这几个名字，我脑海中就会浮现这样的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5280" y="2060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进教室，我看到墙上有这句名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8360" y="1294920"/>
            <a:ext cx="6480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温馨小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请孩子们先圈出情境中的关键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写出合适的名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468080"/>
            <a:ext cx="62643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面对困难，有的人退缩不前，我会用这样的话激励他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老师告诉我们做人要讲诚信，让我想到了这句话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老师语重心长地告诉我，学习应该做到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爸爸教育我要珍惜时间时经常说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1948320"/>
            <a:ext cx="5977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选择自己喜欢的名言，创设一个情境，注意抓住名言中的关键词来创设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1628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半命题作文：一件（      ）的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6206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题作文：尊敬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708280"/>
            <a:ext cx="62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话题作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们通过六年的学习已经看了不少的书籍，请自拟题目写写读书的经历，或自己最喜欢的一本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32918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谓名言，就是指为人类发展做出贡献的，富有知识的名人所说的一句较为出名的话。这句话向人们揭示一定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76500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什么是名言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109240"/>
            <a:ext cx="62643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规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小组为单位轮流说名言，一组说一句，内容不定，不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小组为单位计分，每组一轮记一分，如此循环，未说出名言则不得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声音洪亮，口齿清楚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33336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言接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404640"/>
            <a:ext cx="41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言对对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773360"/>
            <a:ext cx="61927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规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男女生为单位，女生说出名言上句，男生接下句，以此交换互考对方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声音洪亮，口齿清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2565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在指导我们习作时经常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54936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情境中巧用名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2565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在指导我们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习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经常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2920" y="2708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亲鼓励要有男儿之志时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2708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亲鼓励要有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男儿之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4360" y="2276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教育我们要勤俭节约时经常说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3:40:39Z</dcterms:created>
  <dc:creator>admin</dc:creator>
  <dc:description/>
  <dc:language>en-US</dc:language>
  <cp:lastModifiedBy>Windows 用户</cp:lastModifiedBy>
  <dcterms:modified xsi:type="dcterms:W3CDTF">2014-04-17T00:00:06Z</dcterms:modified>
  <cp:revision>87</cp:revision>
  <dc:subject/>
  <dc:title>幻灯片 1</dc:title>
</cp:coreProperties>
</file>