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3AE-ED9F-418B-ABFB-990A9ED4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7CA-9C23-4C90-869A-DFE537DB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859-E888-4754-8B63-870F6D63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047-7A6B-4184-83D7-E79AAEDA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2D6F-CE7F-49E9-AC8C-8014E7EB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A7EF-6C22-49FC-A646-1F536ADB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B06F-1966-4995-BC4A-473FF545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F4F0-9935-448E-91EC-BEA802F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6B90-572C-4422-B6B3-12157BE7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CAE0-41A3-4970-B96E-E53BF8AB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169C-DF2C-4C4D-AE5F-505D1BC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062-E565-4922-9302-979B3FB9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3A18-D6FE-4602-919C-BCAE009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D3FF-DC58-4F32-896C-CD34B5DE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6404-753E-4370-9E60-BCB8DBD5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E35E-67EC-4894-82F9-56C9C158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7CB5-4D23-47F1-8217-F3B1D1FD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DB5-295C-4BBC-A12B-C9FA13E5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9ED-B031-4854-A4AD-8520D241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BC9-A28C-4564-BEA7-6138D13E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7A8-5FDF-46B1-B610-24A8A2C5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F9D-E5AD-4173-A999-7F41D967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A95-5954-4522-BA71-33F6BFE0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63B-5219-44BF-8F56-014E4E0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AFB5-B8CD-4CC0-8674-A6CF0FE476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ADE3-7766-4A00-B771-943DCB9805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973440" y="981000"/>
            <a:ext cx="7777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品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故事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85840" y="2997360"/>
            <a:ext cx="7058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习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标点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省略号的用法，并选择正确的答案。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的断断续续。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列举的省略。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或思考的中断。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语意未尽，让人思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是……太太……我不知道……你一定是认错了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都有：稻鸡、角鸡、鹁鸪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来如此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她忐忑不安地想：“他会说什么呢？这是闹着玩的吗？自己的五个孩子已经够他受的了……是他来啦？……不，还没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把他们抱过来啊？……他会揍我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也活该，我自作自受。” （   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956720" y="2349360"/>
            <a:ext cx="28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867280" y="270828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132000" y="3141720"/>
            <a:ext cx="28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635280" y="458136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4250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山重水复疑无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柳暗花明又一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来开开眼界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700"/>
                            </p:stCondLst>
                            <p:childTnLst>
                              <p:par>
                                <p:cTn id="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4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有趣的标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4000" y="1386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朝大诗人杜牧写过一首题为《清明》的绝句，原诗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纷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路上行人欲断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首脍炙人口的唐诗，有人只改动了一下标点符号，竟把它变成了一首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的小令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，纷纷路上行人。欲断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？有牧童，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果将标点符号再作改动，这首诗还可以变成一出精制的小短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时间：清明时节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布景：雨纷纷。 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地点：路上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行人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欲断魂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遥指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杏花村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由于标点符号的不同，一首诗竟发生了这么多变化，多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有趣呀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祝枝山的玩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明朝的祝枝山，有一次曾同人开过这样一个玩笑。新春佳节的时候，祝枝山路过一户富人家的门前，见到朱漆的大门上贴着一张红纸。他想了想，就叫人拿来笔墨，在上面写了十二个大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今年真好晦气全无财帛进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家主人出来一看，顿时脸色铁青。他想这不分明是触我的霉头吗？于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要就动手打祝枝山。而祝枝山却对他笑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慌不忙地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明明写的是好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自己看不懂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就用笔点了几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主人见了，不禁转怒为喜，连声称好。这是何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晦气，全无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，晦气全无，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究竟谁是冠军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次，上海足球队对垒广州足球队。比赛后，一位记者便连夜赶写了一篇新闻报道，并且用了一个醒目的标题“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得了冠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结果，有读者说是上海队胜了，有读者说是广东队胜了，你能为两方读者找出各自的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上海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，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广东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，广东队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给句子加标点，使句子意思与括号中的要求相符。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12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陈述二人都参加演出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、李燕参加演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000" spc="-1" strike="noStrike">
                <a:solidFill>
                  <a:srgbClr val="0d2fd7"/>
                </a:solidFill>
                <a:latin typeface="Arial"/>
              </a:rPr>
              <a:t>（王红告诉别人，李燕参加演出了）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王红喊李燕参加演出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，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李燕喊王红参加演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 ”，李燕：“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42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一鼓作气，再而衰，三而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再来挑战一下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200"/>
                            </p:stCondLst>
                            <p:childTnLst>
                              <p:par>
                                <p:cTn id="7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巧问妙答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8748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国著名作家雨果完成了《悲惨世界》的手稿后，将其寄给了出版社，好久不闻讯息，于是，他给出版社写了一封信，内容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出版社很快回了信，内容也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不久，《悲惨世界》出版，轰动了整个欧洲文坛，而这“标点书信”的轶事也就流传至今，脍炙人口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雨果和出版社之间的“标点书信”妙就妙在别出心裁，巧用问号和感叹号的修辞功能来传递信息，“尽在不言中”，极其含蓄，耐人寻味。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试试你有做心理学家的潜质吗？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心理学家巴尔肯曾在一青年人的聚会上，叫与会者每人写一篇简短的自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个年轻人满脸沮丧地交给他一份自传，上面只有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———）（！）（。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年轻人凄然地解释，一阵横冲直撞，落个伤心自叹，到头来只有完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尔肯听了，不以为然，立即在这个自传上加了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、）（……）（？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非常有效地鼓励了这个自暴自弃的青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这三个标点有何深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青年时期是人生的一个小站，道路漫长，希望无边，岂不闻浪子回头金不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挑战自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962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近山西省作家胡文亮历时一年创作了一篇名为《。》的无字小说，目前他准备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悬赏小说破译者。该小说共分五段，全文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标点符号：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？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：！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“ ‘……’ ”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（、）•《，》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；——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亲爱的同学，你能够得到这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万元的悬赏金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标点符号的种类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点符号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，这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国家语委和新闻出版署重新颁布的《标点符号用法》的最新数字。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问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叹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逗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分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冒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引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“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括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（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破折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省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……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《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连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间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· </a:t>
            </a:r>
            <a:r>
              <a:rPr b="1" lang="zh-CN" sz="40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着重号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专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操千曲而后晓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观千剑而后识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课后再接再厉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00"/>
                            </p:stCondLst>
                            <p:childTnLst>
                              <p:par>
                                <p:cTn id="7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400"/>
                            </p:stCondLst>
                            <p:childTnLst>
                              <p:par>
                                <p:cTn id="7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经典空叠圆简"/>
              </a:rPr>
              <a:t>标点符号歌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692000" y="1197000"/>
            <a:ext cx="60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很重要，组成文章不可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用哪种小符号，都要认真来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思未完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逗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句完了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怒哀乐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感叹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提出问题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问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列词语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顿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列分句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分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下文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冒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话引用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引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文名称要标明，前后加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书名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意思要省掉，可以加个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省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折解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破折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示注释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括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用准确，文章清楚都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纸上得来终觉浅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绝知此事要躬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练一练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0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你能准确给句子加标点吗？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896400"/>
            <a:ext cx="874872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推开门一看   嗬   好大的雪啊    山川    树木    房屋   全部罩上了一层厚厚的雪    万里江山变成了粉妆玉砌的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女教师走到小道格拉斯       一个皮肤棕黑色    又瘦又小   头发卷曲的孩子桌前   弯腰低头问他     能告诉我你画的是谁的手吗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没有了大人的训斥    牧师的教诲     法官的威严    老师的惩罚    有的是沙滩    草地    树林    鸟儿   松鼠    蝴蝶          他们无忧无虑    无拘无束   这里简直是一片乐土   净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妈妈和我去书店买书    她买了    读者    和     电脑报     我选了一本   格林童话选    和一本   阿里巴巴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70036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16436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29272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484360" y="436572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932360" y="29242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03280" y="299736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740720" y="2565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716360" y="1557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32000" y="6093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140360" y="57340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67564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435640" y="981000"/>
            <a:ext cx="7308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64000" y="5013360"/>
            <a:ext cx="14436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348000" y="981000"/>
            <a:ext cx="7164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924360" y="3213000"/>
            <a:ext cx="21600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588000" y="1125360"/>
            <a:ext cx="14472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716360" y="436572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78000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244000" y="3933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4036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67640" y="112536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116000" y="479736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411280" y="522936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885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77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79600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7672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0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58000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596360" y="558972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65964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692360" y="638172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6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763640" y="2060640"/>
            <a:ext cx="14436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50920" y="6524640"/>
            <a:ext cx="14472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195640" y="4724280"/>
            <a:ext cx="7207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……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427640" y="2492280"/>
            <a:ext cx="64908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——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7308720" y="2924280"/>
            <a:ext cx="7164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：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24720" y="278136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“</a:t>
            </a:r>
            <a:endParaRPr b="0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284720" y="314172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”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71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有误的一项是：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洞的正中，用朱漆写着三个大字——“逍遥宫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陆游，字务观，号放翁，山阴（今浙江绍兴）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可以肯定地告诉你，我国姓王的人接近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380360" y="33336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73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正确的一项是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前可能因为年龄小，不知道珍惜时间，现在我才体会到“一寸光阴一寸金，寸金难买寸光阴。”这句话的真正含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当疼痛发作，他就采用自己的“压迫止痛法”——用茶壶盖、烟嘴、玻璃球、牙刷把……顶住疼痛的部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不是和你说着玩儿。”洪民一本正经地说，“如果你能出山，咱们一起想办法，这事准能完成”。 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380360" y="47628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引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直接引用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说的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特定含义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否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万众一心，冒着敌人的炮火，前进！……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雄壮的歌声在蓝天回荡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这种“聪明人”是让人瞧不起的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真是太“好”了，连这种事都能做出来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沈老师说过：“我不相信一个文盲能成为社会的栋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”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076720" y="306864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050920" y="508464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885080" y="4149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77080" y="364500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破折号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解释说明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转折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的递进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音的中止、停顿或延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嘟——”一声汽笛长鸣，客轮离开了南京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真冷——你怎么来了？”李主任猛一抬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就是我——一个少先队员的回答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我深深地知道——人的身躯怎能从狗洞里爬出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8028000" y="2997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692360" y="5373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71640" y="393372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948360" y="443700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18Z</dcterms:created>
  <dc:creator>风之客</dc:creator>
  <dc:description/>
  <dc:language>en-US</dc:language>
  <cp:lastModifiedBy>风之客</cp:lastModifiedBy>
  <dcterms:modified xsi:type="dcterms:W3CDTF">2008-04-02T07:59:45Z</dcterms:modified>
  <cp:revision>33</cp:revision>
  <dc:subject/>
  <dc:title>标点符号</dc:title>
</cp:coreProperties>
</file>