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B342-3B42-4D0F-AA3C-474C74769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0E5B-045D-49C9-8F11-53837200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98D6-3A33-463D-986A-49DED0B0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680-FD14-426E-8F32-64E5C98F7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7486-0FEC-4422-857D-716CD17D6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47C-2046-4D76-968E-45A8608D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1CD2-66D5-4B32-9D02-A8A59718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9867-1713-4E1D-97BF-A0211F8D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786A-6061-420F-A2B3-532C844B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0EE8-ED14-44C0-964B-676555CF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DAB5-491C-4D17-81ED-61666FA9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EC3-7B9B-4241-9AC4-97AF707D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4904-CD4E-4F65-B138-88A91202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EF47-9B62-4602-A32C-27A19308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FE99-EBE4-48AD-8B6C-4DD2DEA8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DD37-96CB-40D9-9A37-76FA1C4C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D05C-71B9-46F0-A8A0-54A8D7F2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03F-B086-4BC5-AB5A-E95B214E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0490-ED4E-4CC9-A079-4F854EDE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77BE-6B41-4EC2-A76B-52D79E96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62064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A729-273D-464C-AA71-0717AAEA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DFA-94B0-4F4C-AA5F-F118B7A9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49A-E5B1-4BBE-8EE2-E9CDF603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379-0B9F-4316-984F-2CBD1A9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CF8A-316E-42F1-966B-DE003CF25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5副本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00B5-CBA7-4BFB-9A8C-04C36155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00000" y="1773360"/>
            <a:ext cx="89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方正宋黑简体"/>
                <a:ea typeface="方正宋黑简体"/>
              </a:rPr>
              <a:t>写人习作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22680" y="508464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西航港小学     邓阳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四关：人物形象刻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914256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小组讨论交流交流课前搜集的资料，总结提炼方法</a:t>
            </a:r>
            <a:r>
              <a:rPr b="1" lang="en-US" sz="36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一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外貌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二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语言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三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动作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四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神态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  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第五组以</a:t>
            </a:r>
            <a:r>
              <a:rPr b="1" lang="zh-CN" sz="2800" spc="-1" strike="noStrike">
                <a:solidFill>
                  <a:srgbClr val="ff0000"/>
                </a:solidFill>
                <a:latin typeface="方正小标宋简体"/>
                <a:ea typeface="方正小标宋简体"/>
              </a:rPr>
              <a:t>心理描写</a:t>
            </a:r>
            <a:r>
              <a:rPr b="1" lang="zh-CN" sz="2800" spc="-1" strike="noStrike">
                <a:solidFill>
                  <a:srgbClr val="6600cc"/>
                </a:solidFill>
                <a:latin typeface="方正小标宋简体"/>
                <a:ea typeface="方正小标宋简体"/>
              </a:rPr>
              <a:t>为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3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五关：名言运用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命题及名言运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34920" y="2276640"/>
            <a:ext cx="903456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3600" spc="-1" strike="noStrike" u="sng">
                <a:solidFill>
                  <a:srgbClr val="6600cc"/>
                </a:solidFill>
                <a:uFillTx/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在你的成长经历中，有无数的人给你温暖、快乐、幸福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激之情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1045080" y="2349000"/>
            <a:ext cx="9253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            </a:t>
            </a:r>
            <a:r>
              <a:rPr b="1" lang="zh-CN" sz="14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一关：温故知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989000"/>
            <a:ext cx="9396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白衣天使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    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包公审驴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当代神农氏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西门豹治邺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金色的鱼钩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《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成吉思汗和鹰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619280" y="21427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二关：审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一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我这个人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母爱伴我成长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忘不了你，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（填人物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一个</a:t>
            </a:r>
            <a:r>
              <a:rPr b="1" lang="zh-CN" sz="4400" spc="-1" strike="noStrike" u="sng">
                <a:solidFill>
                  <a:srgbClr val="6600cc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的人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题目二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在你的成长经历中，有无数的人给你温暖、快乐、幸福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6600cc"/>
                </a:solidFill>
                <a:latin typeface="Arial"/>
              </a:rPr>
              <a:t>怀着一颗感恩的心，回忆起这其中的点点滴滴，你的心里一定充满了感激。你最想感谢的人是谁？赶快拿起笔表达你对他（她）的感谢之情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835280" y="2420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第三关：选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68544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勤快，家里的家务全包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工作很负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题目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母爱伴我成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75672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特别喜欢唠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每天即使再晚也要认真检查我的作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经常用各种方式和我聊天谈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妈妈对我犯的错“零容忍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、我生病了，妈妈背我去看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04:36:58Z</dcterms:created>
  <dc:creator>ASUS</dc:creator>
  <dc:description/>
  <cp:keywords/>
  <dc:language>en-US</dc:language>
  <cp:lastModifiedBy>Windows 用户</cp:lastModifiedBy>
  <dcterms:modified xsi:type="dcterms:W3CDTF">2014-04-16T16:00:2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17</vt:lpwstr>
  </property>
</Properties>
</file>