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092-878D-42FA-A5A7-D9E3A7CC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493-B714-4DB3-88FC-318DE49A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A69-D20A-42BF-8676-EA9F7CF3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733-0FF4-4D41-91F4-91D79139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760-544E-430B-8DA6-8E291969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1C76-E33D-411E-9D06-6E42BA48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01C-208D-46B7-A5E9-CA408D07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898-A76A-4527-BD72-898B2050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774-EFC4-48AE-9F43-56045A06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C49-6376-475B-BE6A-5281953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64F-7794-4EFE-9B7D-5930527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6F1-5897-44A1-B8E9-8DE0D9A4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DCE8-2D72-4CD4-B6CD-4A9CEFDB71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300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双流县九江小学      刘昕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356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点亮人生的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名言警句复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勤俭节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2205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看到邱少云、董存瑞、黄继光这几个名字，我脑海中就会浮现这样的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2060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进教室，我看到墙上有这句名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1294920"/>
            <a:ext cx="6480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温馨小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孩子们先圈出情境中的关键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出合适的名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468080"/>
            <a:ext cx="6264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面对困难，有的人退缩不前，我会用这样的话激励他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告诉我们做人要讲诚信，让我想到了这句话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语重心长地告诉我，学习应该做到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爸爸教育我要珍惜时间时经常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1948320"/>
            <a:ext cx="5977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选择自己喜欢的名言，创设一个情境，注意抓住名言中的关键词来创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628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命题作文：一件（      ）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20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题作文：尊敬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08280"/>
            <a:ext cx="62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话题作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通过六年的学习已经看了不少的书籍，请自拟题目写写读书的经历，或自己最喜欢的一本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32918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谓名言，就是指为人类发展做出贡献的，富有知识的名人所说的一句较为出名的话。这句话向人们揭示一定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765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什么是名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109240"/>
            <a:ext cx="6264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轮流说名言，一组说一句，内容不定，不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计分，每组一轮记一分，如此循环，未说出名言则不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33336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接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404640"/>
            <a:ext cx="41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对对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773360"/>
            <a:ext cx="6192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男女生为单位，女生说出名言上句，男生接下句，以此交换互考对方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习作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5493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情境中巧用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习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男儿之志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男儿之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勤俭节约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3:40:39Z</dcterms:created>
  <dc:creator>admin</dc:creator>
  <dc:description/>
  <dc:language>en-US</dc:language>
  <cp:lastModifiedBy>Windows 用户</cp:lastModifiedBy>
  <dcterms:modified xsi:type="dcterms:W3CDTF">2014-04-17T00:00:06Z</dcterms:modified>
  <cp:revision>87</cp:revision>
  <dc:subject/>
  <dc:title>幻灯片 1</dc:title>
</cp:coreProperties>
</file>