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016-2B88-4810-9034-D80B1979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04D-D131-4A08-911E-2F5881F5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F19-6FAA-47C3-8F44-8B63DA74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DCC-AF4B-4D79-89F8-3843A6CD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EE8A-E49D-4102-9390-0403CE31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8745-3FAB-4F2B-B056-7E6780EA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1DC6-B36C-4419-A40A-865FA2A5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353E-8287-415C-B556-B1D1E545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E204-6DCA-4357-8F8F-BA142847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2EC7-1662-4504-8517-37BBB2AA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4882-0DE2-45F3-9A95-B42BDDB9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F8B-8DEF-4006-A187-01CC039F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7A71-3C13-437B-94BB-41BB6191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67F9-FCA9-47DE-9DE7-E24F7B55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8F14-3F13-4472-A34D-D52C0965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42E8-4A62-4397-B5C0-6AC073B3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4554-5711-43F3-AD94-86C91432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41D-0C84-48A3-B96F-BAA9C29F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5FB-3C11-4E81-B852-3C83D16A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1DE5-83DC-47E3-BCDB-79C339F0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5795-EA50-40AC-A0B4-D612C321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28A6-D1D3-4EF9-A89B-89C2ABBF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C94-46FD-4DAD-9F61-8F38F03A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2BF1-812A-49BD-8C78-7CB67EB9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0688-4047-4D3D-8058-4CE94C68E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5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F2DE-2785-405C-B17F-96CF2589C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00000" y="1773360"/>
            <a:ext cx="8964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写人习作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22680" y="508464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西航港小学     邓阳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1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四关：人物形象刻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25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小组讨论交流交流课前搜集的资料，总结提炼方法</a:t>
            </a:r>
            <a:r>
              <a:rPr b="1" lang="en-US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一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外貌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二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语言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三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动作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四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神态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五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心理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五关：名言运用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命题及名言运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4920" y="2276640"/>
            <a:ext cx="903456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6600cc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3600" spc="-1" strike="noStrike" u="sng">
                <a:solidFill>
                  <a:srgbClr val="6600cc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在你的成长经历中，有无数的人给你温暖、快乐、幸福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激之情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1045080" y="2349000"/>
            <a:ext cx="9253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            </a:t>
            </a:r>
            <a:r>
              <a:rPr b="1" lang="zh-CN" sz="1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一关：温故知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989000"/>
            <a:ext cx="93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白衣天使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    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包公审驴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当代神农氏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西门豹治邺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金色的鱼钩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成吉思汗和鹰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19280" y="21427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二关：审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我这个人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母爱伴我成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忘不了你，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填人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在你的成长经历中，有无数的人给你温暖、快乐、幸福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谢之情吧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835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三关：选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6854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勤快，家里的家务全包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工作很负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4:36:58Z</dcterms:created>
  <dc:creator>ASUS</dc:creator>
  <dc:description/>
  <cp:keywords/>
  <dc:language>en-US</dc:language>
  <cp:lastModifiedBy>Windows 用户</cp:lastModifiedBy>
  <dcterms:modified xsi:type="dcterms:W3CDTF">2014-04-16T16:00:28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