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917-8045-4BDC-9345-D82AF4BA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BA0-7194-4A96-8C16-23817EC4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7CE-C445-43D1-87E6-1D8C2901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BBC-7AA0-4C21-BFE4-E1E7C0D4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8B6-C76F-4E34-968C-C0D1D36E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4ABD-47DB-46AF-A77C-7DAF68AC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457-06AE-4CC0-9AA4-49BD4762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36FA-60A7-413B-8F56-E9F774B8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BF9-48CC-406B-A665-D0CC4411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1C6D-BBF7-4EF0-A27E-6837AF8F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DF4-E3D5-483F-84D2-A35D1633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3383-0565-4403-A189-6164B844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D5DE-9DF9-4912-808F-0E3AD07D41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1844640"/>
            <a:ext cx="741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4922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第七单元复习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724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棠外附小：李春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一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二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课文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三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方正舒体"/>
              </a:rPr>
              <a:t>拓展延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 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在本单元中我们认识了小夜莺、雨来两位小英雄，你还知道战争中的哪些小英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小英雄雨来》《狼牙山五壮士》讲的都是同一个时期——抗日战争时期的故事，你还知道哪些这一时期的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1280" y="981000"/>
            <a:ext cx="54723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360" y="2708280"/>
            <a:ext cx="48974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分类复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19280" y="260280"/>
            <a:ext cx="151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Arial"/>
                <a:ea typeface="方正舒体"/>
              </a:rPr>
              <a:t>谢谢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冢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ǒ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窦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dòu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雉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chō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53276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羹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ɡē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03280" y="299736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战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192320"/>
            <a:ext cx="2881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十五从军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03440" y="1989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出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781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夜莺之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5760" y="3473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英雄雨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2210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狼牙山五壮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4941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螳螂捕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1557360"/>
            <a:ext cx="576360" cy="3959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十五从军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十五从军征，八十始得归。道逢乡里人，“家中有阿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遥看是君家，松柏  累累。”兔从狗  入， 从梁上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庭生旅谷，井上生旅葵。  谷持作饭，采葵持作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羹饭一时熟，不知贻阿谁。出门东向看，泪落沾我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56720" y="1341360"/>
            <a:ext cx="43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ē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149720"/>
            <a:ext cx="64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</a:rPr>
              <a:t>y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16240" y="27432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49800" y="27558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05520" y="27655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49800" y="3691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16680" y="36910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34680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抢答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课文中那句能说明从军时间很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老人回家看到怎样的情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哪句诗道出了老人无尽的悲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首诗描写了一位少年从征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5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后返回故里的情景，揭露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609300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609300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60720" y="90792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出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4720" y="1916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王昌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70828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秦时明月汉时关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8520" y="350028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万里长征人未还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422100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但使龙城飞将在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79680" y="494172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不教胡马度阴山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11640" y="1557000"/>
            <a:ext cx="439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方正舒体"/>
              </a:rPr>
              <a:t>边塞诗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19640" y="3068640"/>
            <a:ext cx="496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昌龄  高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岑参  王之涣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边塞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塞下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卢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凉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　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王之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黄河远上白云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一片孤城万仞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羌笛何须怨杨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春风不度玉门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边塞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凉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　　王之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葡萄美酒夜光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欲饮琵琶马上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醉卧沙场君莫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古来征战几人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60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从军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　　　王昌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青海长云暗雪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孤城遥望玉门关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黄沙百战穿金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不破楼兰终不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2000" y="609300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609300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3:47:09Z</dcterms:created>
  <dc:creator>微软用户</dc:creator>
  <dc:description/>
  <dc:language>en-US</dc:language>
  <cp:lastModifiedBy>tw</cp:lastModifiedBy>
  <dcterms:modified xsi:type="dcterms:W3CDTF">2009-12-29T04:02:20Z</dcterms:modified>
  <cp:revision>16</cp:revision>
  <dc:subject/>
  <dc:title>温故而知新</dc:title>
</cp:coreProperties>
</file>