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FF81-29F9-471F-810D-20CB765D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8016-AC06-43FA-AC55-617CC35F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41F4-E97B-48F6-82CA-EF9408FF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9BEE-D4EA-48A6-BBBE-16C647B66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8AF2-1489-4399-B118-D0FEA6C90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F149-D237-425F-86C2-91A71ED1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4E24-5018-410F-AB66-C20D8F2F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6A77-F153-474D-8395-FCF2C4BB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D3C3-D53C-4C7A-BEB3-10B646B2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C158-1B33-4D20-B087-BE6B98CC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3F65-CB90-45E8-A434-4BF2D8D1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DFE4-E520-4400-AE24-7625FEB1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2F77-ECE9-4496-82C0-E4D8DE28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5B42-84E8-4880-A409-37B0C301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A6A1-783B-451D-BE97-1EA8B686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269C-1E0C-4C41-9EAE-8DCA3E676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57DF-F9BD-45EF-9940-CC837A4D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9D60-D37B-4B2D-9C6C-485AF74C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B825-8261-4AFF-AA6F-08DD0990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E977-F8A6-4E7C-8215-831695BA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555F-BD4F-4B84-9E16-29207247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C355-A561-414A-97E6-D064D105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9C8B-0569-408A-9334-B6C4B494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E622-52BE-4D7E-A4FE-08872F76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69FF-23C7-4773-AA99-81729AD2D8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019A-1C64-46D0-BD26-EA18D64561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973440" y="981000"/>
            <a:ext cx="777708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d2fd7"/>
                </a:solidFill>
                <a:latin typeface="Arial"/>
                <a:ea typeface="汉仪太极体简"/>
              </a:rPr>
              <a:t>品</a:t>
            </a:r>
            <a:r>
              <a:rPr b="1" lang="zh-CN" sz="8000" spc="-1" strike="noStrike">
                <a:solidFill>
                  <a:srgbClr val="e40000"/>
                </a:solidFill>
                <a:latin typeface="Arial"/>
                <a:ea typeface="汉仪太极体简"/>
              </a:rPr>
              <a:t>故事</a:t>
            </a:r>
            <a:r>
              <a:rPr b="1" lang="zh-CN" sz="6600" spc="-1" strike="noStrike">
                <a:solidFill>
                  <a:srgbClr val="e40000"/>
                </a:solidFill>
                <a:latin typeface="Arial"/>
                <a:ea typeface="汉仪太极体简"/>
              </a:rPr>
              <a:t>  </a:t>
            </a:r>
            <a:endParaRPr b="0" lang="en-US" sz="6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085840" y="2997360"/>
            <a:ext cx="70581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d2fd7"/>
                </a:solidFill>
                <a:latin typeface="Arial"/>
                <a:ea typeface="汉仪太极体简"/>
              </a:rPr>
              <a:t>习</a:t>
            </a:r>
            <a:r>
              <a:rPr b="1" lang="zh-CN" sz="8000" spc="-1" strike="noStrike">
                <a:solidFill>
                  <a:srgbClr val="e40000"/>
                </a:solidFill>
                <a:latin typeface="Arial"/>
                <a:ea typeface="汉仪太极体简"/>
              </a:rPr>
              <a:t>标点</a:t>
            </a:r>
            <a:r>
              <a:rPr b="1" lang="zh-CN" sz="6600" spc="-1" strike="noStrike">
                <a:solidFill>
                  <a:srgbClr val="e40000"/>
                </a:solidFill>
                <a:latin typeface="Arial"/>
                <a:ea typeface="汉仪太极体简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理解省略号的用法，并选择正确的答案。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说话的断断续续。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列举的省略。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说话或思考的中断。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语意未尽，让人思索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是……太太……我不知道……你一定是认错了。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什么都有：稻鸡、角鸡、鹁鸪……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来如此……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她忐忑不安地想：“他会说什么呢？这是闹着玩的吗？自己的五个孩子已经够他受的了……是他来啦？……不，还没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…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什么把他们抱过来啊？……他会揍我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那也活该，我自作自受。” （   ）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7956720" y="2349360"/>
            <a:ext cx="288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A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5867280" y="2708280"/>
            <a:ext cx="289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B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132000" y="3141720"/>
            <a:ext cx="289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D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3635280" y="4581360"/>
            <a:ext cx="289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C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8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539280" y="1268280"/>
            <a:ext cx="842508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2fd7"/>
                </a:solidFill>
                <a:latin typeface="Arial"/>
                <a:ea typeface="隶书"/>
              </a:rPr>
              <a:t>山重水复疑无路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2fd7"/>
                </a:solidFill>
                <a:latin typeface="Arial"/>
                <a:ea typeface="隶书"/>
              </a:rPr>
              <a:t>柳暗花明又一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汉仪娃娃篆简"/>
              </a:rPr>
              <a:t>让我们来开开眼界吧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700"/>
                            </p:stCondLst>
                            <p:childTnLst>
                              <p:par>
                                <p:cTn id="50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3400"/>
                            </p:stCondLst>
                            <p:childTnLst>
                              <p:par>
                                <p:cTn id="51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有趣的标点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24000" y="1386000"/>
            <a:ext cx="8496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唐朝大诗人杜牧写过一首题为《清明》的绝句，原诗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清明时节雨纷纷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路上行人欲断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借问酒家何处有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牧童遥指杏花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这首脍炙人口的唐诗，有人只改动了一下标点符号，竟把它变成了一首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妙的小令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清明时节雨，纷纷路上行人。欲断魂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借问酒家何处？有牧童，遥指杏花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如果将标点符号再作改动，这首诗还可以变成一出精制的小短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〔时间：清明时节。〕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        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〔布景：雨纷纷。 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        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〔地点：路上。〕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行人：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欲断魂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)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借问酒家何处有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牧童：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遥指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)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杏花村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d2fd7"/>
                </a:solidFill>
                <a:latin typeface="Arial"/>
              </a:rPr>
              <a:t>由于标点符号的不同，一首诗竟发生了这么多变化，多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2fd7"/>
                </a:solidFill>
                <a:latin typeface="Arial"/>
              </a:rPr>
              <a:t>有趣呀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5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5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5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5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5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5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5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5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祝枝山的玩笑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明朝的祝枝山，有一次曾同人开过这样一个玩笑。新春佳节的时候，祝枝山路过一户富人家的门前，见到朱漆的大门上贴着一张红纸。他想了想，就叫人拿来笔墨，在上面写了十二个大字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40000"/>
                </a:solidFill>
                <a:latin typeface="Arial"/>
              </a:rPr>
              <a:t>今年真好晦气全无财帛进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那家主人出来一看，顿时脸色铁青。他想这不分明是触我的霉头吗？于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他要就动手打祝枝山。而祝枝山却对他笑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慌不忙地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明明写的是好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自己看不懂嘛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!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说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他就用笔点了几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那主人见了，不禁转怒为喜，连声称好。这是何故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今年真好晦气，全无财帛进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今年真好，晦气全无，财帛进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究竟谁是冠军？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一次，上海足球队对垒广州足球队。比赛后，一位记者便连夜赶写了一篇新闻报道，并且用了一个醒目的标题“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上海队大败广东队得了冠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。结果，有读者说是上海队胜了，有读者说是广东队胜了，你能为两方读者找出各自的理由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2fd7"/>
                </a:solidFill>
                <a:latin typeface="Arial"/>
              </a:rPr>
              <a:t>上海队是冠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上海队大败广东队，得了冠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2fd7"/>
                </a:solidFill>
                <a:latin typeface="Arial"/>
              </a:rPr>
              <a:t>广东队是冠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上海队大败，广东队得了冠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79280" y="2282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给句子加标点，使句子意思与括号中的要求相符。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5122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王红 李燕 参加 演出了 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（陈述二人都参加演出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王红、李燕参加演出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王红 李燕 参加 演出了 </a:t>
            </a:r>
            <a:r>
              <a:rPr b="1" lang="zh-CN" sz="2000" spc="-1" strike="noStrike">
                <a:solidFill>
                  <a:srgbClr val="0d2fd7"/>
                </a:solidFill>
                <a:latin typeface="Arial"/>
              </a:rPr>
              <a:t>（王红告诉别人，李燕参加演出了）</a:t>
            </a: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王红：“李燕参加演出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王红 李燕 参加 演出了 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（王红喊李燕参加演出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王红：“李燕，参加演出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王红 李燕 参加 演出了 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（李燕喊王红参加演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王红 ”，李燕：“参加演出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80"/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84250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2fd7"/>
                </a:solidFill>
                <a:latin typeface="Arial"/>
                <a:ea typeface="隶书"/>
              </a:rPr>
              <a:t>一鼓作气，再而衰，三而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汉仪娃娃篆简"/>
              </a:rPr>
              <a:t>让我们再来挑战一下吧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2200"/>
                            </p:stCondLst>
                            <p:childTnLst>
                              <p:par>
                                <p:cTn id="7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巧问妙答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0" y="1025280"/>
            <a:ext cx="8748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法国著名作家雨果完成了《悲惨世界》的手稿后，将其寄给了出版社，好久不闻讯息，于是，他给出版社写了一封信，内容只有一个标点符号“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。出版社很快回了信，内容也只有一个标点符号“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。不久，《悲惨世界》出版，轰动了整个欧洲文坛，而这“标点书信”的轶事也就流传至今，脍炙人口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雨果和出版社之间的“标点书信”妙就妙在别出心裁，巧用问号和感叹号的修辞功能来传递信息，“尽在不言中”，极其含蓄，耐人寻味。</a:t>
            </a:r>
            <a:r>
              <a:rPr b="1" lang="zh-CN" sz="3200" spc="-1" strike="noStrike">
                <a:solidFill>
                  <a:srgbClr val="0d2fd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试试你有做心理学家的潜质吗？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713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美国心理学家巴尔肯曾在一青年人的聚会上，叫与会者每人写一篇简短的自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个年轻人满脸沮丧地交给他一份自传，上面只有三个标点：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（———）（！）（。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年轻人凄然地解释，一阵横冲直撞，落个伤心自叹，到头来只有完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巴尔肯听了，不以为然，立即在这个自传上加了三个标点：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（、）（……）（？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非常有效地鼓励了这个自暴自弃的青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d2fd7"/>
                </a:solidFill>
                <a:latin typeface="Arial"/>
              </a:rPr>
              <a:t>这三个标点有何深意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青年时期是人生的一个小站，道路漫长，希望无边，岂不闻浪子回头金不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2" dur="80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3" dur="80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9" dur="80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0" dur="80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挑战自我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9629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近山西省作家胡文亮历时一年创作了一篇名为《。》的无字小说，目前他准备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元悬赏小说破译者。该小说共分五段，全文只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标点符号：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？ </a:t>
            </a:r>
            <a:br>
              <a:rPr sz="2800"/>
            </a:b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       ：！ </a:t>
            </a:r>
            <a:br>
              <a:rPr sz="2800"/>
            </a:b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       “ ‘……’ ” </a:t>
            </a:r>
            <a:br>
              <a:rPr sz="2800"/>
            </a:b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     （、）•《，》 </a:t>
            </a:r>
            <a:br>
              <a:rPr sz="2800"/>
            </a:b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       ；——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亲爱的同学，你能够得到这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14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万元的悬赏金吗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标点符号的种类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标点符号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，这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国家语委和新闻出版署重新颁布的《标点符号用法》的最新数字。包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句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问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叹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逗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顿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分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冒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引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“”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括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（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破折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省略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……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书名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《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2fd7"/>
                </a:solidFill>
                <a:latin typeface="Arial"/>
              </a:rPr>
              <a:t>连接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0d2fd7"/>
                </a:solidFill>
                <a:latin typeface="Arial"/>
              </a:rPr>
              <a:t>  间接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· </a:t>
            </a:r>
            <a:r>
              <a:rPr b="1" lang="zh-CN" sz="4000" spc="-1" strike="noStrike">
                <a:solidFill>
                  <a:srgbClr val="0d2fd7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d2fd7"/>
                </a:solidFill>
                <a:latin typeface="Arial"/>
              </a:rPr>
              <a:t>着重号 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d2fd7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d2fd7"/>
                </a:solidFill>
                <a:latin typeface="Arial"/>
              </a:rPr>
              <a:t>专名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_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424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2fd7"/>
                </a:solidFill>
                <a:latin typeface="Arial"/>
                <a:ea typeface="隶书"/>
              </a:rPr>
              <a:t>操千曲而后晓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2fd7"/>
                </a:solidFill>
                <a:latin typeface="Arial"/>
                <a:ea typeface="隶书"/>
              </a:rPr>
              <a:t>观千剑而后识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Arial"/>
                <a:ea typeface="汉仪娃娃篆简"/>
              </a:rPr>
              <a:t>让我们课后再接再厉吧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700"/>
                            </p:stCondLst>
                            <p:childTnLst>
                              <p:par>
                                <p:cTn id="76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3400"/>
                            </p:stCondLst>
                            <p:childTnLst>
                              <p:par>
                                <p:cTn id="7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  <a:ea typeface="经典空叠圆简"/>
              </a:rPr>
              <a:t>标点符号歌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692000" y="1197000"/>
            <a:ext cx="6048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标点符号很重要，组成文章不可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该用哪种小符号，都要认真来思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意思未完用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逗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一句完了用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句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喜怒哀乐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感叹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提出问题用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问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列词语用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顿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并列分句用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分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示下文用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冒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对话引用加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引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书文名称要标明，前后加上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书名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些意思要省掉，可以加个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省略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转折解释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破折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表示注释加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括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标点符号用准确，文章清楚都称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-360" y="1699920"/>
            <a:ext cx="87850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2fd7"/>
                </a:solidFill>
                <a:latin typeface="Arial"/>
                <a:ea typeface="隶书"/>
              </a:rPr>
              <a:t>纸上得来终觉浅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2fd7"/>
                </a:solidFill>
                <a:latin typeface="Arial"/>
                <a:ea typeface="隶书"/>
              </a:rPr>
              <a:t>绝知此事要躬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汉仪娃娃篆简"/>
              </a:rPr>
              <a:t>让我们练一练吧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700"/>
                            </p:stCondLst>
                            <p:childTnLst>
                              <p:par>
                                <p:cTn id="5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400"/>
                            </p:stCondLst>
                            <p:childTnLst>
                              <p:par>
                                <p:cTn id="6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你能准确给句子加标点吗？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79280" y="896400"/>
            <a:ext cx="8748720" cy="59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推开门一看   嗬   好大的雪啊    山川    树木    房屋   全部罩上了一层厚厚的雪    万里江山变成了粉妆玉砌的世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女教师走到小道格拉斯       一个皮肤棕黑色    又瘦又小   头发卷曲的孩子桌前   弯腰低头问他     能告诉我你画的是谁的手吗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没有了大人的训斥    牧师的教诲     法官的威严    老师的惩罚    有的是沙滩    草地    树林    鸟儿   松鼠    蝴蝶          他们无忧无虑    无拘无束   这里简直是一片乐土   净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妈妈和我去书店买书    她买了    读者    和     电脑报     我选了一本   格林童话选    和一本   阿里巴巴的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700360" y="1197000"/>
            <a:ext cx="889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7164360" y="4724280"/>
            <a:ext cx="88920" cy="1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5292720" y="4724280"/>
            <a:ext cx="88920" cy="1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2484360" y="4365720"/>
            <a:ext cx="889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932360" y="2924280"/>
            <a:ext cx="889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403280" y="2997360"/>
            <a:ext cx="889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7740720" y="2565360"/>
            <a:ext cx="88920" cy="1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716360" y="1557360"/>
            <a:ext cx="88920" cy="1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332000" y="6093000"/>
            <a:ext cx="889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140360" y="5734080"/>
            <a:ext cx="889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8675640" y="1197000"/>
            <a:ext cx="889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5435640" y="981000"/>
            <a:ext cx="73080" cy="3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3564000" y="5013360"/>
            <a:ext cx="144360" cy="2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348000" y="981000"/>
            <a:ext cx="71640" cy="3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924360" y="3213000"/>
            <a:ext cx="216000" cy="3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？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6588000" y="1125360"/>
            <a:ext cx="144720" cy="1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716360" y="4365720"/>
            <a:ext cx="144720" cy="1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780000" y="3860640"/>
            <a:ext cx="144360" cy="1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8244000" y="3933720"/>
            <a:ext cx="144360" cy="1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5940360" y="3860640"/>
            <a:ext cx="144360" cy="1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7667640" y="1125360"/>
            <a:ext cx="144360" cy="1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1116000" y="4797360"/>
            <a:ext cx="144360" cy="1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2411280" y="5229360"/>
            <a:ext cx="144720" cy="1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7885080" y="4365720"/>
            <a:ext cx="144360" cy="1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877080" y="4365720"/>
            <a:ext cx="144360" cy="1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5796000" y="4365720"/>
            <a:ext cx="144360" cy="1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276720" y="5950080"/>
            <a:ext cx="215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《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6804000" y="5950080"/>
            <a:ext cx="216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《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5580000" y="5516640"/>
            <a:ext cx="216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《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7596360" y="5589720"/>
            <a:ext cx="215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《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6659640" y="5516640"/>
            <a:ext cx="216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》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971640" y="5950080"/>
            <a:ext cx="215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》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692360" y="6381720"/>
            <a:ext cx="2156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》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5364000" y="5950080"/>
            <a:ext cx="216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》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1763640" y="2060640"/>
            <a:ext cx="144360" cy="14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。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2050920" y="6524640"/>
            <a:ext cx="144720" cy="14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。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2195640" y="4724280"/>
            <a:ext cx="720720" cy="71640"/>
          </a:xfrm>
          <a:prstGeom prst="rect">
            <a:avLst/>
          </a:prstGeom>
        </p:spPr>
        <p:txBody>
          <a:bodyPr wrap="none" lIns="90000" rIns="90000" tIns="25200" bIns="252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……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427640" y="2492280"/>
            <a:ext cx="64908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——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7308720" y="2924280"/>
            <a:ext cx="7164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：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7524720" y="2781360"/>
            <a:ext cx="22860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“</a:t>
            </a:r>
            <a:endParaRPr b="0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284720" y="3141720"/>
            <a:ext cx="22860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”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715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下列语句中标点有误的一项是：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洞的正中，用朱漆写着三个大字——“逍遥宫！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陆游，字务观，号放翁，山阴（今浙江绍兴）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可以肯定地告诉你，我国姓王的人接近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7380360" y="333360"/>
            <a:ext cx="79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A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730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下列语句中标点正确的一项是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前可能因为年龄小，不知道珍惜时间，现在我才体会到“一寸光阴一寸金，寸金难买寸光阴。”这句话的真正含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当疼痛发作，他就采用自己的“压迫止痛法”——用茶壶盖、烟嘴、玻璃球、牙刷把……顶住疼痛的部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.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真不是和你说着玩儿。”洪民一本正经地说，“如果你能出山，咱们一起想办法，这事准能完成”。 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7380360" y="476280"/>
            <a:ext cx="79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B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理解引号的用法，并选择正确的答案。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直接引用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说的话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特定含义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否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万众一心，冒着敌人的炮火，前进！…… 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雄壮的歌声在蓝天回荡。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像这种“聪明人”是让人瞧不起的。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真是太“好”了，连这种事都能做出来。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沈老师说过：“我不相信一个文盲能成为社会的栋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!”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5076720" y="3068640"/>
            <a:ext cx="4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A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2050920" y="5084640"/>
            <a:ext cx="43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B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7885080" y="4149720"/>
            <a:ext cx="4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D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6877080" y="3645000"/>
            <a:ext cx="43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C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理解破折号号的用法，并选择正确的答案。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解释说明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语意转折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语意的递进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语音的中止、停顿或延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嘟——”一声汽笛长鸣，客轮离开了南京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今天真冷——你怎么来了？”李主任猛一抬头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就是我——一个少先队员的回答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我深深地知道——人的身躯怎能从狗洞里爬出来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8028000" y="2997360"/>
            <a:ext cx="43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D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1692360" y="5373720"/>
            <a:ext cx="43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C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971640" y="3933720"/>
            <a:ext cx="431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B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6948360" y="4437000"/>
            <a:ext cx="43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A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18Z</dcterms:created>
  <dc:creator>风之客</dc:creator>
  <dc:description/>
  <dc:language>en-US</dc:language>
  <cp:lastModifiedBy>风之客</cp:lastModifiedBy>
  <dcterms:modified xsi:type="dcterms:W3CDTF">2008-04-02T07:59:45Z</dcterms:modified>
  <cp:revision>33</cp:revision>
  <dc:subject/>
  <dc:title>标点符号</dc:title>
</cp:coreProperties>
</file>