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4047-A5EB-4C6C-BEF2-631F91F4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05F-9A46-4DC2-B05F-ACE9B122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EE65-7DB7-49F7-AF5F-D3B11B6F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C087-E37D-4E56-B833-07B8017B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A51C-C582-487B-9C9A-138C1466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6817-393B-4536-ABCB-50181D5C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E9A6-E010-47D1-84BF-31AEBF6F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DEC1-6D3F-4B09-9E90-65EDFE80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FB41-6723-43B0-9452-067566BB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D283-AFE5-43B5-BCE3-43920540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1408-33E9-4D07-94D0-5DEC01C1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27F9-5886-4AA1-87B8-477E416D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9B0E-68D8-498B-B7B9-F0929C15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26A1-E5EA-410C-A0F3-DA11B2FB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77CD-F417-45EC-B0DC-C194E42B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293E-A322-4819-ADDF-B98B68A3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3F37-4F1D-4952-944A-C23F44E1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C9AA-DDFF-43F3-9CE8-36044353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5FDC-BB83-43B6-96F3-39881DC6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2B4-462D-48E1-B44F-8387CDF8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FB46-4944-42B2-9A00-FFB7A344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E9F-24CF-4DD4-B66F-6EA1A288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518-5B65-4EF4-BA60-CA896077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8C7D-F313-4677-91DA-C207CC64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758B-4205-4C1B-9623-7978329747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A061-ACAE-49E5-B49C-69A92929BC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古诗文复习题精选（一）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用线将诗题、诗句、作者连起来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春晓》         杜甫           两个黄鹂鸣翠柳，一行白鹭上青天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回乡偶书》  杜牧          孤舟蓑笠翁，独钓寒江雪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小池》        柳宗元        满园春色关不住，一枝红杏出墙来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草》            孟浩然        青箬笠，绿蓑衣，斜风细雨不须归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山行》         贺知章        竹外桃花三两枝，春江水暖鸭先知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绝句》         杨万里        夜来风雨声，花落知多少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江雪》         白居易        少小离家老大回，乡音无改鬓毛衰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游园不值》  苏轼           小荷才露尖尖角，早有蜻蜓立上头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渔歌子》      叶绍翁       野火烧不尽，春风吹又生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惠崇春江晚景》张志和   停车坐爱枫林晚，霜叶红于二月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609120" y="1267920"/>
            <a:ext cx="815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历代诗人赞美祖国壮丽山河的诗作很多，如李白在《望天门山》中写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天门中断楚江开，碧水东流至此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。登楼远眺，视野更为开阔，你会想到王之涣在《 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登鹳雀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》中的诗句：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欲穷千里目，更上一层楼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坐在顺水疾驶的船中，两岸景色一晃而过，不由令人想起李白在《早发白帝城》中的诗句：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两岸猿声啼不住，轻舟已过万重山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、默写描绘春、夏、秋、冬四季的诗各一首。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春天  </a:t>
            </a:r>
            <a:r>
              <a:rPr b="0" lang="zh-CN" sz="2400" spc="-1" strike="noStrike">
                <a:solidFill>
                  <a:srgbClr val="0066cc"/>
                </a:solidFill>
                <a:latin typeface="Arial"/>
              </a:rPr>
              <a:t>《春晓 》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春眠不觉晓，处处闻啼鸟。夜来风雨声，花落知多少？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夏天</a:t>
            </a:r>
            <a:r>
              <a:rPr b="0" lang="zh-CN" sz="2400" spc="-1" strike="noStrike">
                <a:solidFill>
                  <a:srgbClr val="0066cc"/>
                </a:solidFill>
                <a:latin typeface="Arial"/>
              </a:rPr>
              <a:t>《晓出净慈寺送林子方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毕竟西湖六月中，风光不与四时同。接天莲叶无穷碧，映日荷花别样红 。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秋天</a:t>
            </a:r>
            <a:r>
              <a:rPr b="0" lang="zh-CN" sz="2400" spc="-1" strike="noStrike">
                <a:solidFill>
                  <a:srgbClr val="0066cc"/>
                </a:solidFill>
                <a:latin typeface="Arial"/>
              </a:rPr>
              <a:t>《 望洞庭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湖光秋月两相和， 潭面无风镜未磨。 </a:t>
            </a:r>
            <a:br>
              <a:rPr sz="2400"/>
            </a:b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遥望洞庭山水翠， 白银盘里一青螺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              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冬天 </a:t>
            </a:r>
            <a:r>
              <a:rPr b="0" lang="zh-CN" sz="2400" spc="-1" strike="noStrike">
                <a:solidFill>
                  <a:srgbClr val="0066cc"/>
                </a:solidFill>
                <a:latin typeface="Arial"/>
              </a:rPr>
              <a:t>《江雪》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：千山鸟飞绝，万径人踪灭。孤舟蓑笠翁，独钓寒江雪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、按要求默写古诗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360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赞美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</a:rPr>
              <a:t>黄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雄伟气势的诗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浪淘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唐  刘禹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九曲黄河万里沙，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浪淘风簸自天涯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如今直上银河去，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同到牵牛织女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赞美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</a:rPr>
              <a:t>庐山瀑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诗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望庐山瀑布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唐 李白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日照香炉生紫烟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遥看瀑布挂前川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飞流直下三千尺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疑是银河落九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赞美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</a:rPr>
              <a:t>春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诗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春夜喜雨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 唐 杜甫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好雨知时节，当春乃发生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随风潜入夜，润物细无声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野径云俱黑，江船火独明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晓看红湿处，花重锦官城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932360" y="1773360"/>
            <a:ext cx="367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赞美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</a:rPr>
              <a:t>柳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诗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咏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唐 贺知章 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碧玉妆成一树高，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万条垂下绿丝绦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不知细叶谁裁出，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二月春风似剪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赞美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</a:rPr>
              <a:t>小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诗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赋得古原草送别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      唐 白居易 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离离原上草，一岁一枯荣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野火烧不尽，春风吹又生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远芳侵古道，晴翠接荒城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又送王孙去，萋萋满别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《墨梅》、《竹石》、《石灰吟》三首古诗的共同特点是：看起来写的是物，实际上是在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喻人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其中“梅”具有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洁身自好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点，“竹”具有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坚韧不拔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点。你还知道类似的诗吗？请写一首 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离离原上草，一岁一枯荣。 野火烧不尽，春风吹又生。 远芳侵古道，晴翠接荒城。 又送王孙去，萋萋满别情。  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当我们浪费粮食时，妈妈常用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谁知盘中餐，粒粒皆辛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句诗来教导我们，你能写出另一首《悯农》吗？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悯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春种一粒粟，秋成万颗子。四海无闲田，农夫犹饿死。                        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              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李清照是我国宋代著名女词人，她写了一首赞颂项羽，抒发爱国情怀的诗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夏日绝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。诗句是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生当作人杰， 死亦为鬼雄。 至今思项羽， 不肯过江东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当我们回忆起母爱，要报答母亲的深思时，我们会很自然地吟诵起唐代诗人孟郊的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游子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》中的诗句 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慈母手中线，游子身上衣。 临行密密缝，意恐迟迟归。 谁言寸草心，报得三春晖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最后用了一个反问句，用比喻的手法写出了儿子对母亲的深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当我们在外地过年时，常常引用唐代诗人王维在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《 九月九日忆山东兄弟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的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独在异乡为异客，每逢佳节倍思亲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来表达对家乡亲人的思念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离家在外的游子对着一轮明月思乡思亲，这样的诗有：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静夜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》中的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举头望明月，低头思故乡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出塞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中的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秦时明月汉时关，万里长征人未还。《泊船瓜州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的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：春风又绿江南岸，明月何时照我还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写旅途中忧愁满腹难以入眠的诗有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枫桥夜泊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中的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月落乌啼霜满天，江枫渔火对愁眠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三国时期魏国诗人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曹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在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七步诗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》写到：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本自同根生，相煎何太急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表达了诗人对骨肉相残、同根相煎的悲愤之情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陆游是南宋爱国诗人，诗人的绝笔是《示儿》 ，这首诗表达了 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诗人强烈的爱国情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。你还能写出其他的爱国诗吗？诗名是《 </a:t>
            </a: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秋夜将晓，出篱门迎凉有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，诗句是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三万里河东入海，五千仞岳上摩天。 遗民泪尽胡尘里，南望王师又一年 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唐代诗人李白和杜甫，被中国文坛合称为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李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其中，李白被称为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诗仙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杜甫被称为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诗圣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杜甫生平第一快诗是《 闻官军收河南河北 》，抒发了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诗人强烈的爱国情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。我们还学过杜甫写景的诗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春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和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春夜喜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》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赠别诗在我国古诗占重要地位，许多著名诗人都有优秀作品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李白的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赠汪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写到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桃花潭水深千尺，不及汪伦送我情。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           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维的《 </a:t>
            </a: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送元二使安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》写到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劝君更尽一杯酒，西出阳关无故人。 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适的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别董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到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莫愁前路无知己，天下谁人不识君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昌龄的《</a:t>
            </a: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芙蓉楼送辛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》写到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洛阳亲友如相问，一片冰心在玉壶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我们还学过描写边塞军旅生活的古诗有王昌龄的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 出塞 》秦时明月汉时关，万里长征人未还。但使龙城飞将在，不教胡马度阴山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之涣的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凉州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》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黄河远上白云间，一片孤城万仞山。 羌笛何须怨杨柳，春风不度玉门关。 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“行”是古代诗歌的一种形式，除了《古朗月行》，我们还学过选自“汉乐府”中的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长歌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其中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少壮不努力，老大徒伤悲 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句含有很深的哲理，劝导人们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珍惜时间，有所作为。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我们曾学过北朝民歌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敕勒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敕勒川，阴山下。 天似穹庐，笼盖四野。 天苍苍，野茫茫， 风吹草低见牛羊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绘了一幅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田园牧歌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草原图画。                     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“词”是一种可以配乐歌唱的文体，有不同的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词牌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你知道的词牌名有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《卜算子》、《渔歌子》、《如梦令》、《菩萨蛮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。请默写毛泽东的一首词：词名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卜算子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咏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  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有时候，我们对自己所处的环境，正在做的事反而不及旁人清楚，这就是“当局者迷，旁观者清。”宋代诗人苏轼的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题西林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中的诗句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横看成岭侧成峰， 远近高低各不同。 不识庐山真面目， 只缘身在此山中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说明了这个问题 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609120" y="1052640"/>
            <a:ext cx="815364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回忆《泊船瓜洲》，并用最简练的语言回答下列问题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作者是在什么时间，什么地点写的这首诗？请说出理由。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春天，京口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你认为这首诗中的哪个字最精彩？请说明理由。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绿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给加点的字注音并解释意思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度其足：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自己量自己脚的尺寸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忘持其度 ：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忘记拿自己量好的尺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2:04:00Z</dcterms:created>
  <dc:creator>MC SYSTEM</dc:creator>
  <dc:description/>
  <dc:language>en-US</dc:language>
  <cp:lastModifiedBy>MC SYSTEM</cp:lastModifiedBy>
  <dcterms:modified xsi:type="dcterms:W3CDTF">2005-06-29T03:29:26Z</dcterms:modified>
  <cp:revision>6</cp:revision>
  <dc:subject/>
  <dc:title>古诗文复习题精选（一）  </dc:title>
</cp:coreProperties>
</file>