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B96-B115-4F59-890A-DD0A7DA4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447-5005-4956-A849-E8C4F6B6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0EA-00DE-41CD-A877-E2D7123C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84F-C16A-4F69-88D6-F33AB354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CC1-EDAF-4180-8AAD-4B977BA1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460-EBA5-40C4-BAD0-225C2DCE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C23-7CE9-45DF-AAF8-26E3A97D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954-54FB-4BCF-904C-AED33545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2A9-3B82-4A63-9A1A-1DCE5A45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847-0C2E-48B1-8D82-CAD68FB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9068-EA4D-4067-8854-93144DC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57D-7C5B-48C1-9595-88EF3005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9436-BF62-4B3A-9318-83737F4E5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0" y="981000"/>
            <a:ext cx="889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qingting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651640" y="1268280"/>
            <a:ext cx="3492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  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宋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泉眼无声惜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树荫照水爱晴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有蜻蜓立上头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zhiyuan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youyuan.jpg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jiangshui.jpg"/>
          <p:cNvPicPr/>
          <p:nvPr/>
        </p:nvPicPr>
        <p:blipFill>
          <a:blip r:embed="rId3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xue.jpg"/>
          <p:cNvPicPr/>
          <p:nvPr/>
        </p:nvPicPr>
        <p:blipFill>
          <a:blip r:embed="rId4"/>
          <a:stretch/>
        </p:blipFill>
        <p:spPr>
          <a:xfrm>
            <a:off x="4643280" y="3222720"/>
            <a:ext cx="450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2920" y="270828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古 诗 大 荟 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0" y="765000"/>
            <a:ext cx="83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隶书"/>
                <a:ea typeface="隶书"/>
              </a:rPr>
              <a:t>第一组：分别写出描写“春”、“夏”、“秋”、“冬”和“反映儿童情趣”的一句诗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220500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组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用一句诗来赞美下面的名山、名水、名城、名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 flipH="1">
            <a:off x="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三组：分别写出送别和爱国的诗句各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0" y="49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组：用“日、月、雨、鸟、草”分别写出一句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3280" y="2708280"/>
            <a:ext cx="45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    </a:t>
            </a: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妙  语  连  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梅，独自傲立于风雪中的顽强精神，自古以来就倍受人们的称赞。请你说出一句古人赞颂梅的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时候，有的人对自己所处的环境、正在做的事，反而不及旁人清楚，这就是“当局者迷，旁观者清。”宋代诗人苏轼用了一句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们赞美小草，赞美它具有顽强的生命力，他们常常引用白居易的哪一句诗呢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小明是个顽皮的孩子，六年级的学生还不知道学习的重要性，成天心思不在学习上，请你用学过的诗句劝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六年的同学即将分别，你想送哪句诗来表达对远别好友的深情厚谊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昨天下午，张老师布置了一道数学思考题。晚上我绞尽脑汁，百思不得其解。就在我“（        ）”时，爸爸走过来，助我一臂之力，经他一点拨，我豁然开朗，真是“（        ）”。于是我很快解开了这道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８：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９：＿＿＿＿＿＿＿＿＿＿＿＿＿＿＿＿＿＿＿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58551_130200712193f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标题 1"/>
          <p:cNvSpPr/>
          <p:nvPr/>
        </p:nvSpPr>
        <p:spPr>
          <a:xfrm>
            <a:off x="-828720" y="54936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）课下实践：任选一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0" y="1123920"/>
            <a:ext cx="8991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256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回家尝试把你原来的作文，恰当引用诗句，你一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发现，别有一番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选一首古诗，创编成一个新意的故事，你一定会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古诗也挺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唱一唱，你会发现这也是一种识记古诗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4000" y="333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3068640"/>
            <a:ext cx="93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之涣：白日依山尽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日照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朝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岸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村居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鼎：草长莺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68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吟一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董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元二使安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836640"/>
            <a:ext cx="100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0" y="333360"/>
            <a:ext cx="8451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雨知时节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光潋滟晴方好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角数枝梅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师北定中原日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0" y="2997360"/>
            <a:ext cx="8893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看成岭侧成峰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问酒家何处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色满园关不住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⑽——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5" descr=""/>
          <p:cNvPicPr/>
          <p:nvPr/>
        </p:nvPicPr>
        <p:blipFill>
          <a:blip r:embed="rId1"/>
          <a:stretch/>
        </p:blipFill>
        <p:spPr>
          <a:xfrm>
            <a:off x="-177840" y="-136440"/>
            <a:ext cx="932184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0600" y="2492280"/>
            <a:ext cx="88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诗可以兴，可以观，可以群，可以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隶书"/>
                <a:ea typeface="隶书"/>
              </a:rPr>
              <a:t>                        ——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2781360"/>
            <a:ext cx="67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微软简隶书"/>
              </a:rPr>
              <a:t>诗中有画，画中有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春江花月夜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mei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012000" y="981000"/>
            <a:ext cx="3357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墨梅图题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元 王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吾家洗砚池头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个花开淡墨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要人夸好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留清气满乾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jingyesi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24360" y="83664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床前明月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614920" y="692280"/>
            <a:ext cx="35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5" descr="pubu.jpg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940360" y="404640"/>
            <a:ext cx="2916360" cy="13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咏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碧玉妆成一树高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万条垂下绿丝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知细叶谁裁出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月春风似剪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7:06:34Z</dcterms:created>
  <dc:creator>微软用户</dc:creator>
  <dc:description/>
  <dc:language>en-US</dc:language>
  <cp:lastModifiedBy>tw</cp:lastModifiedBy>
  <dcterms:modified xsi:type="dcterms:W3CDTF">2011-04-28T01:18:06Z</dcterms:modified>
  <cp:revision>95</cp:revision>
  <dc:subject/>
  <dc:title>幻灯片 1</dc:title>
</cp:coreProperties>
</file>