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53B-C502-4EC9-A95F-E7D56FB2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C96-9904-4ADE-BD5B-B0252E19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D17-508F-4AD4-9EC6-1042B6DB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593-1722-4D9D-9936-D0DF43A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DA4-9764-458F-A84C-8651D849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31A-7578-441B-8CA4-822CDE5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179D-51FE-4DC2-9210-1944CEB3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9E6-320E-4B81-9894-7719F01D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86E-C60A-4945-B536-522DF59B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46E-FC93-47EE-9172-6EB885E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9F6-7516-4503-9E6D-0C241B3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323-E2B2-406E-B5EE-C9EE33E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B65-125E-4EEB-850D-414729A57C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80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Calibri"/>
              </a:rPr>
              <a:t>小四习作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矩形 17" descr=""/>
          <p:cNvPicPr/>
          <p:nvPr/>
        </p:nvPicPr>
        <p:blipFill>
          <a:blip r:embed="rId2"/>
          <a:stretch/>
        </p:blipFill>
        <p:spPr>
          <a:xfrm>
            <a:off x="0" y="2584440"/>
            <a:ext cx="8778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25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什么叫人物的外貌描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Arial"/>
              </a:rPr>
              <a:t>外貌描写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是指对人物的</a:t>
            </a:r>
            <a:r>
              <a:rPr b="1" lang="zh-CN" sz="5400" spc="-1" strike="noStrike">
                <a:solidFill>
                  <a:srgbClr val="604a7b"/>
                </a:solidFill>
                <a:latin typeface="Calibri"/>
                <a:ea typeface="Arial"/>
              </a:rPr>
              <a:t>身材、衣着、容貌打扮等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进行的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250488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下面两个文段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长的很好看，衣着朴素。“我叫李华，请多关照。”简单的开场白后，她被分到我的旁边，以后我们成了同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中等个儿，梳着两根羊辫，黑里透红的脸上，有一对明亮的眼睛。穿着一身洗的褪了色的学生装，裤子的膝盖处还缀着两个像眼睛一样的补丁。“我叫李华，请多关照。”简单的开场白后，她被分到我的旁边，以后我们成了同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0" y="222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补充例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乍一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个子挺高的，身材很好，不胖也不瘦，是块跳舞的料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细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留着齐耳短发，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上总是一左一右地夹着两只发夹，把头发紧紧地拢在耳朵后面，显出一张光滑白净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庞。她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眼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不大，细细长长的，但是很有神采，一笑就变成了两条缝。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鼻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微微上翘，给人一种俏皮的感觉，显得十分可爱。她平时最喜欢穿的是一条蓝底白花的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连衣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裙摆又宽又大。她一跑动起来，裙子就像一只花蝴蝶一样飞起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16772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猜猜他们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只见他黑脸短毛，长嘴大耳，圆身肥肚，穿一件青不青、蓝不蓝的梭布衣服，系一条花布手巾，提一柄九齿钉耙。（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他有三头六臂，脖子上套着乾坤圈，脚踏风火轮，威风八面。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他身穿金光闪闪的战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头戴金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手持从东海龙宫掠来的金箍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显出一副威武霸气的样子。一对火眼金睛炯炯有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透露出铲除一切妖魔的决心。浑身透露出一种天不怕、地不怕的精神。（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1949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 猜猜她们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金豆才七岁，头发披散着，垂到脖子边，见人就羞得把头低下去，或者跑开了又悄悄地望着人，或者等你不知不觉时猛然叫一声来吓唬你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她大概叫琅琅，一头柔软的卷发，凸额头、塌鼻梁，穿一件红底白点小罩衣，总是不声不响，像个静默的小哲学家似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女儿长得像她娘，眼睛长得尤其像。白眼珠鸭蛋清，黑眼珠棋子黑，定神时如清水，闪动时像星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41:11Z</dcterms:created>
  <dc:creator>Administrator</dc:creator>
  <dc:description/>
  <dc:language>en-US</dc:language>
  <cp:lastModifiedBy>微软用户</cp:lastModifiedBy>
  <dcterms:modified xsi:type="dcterms:W3CDTF">2013-11-09T12:51:36Z</dcterms:modified>
  <cp:revision>21</cp:revision>
  <dc:subject/>
  <dc:title>小四习作练习 人物外貌描写</dc:title>
</cp:coreProperties>
</file>