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3D7-D00E-42DA-A7CB-8FE89A67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DEA-C3B5-4CC2-8DEE-857B3D1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AC1-A1B3-421E-9CA6-CD388585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31DF-611C-4388-9D20-DA9C140E0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14E-4F69-4D34-862A-01F2CB7E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0634-6C1F-4A44-8F38-40D11B7B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9CA-4C8C-455D-9577-23F0FF0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3B5-FE1B-4DBB-9B2B-5E22325A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01F-26E7-4261-A6A9-DBB76FEE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CF9-3453-42A5-A989-8548688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F14-F481-4FF8-B6F2-67E6D5D1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534-A677-4A97-BDFE-46E4BAC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7313-C42A-49F6-8190-596010BD2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30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流县九江小学      刘昕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356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点亮人生的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名言警句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220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到邱少云、董存瑞、黄继光这几个名字，我脑海中就会浮现这样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0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教室，我看到墙上有这句名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294920"/>
            <a:ext cx="648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温馨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孩子们先圈出情境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合适的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468080"/>
            <a:ext cx="62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困难，有的人退缩不前，我会用这样的话激励他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告诉我们做人要讲诚信，让我想到了这句话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语重心长地告诉我，学习应该做到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爸爸教育我要珍惜时间时经常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948320"/>
            <a:ext cx="5977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选择自己喜欢的名言，创设一个情境，注意抓住名言中的关键词来创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628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命题作文：一件（      ）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题作文：尊敬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08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话题作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六年的学习已经看了不少的书籍，请自拟题目写写读书的经历，或自己最喜欢的一本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29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名言，就是指为人类发展做出贡献的，富有知识的名人所说的一句较为出名的话。这句话向人们揭示一定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76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什么是名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092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轮流说名言，一组说一句，内容不定，不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计分，每组一轮记一分，如此循环，未说出名言则不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3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接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对对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619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男女生为单位，女生说出名言上句，男生接下句，以此交换互考对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习作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49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境中巧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习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男儿之志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男儿之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勤俭节约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40:39Z</dcterms:created>
  <dc:creator>admin</dc:creator>
  <dc:description/>
  <dc:language>en-US</dc:language>
  <cp:lastModifiedBy>Windows 用户</cp:lastModifiedBy>
  <dcterms:modified xsi:type="dcterms:W3CDTF">2014-04-17T00:00:06Z</dcterms:modified>
  <cp:revision>87</cp:revision>
  <dc:subject/>
  <dc:title>幻灯片 1</dc:title>
</cp:coreProperties>
</file>